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F37F-AB48-47F4-813D-D2A0D9383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2699-0FC0-4616-B08C-C12402B78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E032-0A2E-4131-8181-54F9F50E6D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0FDD-C32E-4372-8FFA-E9BF7803A2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74F9-48B7-4BF9-93E9-1944BF5BC3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7440-6C75-4B14-B3DB-29023A8E9E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6C05-02D4-4E73-B087-C719250C1C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F8CF-B6BD-43DB-A165-D9E65E1DD4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F353-E143-42BB-BBD5-58AB5F50E8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A11C-944F-4A7C-B86C-FB791855E4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983A-BD7B-4C89-8E99-3BA4BA4EB7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384E-0B2C-428E-A06D-21AC9B00FB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904C-2DC2-47BC-92D1-2D1F99483F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D239-6B9D-4A84-86D5-DE402D72BC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5882-2E5C-4134-9DBD-1B4ACF11FFD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F38C-6BFD-47A0-A6C3-E8B9CFBA8637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7-3: Arrays as Parameters; File Outpu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7.1, 4.3, 3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Ch. 7 #19-2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Ch. 7 #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param/return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our previous Sections program to use static methods that use arrays as parameters and retur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9, 6, 7, 4, 3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20, 18, 20, 12, 9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100.0, 90.0, 100.0, 60.0, 45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6, 7, 5, 6, 4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8, 20, 15, 18, 1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90.0, 100.0, 75.0, 90.0, 6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5, 6, 5, 7, 6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5, 18, 15, 20, 18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75.0, 90.0, 75.0, 100.0, 9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param/return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attended = countAttended(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computePoints(attended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ults(attended, points, grade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results(int[] attended, int[] points, double[] grade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attended: " + Arrays.toString(attended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scores: " + Arrays.toString(point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grades: " + Arrays.toString(grade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param/return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unts the sections attended by each student for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int[] countAttended(String line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attended = new int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 c = line.charAt(i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 == '1'  or  c == '0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 == '1'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tudent attended their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ttended[i % 5]++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attended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int[] computePoints(int[] attended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attended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s[i] = Math.min(20, 3 * attended[i]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File outpu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6.4 - 6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put to fi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ackage that lets you print output to a destination such as a f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methods you have used 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will work o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PrintStream(new File("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output = new PrintStream(new File("out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.println("Hello, file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.println("This is a second line of outpu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tails about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PrintStream(new File("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given file does not exist, it is crea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given file already exists, it is overwritt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utput you print appears in a file, not on the conso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will have to open the file with an editor to se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not open the same file for both reading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and writing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at the same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will overwrite your input file with an empty file (0 byte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ourier New"/>
              </a:rPr>
              <a:t>System.out</a:t>
            </a: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 and </a:t>
            </a:r>
            <a:r>
              <a:rPr b="0" lang="en-US" sz="40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nsole output object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Stream out1 = System.ou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out2 = new PrintStream(new File("data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1.println("Hello, console!"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oes to conso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2.println("Hello, file!"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// goes to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ference to it can be stored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ing to that variable causes console output to appe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p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s a parameter to a method expecting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ws methods that can send output to the console or a f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our previous Sections program to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output to the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tions_out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#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9, 6, 7, 4, 3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20, 18, 20, 12, 9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100.0, 90.0, 100.0, 60.0, 45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#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6, 7, 5, 6, 4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8, 20, 15, 18, 1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90.0, 100.0, 75.0, 90.0, 6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#3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5, 6, 5, 7, 6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5, 18, 15, 20, 18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75.0, 90.0, 75.0, 100.0, 9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ection attendance pr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version uses a PrintStream for outpu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Stream out = new PrintStream(new File("sections_out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attended = countAttended(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computePoints(attended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ults(attended, points, grade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o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results(int[] attended, int[] points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intStream o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.printl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"Sections attended: " + Arrays.toString(attended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.printl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"Sections scores: " + Arrays.toString(point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.printl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"Sections grades: " + Arrays.toString(grade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.printl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mpting for a file nam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an ask the user to tell us the file to re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ile name might have spaces;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Line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 for input file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"Type a file name to use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filename = console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f the user types a file name that does not exis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ction attendance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a data file of section attendance and produces the following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9, 6, 7, 4, 3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20, 18, 20, 12, 9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100.0, 90.0, 100.0, 60.0, 45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6, 7, 5, 6, 4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8, 20, 15, 18, 1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90.0, 100.0, 75.0, 90.0, 6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5, 6, 5, 7, 6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5, 18, 15, 20, 18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75.0, 90.0, 75.0, 100.0, 9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ents earn 3 points for each section attended up to 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xing file-not-found issu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s hav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we can us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a file name to use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filename = console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file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!file.exists()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ry a second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ry again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filename = console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= new File(file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file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pen the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file name to use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hourz.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again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hours.t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ction input fi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nput file contains section attendance dat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11101011111101001110110110110001110010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011111010100110101110101010101110101101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01010110110110111101101010110101110110101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line represents a section (5 students, 9 week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means the student attended; 0 no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Group 21"/>
          <p:cNvGrpSpPr/>
          <p:nvPr/>
        </p:nvGrpSpPr>
        <p:grpSpPr>
          <a:xfrm>
            <a:off x="152280" y="1936800"/>
            <a:ext cx="8763120" cy="2990880"/>
            <a:chOff x="152280" y="1936800"/>
            <a:chExt cx="8763120" cy="2990880"/>
          </a:xfrm>
        </p:grpSpPr>
        <p:sp>
          <p:nvSpPr>
            <p:cNvPr id="120" name="Text Box 6"/>
            <p:cNvSpPr/>
            <p:nvPr/>
          </p:nvSpPr>
          <p:spPr>
            <a:xfrm>
              <a:off x="152280" y="3232080"/>
              <a:ext cx="8763120" cy="169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week1 week2 week3 week4 week5 week6 week7 week8 week9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11111 11010 11111 10100 11101 10110 11000 11100 101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week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student1 student2 student3 student4 student5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1        1        0        1        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1" name="Group 19"/>
            <p:cNvGrpSpPr/>
            <p:nvPr/>
          </p:nvGrpSpPr>
          <p:grpSpPr>
            <a:xfrm>
              <a:off x="885600" y="1936800"/>
              <a:ext cx="7419960" cy="1295280"/>
              <a:chOff x="885600" y="1936800"/>
              <a:chExt cx="7419960" cy="1295280"/>
            </a:xfrm>
          </p:grpSpPr>
          <p:sp>
            <p:nvSpPr>
              <p:cNvPr id="122" name="Line 7"/>
              <p:cNvSpPr/>
              <p:nvPr/>
            </p:nvSpPr>
            <p:spPr>
              <a:xfrm flipH="1">
                <a:off x="990000" y="22417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7467480" y="2241720"/>
                <a:ext cx="838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Line 9"/>
              <p:cNvSpPr/>
              <p:nvPr/>
            </p:nvSpPr>
            <p:spPr>
              <a:xfrm>
                <a:off x="4343400" y="2241720"/>
                <a:ext cx="3045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10"/>
              <p:cNvSpPr/>
              <p:nvPr/>
            </p:nvSpPr>
            <p:spPr>
              <a:xfrm>
                <a:off x="885600" y="1936800"/>
                <a:ext cx="6991560" cy="331920"/>
              </a:xfrm>
              <a:prstGeom prst="rect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6" name="Group 11"/>
            <p:cNvGrpSpPr/>
            <p:nvPr/>
          </p:nvGrpSpPr>
          <p:grpSpPr>
            <a:xfrm>
              <a:off x="1369800" y="3460680"/>
              <a:ext cx="5106600" cy="905760"/>
              <a:chOff x="1369800" y="3460680"/>
              <a:chExt cx="5106600" cy="905760"/>
            </a:xfrm>
          </p:grpSpPr>
          <p:sp>
            <p:nvSpPr>
              <p:cNvPr id="127" name="Line 12"/>
              <p:cNvSpPr/>
              <p:nvPr/>
            </p:nvSpPr>
            <p:spPr>
              <a:xfrm flipH="1">
                <a:off x="1369800" y="3758040"/>
                <a:ext cx="151920" cy="60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Line 13"/>
              <p:cNvSpPr/>
              <p:nvPr/>
            </p:nvSpPr>
            <p:spPr>
              <a:xfrm>
                <a:off x="1980000" y="3764520"/>
                <a:ext cx="1753200" cy="60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Line 14"/>
              <p:cNvSpPr/>
              <p:nvPr/>
            </p:nvSpPr>
            <p:spPr>
              <a:xfrm>
                <a:off x="2285280" y="3758040"/>
                <a:ext cx="4191120" cy="60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15"/>
              <p:cNvSpPr/>
              <p:nvPr/>
            </p:nvSpPr>
            <p:spPr>
              <a:xfrm>
                <a:off x="1523160" y="3460680"/>
                <a:ext cx="761760" cy="317520"/>
              </a:xfrm>
              <a:prstGeom prst="rect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ata transforma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is problem we go from 0s and 1s to student grad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ransformi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each transformation is stored in its ow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must map between the data and array index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posi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tore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 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 we read at index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l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f input value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tore it at array index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icit mapp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u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M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t index 0, cou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O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t index 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ction attendance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 whi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iscussion sections and produces output of their attendance and scor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attended = new int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line.charAt(i) == '1') {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 == '1'  or  c == '0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ttended[i % 5]++;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tudent attended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attended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s[i] = Math.min(20, 3 * attended[i]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attended: " + Arrays.toString(attended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scores: " + Arrays.toString(point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grades: " + Arrays.toString(grade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3981600" y="1968480"/>
            <a:ext cx="3204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545000" y="3067200"/>
            <a:ext cx="1535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parameter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averag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q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= " + avg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array.length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array[i]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array.length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verage = 124.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488960" y="3471840"/>
            <a:ext cx="19400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906800" y="4224240"/>
            <a:ext cx="9781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passed by refere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rays are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passed as parameters, they are passed b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feren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hanges made in the method are also seen by the caller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All(iq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doubleAl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562720" y="5181480"/>
          <a:ext cx="3429000" cy="1041480"/>
        </p:xfrm>
        <a:graphic>
          <a:graphicData uri="http://schemas.openxmlformats.org/drawingml/2006/table">
            <a:tbl>
              <a:tblPr/>
              <a:tblGrid>
                <a:gridCol w="1182600"/>
                <a:gridCol w="749160"/>
                <a:gridCol w="747720"/>
                <a:gridCol w="74952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23"/>
          <p:cNvSpPr/>
          <p:nvPr/>
        </p:nvSpPr>
        <p:spPr>
          <a:xfrm>
            <a:off x="7808760" y="31370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562720" y="5181480"/>
          <a:ext cx="3429000" cy="1041480"/>
        </p:xfrm>
        <a:graphic>
          <a:graphicData uri="http://schemas.openxmlformats.org/drawingml/2006/table">
            <a:tbl>
              <a:tblPr/>
              <a:tblGrid>
                <a:gridCol w="1182600"/>
                <a:gridCol w="749160"/>
                <a:gridCol w="747720"/>
                <a:gridCol w="74952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46" name="Group 57"/>
          <p:cNvGrpSpPr/>
          <p:nvPr/>
        </p:nvGrpSpPr>
        <p:grpSpPr>
          <a:xfrm>
            <a:off x="6934320" y="3137040"/>
            <a:ext cx="1371600" cy="1739880"/>
            <a:chOff x="6934320" y="3137040"/>
            <a:chExt cx="1371600" cy="1739880"/>
          </a:xfrm>
        </p:grpSpPr>
        <p:sp>
          <p:nvSpPr>
            <p:cNvPr id="147" name="Rectangle 22"/>
            <p:cNvSpPr/>
            <p:nvPr/>
          </p:nvSpPr>
          <p:spPr>
            <a:xfrm>
              <a:off x="6934320" y="313704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47"/>
            <p:cNvSpPr/>
            <p:nvPr/>
          </p:nvSpPr>
          <p:spPr>
            <a:xfrm flipH="1">
              <a:off x="7924680" y="338940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Oval 54"/>
            <p:cNvSpPr/>
            <p:nvPr/>
          </p:nvSpPr>
          <p:spPr>
            <a:xfrm>
              <a:off x="7924680" y="32004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" name="Group 56"/>
          <p:cNvGrpSpPr/>
          <p:nvPr/>
        </p:nvGrpSpPr>
        <p:grpSpPr>
          <a:xfrm>
            <a:off x="3352680" y="5715000"/>
            <a:ext cx="1981440" cy="444600"/>
            <a:chOff x="3352680" y="5715000"/>
            <a:chExt cx="1981440" cy="444600"/>
          </a:xfrm>
        </p:grpSpPr>
        <p:sp>
          <p:nvSpPr>
            <p:cNvPr id="151" name="Rectangle 30"/>
            <p:cNvSpPr/>
            <p:nvPr/>
          </p:nvSpPr>
          <p:spPr>
            <a:xfrm>
              <a:off x="3352680" y="5715000"/>
              <a:ext cx="1027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48"/>
            <p:cNvSpPr/>
            <p:nvPr/>
          </p:nvSpPr>
          <p:spPr>
            <a:xfrm>
              <a:off x="4648320" y="5931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Oval 55"/>
            <p:cNvSpPr/>
            <p:nvPr/>
          </p:nvSpPr>
          <p:spPr>
            <a:xfrm>
              <a:off x="4362480" y="5749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s return (declaring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untDigits(int n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u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s return (calling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tally = countDigits(22923100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rrays.toString(tally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2, 1, 3, 1, 0, 0, 0, 1, 0, 1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2-23T23:36:54Z</dcterms:modified>
  <cp:revision>1376</cp:revision>
  <dc:subject/>
  <dc:title>Building Java Programs</dc:title>
</cp:coreProperties>
</file>