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26C0-24B9-42DC-99F6-9086D716C2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BBEF-5BBE-458D-9837-50059AAB77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8146-F4A7-4C0A-9871-AB8CA563B8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81E3-611A-4A78-821A-D8F674ECB9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9549-581C-456E-9E3B-63897769F5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5F9F-AD5E-4C25-B092-79F96281B5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E5FB-E250-4B00-85E1-42E70C804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256F-8DAF-47C0-BF4D-E9CA47C1FF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5CF5-2546-4AC2-B483-C63CB87B3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38B7-C476-4077-98F8-C4E87538B3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B62E-E44B-43C0-98DA-7BD533826E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F8D7-B590-424D-9FFC-273FB2A05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7986-AA1D-4D1B-B544-6BE40E89086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037-97DA-4BFB-91B4-A816E9BA39C9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7-1: Arr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7 #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array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75248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75248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common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to access array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times we assign each element a value in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3986280" y="2538360"/>
            <a:ext cx="2163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iel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rray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eld stores its number of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use parentheses like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expressions refer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element of any array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iddle el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eather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an array to solve the weather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eather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60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temperatures = new int[days]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eratures[i] = console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= temperatures[i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       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erature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rrays for 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ounting and tally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multi-count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Examine a large integer and count the numb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occurrences of every digit from 0 through 9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3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3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he number 229231007 contai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0s, one 1, three 2s, one 7, and one 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declare 10 counter variables for this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uc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multi-count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olution is to use an array of size 1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lement at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store the counter for digit valu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nteger value 229231007, our array should sto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dex at which a value is stored has mea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it doesn't ma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bout the weather 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71600" y="2743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eating an array of talli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22923100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um %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/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a file of integer exam scores, such 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program that will print a histogram of stars indicating the number of students who earned each unique exam sc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roblem we can't solv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program (input underlined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CLOUDS&amp;RAIN"/>
          <p:cNvPicPr/>
          <p:nvPr/>
        </p:nvPicPr>
        <p:blipFill>
          <a:blip r:embed="rId2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istogram vari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ve the scores; add a fixed number to each sco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ut don't allow a curved score to exceed the max of 101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t the data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 is 100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px between each 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px tall bar for each student who earned that sc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724280" y="4165560"/>
            <a:ext cx="4114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an input file of test scores (integers) and displays 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graphical histogram of the score distribu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final int CURVE = 5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djustment to each exam s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ore = Math.min(score +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V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100)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urve the exam s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solut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use a DrawingPanel to draw the hist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ingPanel p = new DrawingPanel(counts.length * 3 + 6, 2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Line(i * 3 + 3, 175, i * 3 + 3, 175 - 5 * counts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y the problem is toug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each input value twi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mpute the average (a cumulative su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unt how many were above a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read each value into a variable... but w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know how many days are needed until the program ru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know how many variables to dec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a way to declare many variables in one st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bject that stores many values of the sam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ne value in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0-based integer to access an element from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11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11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2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2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, cont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ength can be any integer expres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element initially gets a "zero-equivalent"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of other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828800" y="487836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: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's length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1-07T07:31:30Z</dcterms:modified>
  <cp:revision>1360</cp:revision>
  <dc:subject/>
  <dc:title>Building Java Programs</dc:title>
</cp:coreProperties>
</file>