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58400" cy="77724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33640" y="630000"/>
            <a:ext cx="407808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DF09D05-771E-40C2-9D5D-6A3ADB199D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3640" y="630360"/>
            <a:ext cx="4078080" cy="315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bugs he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not understanding the difference between a String and a Scanner.  They try to call line.nextInt() or simila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alling a method on the wrong Scanner.  e.g. They forget to change input to lineSca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07C5414-CA36-43E1-A69D-3A7227F7D4C6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3640" y="630360"/>
            <a:ext cx="407808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PrintStream bu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declaring it in a method that gets called many times.  This causes the file to be re-opened and wipes the past contents.  So only the last line shows up in the fil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6688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8284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56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6688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88284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E1C3-3F37-4C63-916B-AD6C8A194E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468B-8348-40A3-93A9-B2333835F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7CFD-F780-4AC1-B3EB-1B48AF72D4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8EBB-2FB4-4E3B-B787-03CB10C045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5492-374C-457D-A23E-50EA5ADD4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240"/>
            <a:ext cx="90518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51A0-40F3-4C0D-BA29-0619086D7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20C4-D480-4974-816A-382CFCFE3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F2C8-8345-493D-B276-024A672C6D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8979-6B11-403E-BF07-1325D77299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77D6-5B1A-488E-9491-576509A19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3E41-41DA-476B-B11C-DD9B818EEF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6688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8284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56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6688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88284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14E9-03FF-45C6-8E75-88BE04246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3280" y="498240"/>
            <a:ext cx="90518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6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-273240">
              <a:spcBef>
                <a:spcPts val="6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33280">
              <a:spcBef>
                <a:spcPts val="624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4" marL="1628640" indent="-233280">
              <a:spcBef>
                <a:spcPts val="624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5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6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11160" y="0"/>
            <a:ext cx="10087200" cy="604800"/>
            <a:chOff x="-11160" y="0"/>
            <a:chExt cx="10087200" cy="604800"/>
          </a:xfrm>
        </p:grpSpPr>
        <p:sp>
          <p:nvSpPr>
            <p:cNvPr id="3" name="Freeform 6"/>
            <p:cNvSpPr/>
            <p:nvPr/>
          </p:nvSpPr>
          <p:spPr>
            <a:xfrm>
              <a:off x="-11160" y="0"/>
              <a:ext cx="10080000" cy="604800"/>
            </a:xfrm>
            <a:custGeom>
              <a:avLst/>
              <a:gdLst>
                <a:gd name="textAreaLeft" fmla="*/ 0 w 10080000"/>
                <a:gd name="textAreaRight" fmla="*/ 10080360 w 100800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693320" y="0"/>
              <a:ext cx="5365080" cy="308160"/>
            </a:xfrm>
            <a:custGeom>
              <a:avLst/>
              <a:gdLst>
                <a:gd name="textAreaLeft" fmla="*/ 0 w 5365080"/>
                <a:gd name="textAreaRight" fmla="*/ 5365440 w 5365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-720" y="161640"/>
              <a:ext cx="10076760" cy="288360"/>
              <a:chOff x="-720" y="161640"/>
              <a:chExt cx="10076760" cy="2883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-720" y="161640"/>
                <a:ext cx="10076760" cy="288360"/>
                <a:chOff x="-720" y="161640"/>
                <a:chExt cx="10076760" cy="2883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61640"/>
                  <a:ext cx="10069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-360" y="3459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5040" y="161640"/>
                <a:ext cx="10071000" cy="272520"/>
                <a:chOff x="5040" y="161640"/>
                <a:chExt cx="10071000" cy="27252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760" y="161640"/>
                  <a:ext cx="1006128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5040" y="3463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969400" y="7167600"/>
            <a:ext cx="838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834-CB2A-411B-8D36-3DE8A9983931}" type="slidenum">
              <a:rPr b="0" lang="en-US" sz="13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11160" y="0"/>
            <a:ext cx="10087200" cy="604800"/>
            <a:chOff x="-11160" y="0"/>
            <a:chExt cx="10087200" cy="604800"/>
          </a:xfrm>
        </p:grpSpPr>
        <p:sp>
          <p:nvSpPr>
            <p:cNvPr id="50" name="Freeform 13"/>
            <p:cNvSpPr/>
            <p:nvPr/>
          </p:nvSpPr>
          <p:spPr>
            <a:xfrm>
              <a:off x="-11160" y="0"/>
              <a:ext cx="10080000" cy="604800"/>
            </a:xfrm>
            <a:custGeom>
              <a:avLst/>
              <a:gdLst>
                <a:gd name="textAreaLeft" fmla="*/ 0 w 10080000"/>
                <a:gd name="textAreaRight" fmla="*/ 10080360 w 100800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693320" y="0"/>
              <a:ext cx="5365080" cy="308160"/>
            </a:xfrm>
            <a:custGeom>
              <a:avLst/>
              <a:gdLst>
                <a:gd name="textAreaLeft" fmla="*/ 0 w 5365080"/>
                <a:gd name="textAreaRight" fmla="*/ 5365440 w 5365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-720" y="161640"/>
              <a:ext cx="10076760" cy="288360"/>
              <a:chOff x="-720" y="161640"/>
              <a:chExt cx="10076760" cy="2883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-720" y="161640"/>
                <a:ext cx="10076760" cy="288360"/>
                <a:chOff x="-720" y="161640"/>
                <a:chExt cx="10076760" cy="2883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61640"/>
                  <a:ext cx="10069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-360" y="3459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5040" y="161640"/>
                <a:ext cx="10071000" cy="272520"/>
                <a:chOff x="5040" y="161640"/>
                <a:chExt cx="10071000" cy="27252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760" y="161640"/>
                  <a:ext cx="1006128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5040" y="3463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6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-273240">
              <a:spcBef>
                <a:spcPts val="6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33280">
              <a:spcBef>
                <a:spcPts val="624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4" marL="1628640" indent="-233280">
              <a:spcBef>
                <a:spcPts val="624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5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6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7375680" y="7078320"/>
            <a:ext cx="23479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8AF-CC56-4C56-B407-E11002C94E91}" type="slidenum">
              <a:rPr b="0" lang="en-US" sz="13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53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4200" y="3712680"/>
            <a:ext cx="8550000" cy="1986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ne-Based File In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eading: 6.3 - 6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6844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23 Alex 12.5 8.2 7.6 4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56 Alina 4.2 11.6 6.3 2.5 12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89 Ryan 16.0 12.0 8.0 20.0 7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x (ID#123) worked 32.3 hours (8.075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ina (ID#456) worked 36.6 hours (7.32 hours/d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yan (ID#789) worked 63.5 hours (12.7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320265133v4_480x480_Front.jpg"/>
          <p:cNvPicPr/>
          <p:nvPr/>
        </p:nvPicPr>
        <p:blipFill>
          <a:blip r:embed="rId1"/>
          <a:stretch/>
        </p:blipFill>
        <p:spPr>
          <a:xfrm>
            <a:off x="3048120" y="5168880"/>
            <a:ext cx="36576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answer, corrected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essEmployee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processEmployee(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”Erika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name + " (ID#" + id + ") worked "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64646"/>
                </a:solidFill>
                <a:latin typeface="Verdana"/>
              </a:rPr>
              <a:t>File output</a:t>
            </a:r>
            <a:endParaRPr b="0" lang="en-US" sz="53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4280" y="3504960"/>
            <a:ext cx="8621640" cy="2097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6.4 - 6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Output to file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new PrintStream(new File("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fi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Details about </a:t>
            </a: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fi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given file does not exist, it is cre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given file already exists, it is overwritt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utput you print appears in a file, not on the consol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have to open the file with an editor to see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 not open the same file for both reading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writing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at the same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-273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will overwrite your input file with an empty file (0 byte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5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5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5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a metho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a method to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ify our previous Hours program to use 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o send its output to the fil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ours_out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will produce no console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e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_out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ll be created with the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s (ID#123) worked 32.3 hours (8.075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ika (ID#456) worked 36.6 hours (7.32 hours/d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x (ID#789) worked 63.5 hours (12.7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6045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ours2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 = new PrintStream(new File("hours_out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essEmployee(out, 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processEmploye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”Erika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ame + " (ID#" + id + ") worked "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Prompting for a file name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 can ask the user to tell us the file to rea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lename might have spaces;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ompt for input file 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 have an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ethod to test for file-not-foun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 file = new File("hours.txt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!file.exists()) 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ry a second input file as a back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hours file not found!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 = new File("hours2.txt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File Scanner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6844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rite a program call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pammer.jav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hat asks the user for an email domain and searches a file call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address_book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 If an email with the domain name is found, the user is prompted whether the contact should be added to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am lis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User input in bol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ail domain to spam?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@gmail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uld you like to spam therealsherlock@gmail.com?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program should output the contacts that the user selected to a file nam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pam_list.txt</a:t>
            </a:r>
            <a:br>
              <a:rPr sz="2500"/>
            </a:br>
            <a:br>
              <a:rPr sz="25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hmerlock Schmolmes &lt;therealsherlock@gmail.com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creen Shot 2012-05-24 at 10.25.05 PM.png"/>
          <p:cNvPicPr/>
          <p:nvPr/>
        </p:nvPicPr>
        <p:blipFill>
          <a:blip r:embed="rId1"/>
          <a:stretch/>
        </p:blipFill>
        <p:spPr>
          <a:xfrm>
            <a:off x="84240" y="604800"/>
            <a:ext cx="4930560" cy="656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Screen Shot 2012-05-24 at 10.26.14 PM.png"/>
          <p:cNvPicPr/>
          <p:nvPr/>
        </p:nvPicPr>
        <p:blipFill>
          <a:blip r:embed="rId2"/>
          <a:stretch/>
        </p:blipFill>
        <p:spPr>
          <a:xfrm>
            <a:off x="4930920" y="2201760"/>
            <a:ext cx="50432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46844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23 Alex 12.5 8.2 7.6 4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56 Alina 4.2 11.6 6.3 2.5 12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89 Ryan 16.0 12.0 8.0 20.0 7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x (ID#123) worked 32.3 hours (8.075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ina (ID#456) worked 36.6 hours (7.32 hours/d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yan (ID#789) worked 63.5 hours (12.7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320265133v4_480x480_Front.jpg"/>
          <p:cNvPicPr/>
          <p:nvPr/>
        </p:nvPicPr>
        <p:blipFill>
          <a:blip r:embed="rId1"/>
          <a:stretch/>
        </p:blipFill>
        <p:spPr>
          <a:xfrm>
            <a:off x="3048120" y="5168880"/>
            <a:ext cx="36576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answer (flawed)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solution does not work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cess one per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d = input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input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Hours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put.hasNextDouble()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totalHours +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put.nextDouble()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days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(ID#" + id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 worked " + totalHours + " hours ("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otalHours / days) + " hours/day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Flawed outpu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oss (ID#123) worke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488.3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hours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97.66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throwFor(Scanner.java:84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Scanner.java:146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Scanner.java:209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HoursWorked.main(HoursBad.java: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n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 is grabbing the next person's I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ant to process the tokens, but we also care about the line breaks (they mark the end of a person's dat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better solution is a hybrid approach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, break the overall input into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break each line into toke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9051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Line-based </a:t>
            </a: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243828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filenam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process this lin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0080" y="2514600"/>
          <a:ext cx="9806040" cy="2119320"/>
        </p:xfrm>
        <a:graphic>
          <a:graphicData uri="http://schemas.openxmlformats.org/drawingml/2006/table">
            <a:tbl>
              <a:tblPr/>
              <a:tblGrid>
                <a:gridCol w="2547720"/>
                <a:gridCol w="7258320"/>
              </a:tblGrid>
              <a:tr h="453960">
                <a:tc>
                  <a:txBody>
                    <a:bodyPr lIns="100440" rIns="100440" tIns="51840" bIns="518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next entire line of input  </a:t>
                      </a: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(from cursor to </a:t>
                      </a: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urier New"/>
                        </a:rPr>
                        <a:t>\n</a:t>
                      </a: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onsuming lines of inpu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3   3.14 John Smith   "Hello" wor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5.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8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reads the lines as follow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3\t3.14 John Smith\t"Hello" world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3\t3.14 John Smith\t"Hello" world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2 = input.nextLin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3\t3.14 John Smith\t"Hello" world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\t\t45.2  19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racter is consumed but not return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Scanners on String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2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can tokenize the contents of 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 new Scanner(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xt = "15  3.2 hello   9  27.5"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sca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Scanner(tex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um = scan.nextIn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m);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2 = scan.nextDoubl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m2)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scan.nex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)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"hello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Mixing lines and token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90008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unts the words on each line of a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input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tokens = new Scanner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cess the contents of this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tokens.hasNext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s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Line has " + count + " word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79400" y="1673280"/>
          <a:ext cx="8452080" cy="1600200"/>
        </p:xfrm>
        <a:graphic>
          <a:graphicData uri="http://schemas.openxmlformats.org/drawingml/2006/table">
            <a:tbl>
              <a:tblPr/>
              <a:tblGrid>
                <a:gridCol w="5567400"/>
                <a:gridCol w="2884680"/>
              </a:tblGrid>
              <a:tr h="87480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ut file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put.tx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put to console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quick brown fox jumps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lazy do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6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3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7T09:58:50Z</dcterms:created>
  <dc:creator>Microsoft Office User</dc:creator>
  <dc:description/>
  <dc:language>en-US</dc:language>
  <cp:lastModifiedBy>Microsoft Office User</cp:lastModifiedBy>
  <cp:lastPrinted>2017-02-12T23:10:53Z</cp:lastPrinted>
  <dcterms:modified xsi:type="dcterms:W3CDTF">2017-02-12T23:11:48Z</dcterms:modified>
  <cp:revision>16</cp:revision>
  <dc:subject/>
  <dc:title>Building Java Programs</dc:title>
</cp:coreProperties>
</file>