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593880" y="-3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0" y="79815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593880" y="79815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D25AC18-4E96-4284-A21A-24BD720D133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594240" y="7981920"/>
            <a:ext cx="2749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1FACD29-9933-41DD-B6FB-5C0B8738D46D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4240" y="7981920"/>
            <a:ext cx="2749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2402BAA-46DD-430B-9DE8-5E3648481B27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: You can base your knowledge of variable B on variable A if B's value is related to A'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lide, we know things about next, so we also know things about prev at certai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594240" y="7981920"/>
            <a:ext cx="2749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B9051C9-DA89-4110-BBC6-D0E6D220F31F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9E95-5BDF-4D27-AEA4-FAA0A7F786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0EC31-2070-4F48-85C3-1B5F98B8A1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26C1-CD61-4092-A48E-6C6FBC5DF7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7E92C-33B2-4BC7-BEA3-6E84E04F14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EDC45-2895-4264-9F8D-2756BB8E3D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B7F9F-D4D0-4CB0-B5C8-0AFE1BDEF7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5BF5-6936-45F7-A5F2-8DE1F5FFDE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85C92-E6FD-4D1D-AE4C-8B415A0D3E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F8A4-BB7F-4A34-89EB-51E489B5D1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86BF-CAC8-44F8-84F8-DE3C1E1803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104F-E64D-47D1-8154-112D710F02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5624-15C9-4D06-83C8-F91B5DABB4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FA4C-1236-4237-BC10-0F790EBDAD36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0" name="Freeform 13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D853-CEED-431C-86B3-A411DA2B501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hapter 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5-4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, asser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5.1, 5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ertions in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can make assertions about our code and ask whether they are true at various points in the co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alid answers are ALWAYS, NEVER, or SOMETIME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a nonnegative number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number = console.nextDoubl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// Point A: is number &lt; 0.0 he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&lt; 0.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// Point B: is number &lt; 0.0 he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Negative; try again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Doubl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// Point C: is number &lt; 0.0 he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// Point D: is number &lt; 0.0 he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7086600" y="2286000"/>
            <a:ext cx="2057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ALWAY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NEV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asoning about asser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ight after a variable is initialized, its value is know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s x &gt; 0?  ALW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general you know nothing about parameters' valu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s a == 10?  SOMETI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nsid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tc., you may know someth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l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s a == 10?  NE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ertions and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5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 the start of a loop's body, the loop's test must 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s y &lt; 10?  ALW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5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a loop, the loop's test must 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s y &lt; 10?  NE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5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ide a loop's body, the loop's test may beco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s y &lt; 10?  SOMETI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Sometimes"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ngs that cause a variable's value to be unknow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often leads to "sometimes" answers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from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a number from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arameter's initial value to a meth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you can reach a part of the program both with the answer being "yes" and the answer being "no", then the correct answer is "sometimes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ertion example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x, int y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0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x &gt;= y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- 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x != y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 = z * 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z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478400" y="3809880"/>
          <a:ext cx="4665600" cy="228780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&lt;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==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ertion example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mystery(Scanner console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ev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ext = console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ext != 0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ext == prev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v = nex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 = console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478400" y="3809880"/>
          <a:ext cx="4665600" cy="228780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ev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ertion example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ssumes y &gt;= 0, and returns x^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pow(int x, int 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od = 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y &gt; 0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y % 2 == 0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= x * 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= y / 2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d = prod * 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--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prod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257800" y="3124080"/>
          <a:ext cx="3352680" cy="308160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41"/>
          <p:cNvSpPr/>
          <p:nvPr/>
        </p:nvSpPr>
        <p:spPr>
          <a:xfrm>
            <a:off x="4114800" y="20574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257800" y="3124080"/>
          <a:ext cx="3352680" cy="30765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o/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s its test at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each repeti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arantees that the loop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}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ody will run at least o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xample: prompt until correct password is typ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phra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your password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rase = console.nex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!phrase.equals("abracadabra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3" descr="do_while"/>
          <p:cNvPicPr/>
          <p:nvPr/>
        </p:nvPicPr>
        <p:blipFill>
          <a:blip r:embed="rId1"/>
          <a:stretch/>
        </p:blipFill>
        <p:spPr>
          <a:xfrm>
            <a:off x="7385040" y="2178000"/>
            <a:ext cx="15336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o/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odify the previous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Dic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program to use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o/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1 = rand.nextInt(6) + 1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ne ro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while (sum != 7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reak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statem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Immediately exits a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used to write a loop whose test is in the midd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oop's test is often changed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"always repeat"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considered to be bad style by some programm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ntinel loop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reak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Enter a number (-1 to quit)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ber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number == -1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on't add -1 to su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number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number != -1 he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total wa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464646"/>
                </a:solidFill>
                <a:latin typeface="Verdana"/>
              </a:rPr>
              <a:t>Assertion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ading: 5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gical asser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sser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statement that is either true or fals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va was created in 199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ky is purp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3 is a prime numb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apital of North Dakota is Bismarc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 divided by 2 equals 7.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depends on the value of 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assertion might be false ("The sky is purple" above), but it is still an assertion because it is a true/false state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asoning about asser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se you have the following cod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x &gt; 3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--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do you know abou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value at the three point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gt;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?  Always?  Sometimes?  Neve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6:11:25Z</dcterms:created>
  <dc:creator>Marty Stepp</dc:creator>
  <dc:description/>
  <dc:language>en-US</dc:language>
  <cp:lastModifiedBy>Benson Limketkai</cp:lastModifiedBy>
  <cp:lastPrinted>2009-04-22T19:24:48Z</cp:lastPrinted>
  <dcterms:modified xsi:type="dcterms:W3CDTF">2014-04-26T23:12:13Z</dcterms:modified>
  <cp:revision>1343</cp:revision>
  <dc:subject/>
  <dc:title>Building Java Programs</dc:title>
</cp:coreProperties>
</file>