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EE08-1644-44C1-ADE0-3BACF85B1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BD06-76AD-4980-AAE8-C1EBAB834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E792-3EB4-434E-8AE8-A19F0B655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CD23-2512-4825-8ABA-6F614AE4F2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70C8-7051-4A57-A60F-576C93A6A1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FA3E-D14C-48F3-A383-E3F48ADF20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41EC-C958-4669-8D69-30DBC8EC3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712F-B8B0-4C49-BDDD-29CA6670B7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F410-1797-4C99-9300-4871B742A1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8687-F7B8-43FE-B39B-5C72AC69F0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EBEB-35A9-4DAF-A992-FAEE9A8BA1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2E3F-E3CC-463F-8C3C-DB333F045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F4F-F5E0-4D00-8C29-85D2814277A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355-AFAD-47FD-BE3C-266F3CE3630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Boolean Log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1 -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ri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: Whate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, we want to return th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or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exactly what you want to return. 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even shorter ver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don't even need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just perform the test and return its result in one ste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 templ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two words and reports whether they "rhyme" (end with the same last two letters) and/or "alliterate" (start with the same lette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ooyah s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have nothing in comm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ype two words: </a:t>
            </a:r>
            <a:r>
              <a:rPr b="1" lang="en-US" sz="1500" spc="-1" strike="noStrike" u="sng">
                <a:solidFill>
                  <a:srgbClr val="008080"/>
                </a:solidFill>
                <a:uFillTx/>
                <a:latin typeface="Courier New"/>
              </a:rPr>
              <a:t>car STA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y rhyme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 (start with the same letter)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 (a, e, i, o, or u)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the above method into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y character EXCEPT a vowel (a, e, i, o, or u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method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retur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ethods that involve a loop an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tu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figure out whether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the method return its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 and uses it to pick up to 10 lotto numbers between 1 and 3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should print each number as it is dra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 from 2 call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9 5 29 16 4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the numbers is a lucky 7, the method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Otherwise, it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incorrect 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tries to return immediately after the first ro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bad, if that roll isn't a 7; we need to roll all 10 times to see if any of them is a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integer as a parameter and returns the sum of the digits of that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2+9+1+0+7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number is non-neg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nt: 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to extract a digit from a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t the right ti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cted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we know there was no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 immediately if 7 is found, because the answer must 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If 7 isn't found, we draw the next lotto numb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ll 10 aren't 7, the loop ends and we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917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, el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oink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code implements th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 to s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that retur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ll to such a method can be a loop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endsWith(", 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4800600"/>
          <a:ext cx="8229600" cy="15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ri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thOdd(int n1, int n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1 % 2 != 0 &amp;&amp; n2 % 2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s to this methods can now be used as te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code above is unnecessarily verbo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09T18:34:41Z</dcterms:modified>
  <cp:revision>1330</cp:revision>
  <dc:subject/>
  <dc:title>Building Java Programs</dc:title>
</cp:coreProperties>
</file>