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343650" cy="840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343200" cy="840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2"/>
          </p:nvPr>
        </p:nvSpPr>
        <p:spPr>
          <a:xfrm>
            <a:off x="3593880" y="-360"/>
            <a:ext cx="274932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071720" y="630000"/>
            <a:ext cx="4201920" cy="31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845640" y="3990960"/>
            <a:ext cx="465156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3"/>
          </p:nvPr>
        </p:nvSpPr>
        <p:spPr>
          <a:xfrm>
            <a:off x="0" y="79815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4"/>
          </p:nvPr>
        </p:nvSpPr>
        <p:spPr>
          <a:xfrm>
            <a:off x="3593880" y="7981560"/>
            <a:ext cx="274932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1E8BED68-5116-42E5-8A9F-2EDE66C664C7}" type="slidenum"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845640" y="3990960"/>
            <a:ext cx="465156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594240" y="7981920"/>
            <a:ext cx="27493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AF9C82F2-688D-4889-9F45-987A25DE4661}" type="slidenum"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845640" y="3990960"/>
            <a:ext cx="465156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594240" y="7981920"/>
            <a:ext cx="27493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39302B95-31DB-43A7-A1B6-E93DA5FD7A8B}" type="slidenum"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45640" y="3990960"/>
            <a:ext cx="465156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 This program computes two people's body mass index (BMI)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 compares them.  The code uses parameters, returns, and Scan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java.util.*;  // so that I can use Scan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class BMI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static void main(String[] args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.out.println("This program reads in data for two people and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.out.println("computes their body mass index (BMI)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.out.printl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 finish 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DD558-218F-47B1-B30B-50935C8BA39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D582C-DB83-43D7-8DCF-0EEB734322A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00B0B-2B9C-4057-A7DF-3A0C96711B3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C1174-3591-490C-96E6-49A8AA02157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8C639-3734-4255-AA17-62E0E06674B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C9FD3-FDB9-42C1-8AFF-08E0D4EE7D1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8F299-6F23-4ECB-B872-FCF346A3EE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0F215-67A5-408D-8963-770663B0F13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E019A-EC76-42F8-A446-C487AAD152B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B67B9-1F5A-4A0E-91DF-0F8B2887CD6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09D82-7EDA-4BC2-9EAA-A70CE9FB1E1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2FF61-89F1-485A-89BF-7D9F9A9152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Group 24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3" name="Freeform 6"/>
            <p:cNvSpPr/>
            <p:nvPr/>
          </p:nvSpPr>
          <p:spPr>
            <a:xfrm>
              <a:off x="-9360" y="0"/>
              <a:ext cx="9162720" cy="533520"/>
            </a:xfrm>
            <a:custGeom>
              <a:avLst/>
              <a:gdLst>
                <a:gd name="textAreaLeft" fmla="*/ 0 w 9162720"/>
                <a:gd name="textAreaRight" fmla="*/ 9163080 w 91627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>
              <a:off x="4267080" y="0"/>
              <a:ext cx="4876920" cy="271800"/>
            </a:xfrm>
            <a:custGeom>
              <a:avLst/>
              <a:gdLst>
                <a:gd name="textAreaLeft" fmla="*/ 0 w 4876920"/>
                <a:gd name="textAreaRight" fmla="*/ 4877280 w 487692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7" name="Freeform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Freeform 12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10" name="Freeform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77BBD-1C60-4E15-A9C3-EA4942AE17A3}" type="slidenum">
              <a:rPr b="0" lang="en-US" sz="1200" spc="-1" strike="noStrike">
                <a:solidFill>
                  <a:srgbClr val="424242"/>
                </a:solidFill>
                <a:latin typeface="Verdan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3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50" name="Freeform 13"/>
            <p:cNvSpPr/>
            <p:nvPr/>
          </p:nvSpPr>
          <p:spPr>
            <a:xfrm>
              <a:off x="-9360" y="0"/>
              <a:ext cx="9162720" cy="533520"/>
            </a:xfrm>
            <a:custGeom>
              <a:avLst/>
              <a:gdLst>
                <a:gd name="textAreaLeft" fmla="*/ 0 w 9162720"/>
                <a:gd name="textAreaRight" fmla="*/ 9163080 w 91627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Freeform 14"/>
            <p:cNvSpPr/>
            <p:nvPr/>
          </p:nvSpPr>
          <p:spPr>
            <a:xfrm>
              <a:off x="4267080" y="0"/>
              <a:ext cx="4876920" cy="271800"/>
            </a:xfrm>
            <a:custGeom>
              <a:avLst/>
              <a:gdLst>
                <a:gd name="textAreaLeft" fmla="*/ 0 w 4876920"/>
                <a:gd name="textAreaRight" fmla="*/ 4877280 w 487692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2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53" name="Freeform 16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54" name="Freeform 1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6" name="Freeform 17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57" name="Freeform 17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8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Verdana"/>
                <a:ea typeface="Times New Roman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18F0B-DC86-47AC-92F2-B16C9234B7AC}" type="slidenum">
              <a:rPr b="0" lang="en-US" sz="1200" spc="-1" strike="noStrike">
                <a:solidFill>
                  <a:srgbClr val="424242"/>
                </a:solidFill>
                <a:latin typeface="Verdan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hyperlink" Target="http://xkcd.com/221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12360" y="3092400"/>
            <a:ext cx="78390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pter 5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cture 5-2: Random Numbers; procedural desig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5.1, 5.6, 4.5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Random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answ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Asks the user to do adding problems and scores them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AddingGame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andom rand = new Random(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play until user gets 3 wrong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points = 0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wrong = 0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while (wrong &lt; 3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result = play(console, rand);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play one gam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result == 0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wrong++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oints++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You earned " + points + " total points."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Random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answer 2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Builds one addition problem and presents it to the user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turns 1 point if you get it right, 0 if wrong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int play(Scanner console, Random rand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print the operands being added, and sum them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operands = rand.nextInt(4) + 2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sum = rand.nextInt(10) + 1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sum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2; i &lt;= operands; i++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n = rand.nextInt(10) + 1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um += n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 + " + n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 = "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ad user's guess and report whether it was correc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guess = console.nextInt(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guess == sum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Wrong! The answer was " + total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Procedural design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ading: 4.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call: BMI progra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rmula for body mass index (BMI)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program that produces output like the following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his program reads data for two people an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putes their body mass index (BMI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er next person's informa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ight (in inches)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70.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eight (in pounds)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194.2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er next person's informa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ight (in inches)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62.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eight (in pounds)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130.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erson 1 BMI = 27.86892857142857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verweigh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erson 2 BMI = 23.48582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orm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ifference = 4.383104571428571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2"/>
              <p:cNvSpPr txBox="1"/>
              <p:nvPr/>
            </p:nvSpPr>
            <p:spPr>
              <a:xfrm>
                <a:off x="888840" y="1884240"/>
                <a:ext cx="24638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M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eight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eigh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703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34" name=""/>
          <p:cNvGraphicFramePr/>
          <p:nvPr/>
        </p:nvGraphicFramePr>
        <p:xfrm>
          <a:off x="5867280" y="1295280"/>
          <a:ext cx="3054600" cy="1505160"/>
        </p:xfrm>
        <a:graphic>
          <a:graphicData uri="http://schemas.openxmlformats.org/drawingml/2006/table">
            <a:tbl>
              <a:tblPr/>
              <a:tblGrid>
                <a:gridCol w="1420920"/>
                <a:gridCol w="1633680"/>
              </a:tblGrid>
              <a:tr h="311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eight cl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</a:tr>
              <a:tr h="298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low 18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derwe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</a:tr>
              <a:tr h="298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.5 - 24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</a:tr>
              <a:tr h="298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.0 - 29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verwe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</a:tr>
              <a:tr h="298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.0 and 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be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"Chaining"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should be a concise summary of your program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is bad if each method calls the next without ever returning (we call this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chain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better structure ha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ake most of the call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thods must return values t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 be passed on la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7" name="Group 4"/>
          <p:cNvGrpSpPr/>
          <p:nvPr/>
        </p:nvGrpSpPr>
        <p:grpSpPr>
          <a:xfrm>
            <a:off x="392040" y="2666880"/>
            <a:ext cx="8277120" cy="1002240"/>
            <a:chOff x="392040" y="2666880"/>
            <a:chExt cx="8277120" cy="1002240"/>
          </a:xfrm>
        </p:grpSpPr>
        <p:sp>
          <p:nvSpPr>
            <p:cNvPr id="138" name="Text Box 5"/>
            <p:cNvSpPr/>
            <p:nvPr/>
          </p:nvSpPr>
          <p:spPr>
            <a:xfrm>
              <a:off x="392040" y="2666880"/>
              <a:ext cx="79020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in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39" name="Group 6"/>
            <p:cNvGrpSpPr/>
            <p:nvPr/>
          </p:nvGrpSpPr>
          <p:grpSpPr>
            <a:xfrm>
              <a:off x="1219320" y="2813040"/>
              <a:ext cx="1792080" cy="398880"/>
              <a:chOff x="1219320" y="2813040"/>
              <a:chExt cx="1792080" cy="398880"/>
            </a:xfrm>
          </p:grpSpPr>
          <p:sp>
            <p:nvSpPr>
              <p:cNvPr id="140" name="Line 7"/>
              <p:cNvSpPr/>
              <p:nvPr/>
            </p:nvSpPr>
            <p:spPr>
              <a:xfrm>
                <a:off x="1219320" y="2860560"/>
                <a:ext cx="5335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Text Box 8"/>
              <p:cNvSpPr/>
              <p:nvPr/>
            </p:nvSpPr>
            <p:spPr>
              <a:xfrm>
                <a:off x="1764000" y="2813040"/>
                <a:ext cx="1247400" cy="3988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methodA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2" name="Group 9"/>
            <p:cNvGrpSpPr/>
            <p:nvPr/>
          </p:nvGrpSpPr>
          <p:grpSpPr>
            <a:xfrm>
              <a:off x="3108240" y="2965320"/>
              <a:ext cx="1792080" cy="398880"/>
              <a:chOff x="3108240" y="2965320"/>
              <a:chExt cx="1792080" cy="398880"/>
            </a:xfrm>
          </p:grpSpPr>
          <p:sp>
            <p:nvSpPr>
              <p:cNvPr id="143" name="Line 10"/>
              <p:cNvSpPr/>
              <p:nvPr/>
            </p:nvSpPr>
            <p:spPr>
              <a:xfrm>
                <a:off x="3108240" y="3012840"/>
                <a:ext cx="5335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Text Box 11"/>
              <p:cNvSpPr/>
              <p:nvPr/>
            </p:nvSpPr>
            <p:spPr>
              <a:xfrm>
                <a:off x="3652920" y="2965320"/>
                <a:ext cx="1247400" cy="3988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methodB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5" name="Group 12"/>
            <p:cNvGrpSpPr/>
            <p:nvPr/>
          </p:nvGrpSpPr>
          <p:grpSpPr>
            <a:xfrm>
              <a:off x="4992840" y="3117960"/>
              <a:ext cx="1792080" cy="398880"/>
              <a:chOff x="4992840" y="3117960"/>
              <a:chExt cx="1792080" cy="398880"/>
            </a:xfrm>
          </p:grpSpPr>
          <p:sp>
            <p:nvSpPr>
              <p:cNvPr id="146" name="Line 13"/>
              <p:cNvSpPr/>
              <p:nvPr/>
            </p:nvSpPr>
            <p:spPr>
              <a:xfrm>
                <a:off x="4992840" y="3165480"/>
                <a:ext cx="5335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Text Box 14"/>
              <p:cNvSpPr/>
              <p:nvPr/>
            </p:nvSpPr>
            <p:spPr>
              <a:xfrm>
                <a:off x="5537520" y="3117960"/>
                <a:ext cx="1247400" cy="3988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methodC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15"/>
            <p:cNvGrpSpPr/>
            <p:nvPr/>
          </p:nvGrpSpPr>
          <p:grpSpPr>
            <a:xfrm>
              <a:off x="6877080" y="3270240"/>
              <a:ext cx="1792080" cy="398880"/>
              <a:chOff x="6877080" y="3270240"/>
              <a:chExt cx="1792080" cy="398880"/>
            </a:xfrm>
          </p:grpSpPr>
          <p:sp>
            <p:nvSpPr>
              <p:cNvPr id="149" name="Line 16"/>
              <p:cNvSpPr/>
              <p:nvPr/>
            </p:nvSpPr>
            <p:spPr>
              <a:xfrm>
                <a:off x="6877080" y="3317760"/>
                <a:ext cx="5335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17"/>
              <p:cNvSpPr/>
              <p:nvPr/>
            </p:nvSpPr>
            <p:spPr>
              <a:xfrm>
                <a:off x="7421760" y="3270240"/>
                <a:ext cx="1247400" cy="3988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methodD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51" name="Group 18"/>
          <p:cNvGrpSpPr/>
          <p:nvPr/>
        </p:nvGrpSpPr>
        <p:grpSpPr>
          <a:xfrm>
            <a:off x="392040" y="4676760"/>
            <a:ext cx="4503600" cy="1617840"/>
            <a:chOff x="392040" y="4676760"/>
            <a:chExt cx="4503600" cy="1617840"/>
          </a:xfrm>
        </p:grpSpPr>
        <p:sp>
          <p:nvSpPr>
            <p:cNvPr id="152" name="Text Box 19"/>
            <p:cNvSpPr/>
            <p:nvPr/>
          </p:nvSpPr>
          <p:spPr>
            <a:xfrm>
              <a:off x="392040" y="4676760"/>
              <a:ext cx="79020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in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3" name="Group 20"/>
            <p:cNvGrpSpPr/>
            <p:nvPr/>
          </p:nvGrpSpPr>
          <p:grpSpPr>
            <a:xfrm>
              <a:off x="1219320" y="4822920"/>
              <a:ext cx="1791720" cy="398880"/>
              <a:chOff x="1219320" y="4822920"/>
              <a:chExt cx="1791720" cy="398880"/>
            </a:xfrm>
          </p:grpSpPr>
          <p:sp>
            <p:nvSpPr>
              <p:cNvPr id="154" name="Line 21"/>
              <p:cNvSpPr/>
              <p:nvPr/>
            </p:nvSpPr>
            <p:spPr>
              <a:xfrm>
                <a:off x="1219320" y="4870440"/>
                <a:ext cx="5331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Text Box 22"/>
              <p:cNvSpPr/>
              <p:nvPr/>
            </p:nvSpPr>
            <p:spPr>
              <a:xfrm>
                <a:off x="1763640" y="4822920"/>
                <a:ext cx="1247400" cy="3988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methodA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6" name="Group 23"/>
            <p:cNvGrpSpPr/>
            <p:nvPr/>
          </p:nvGrpSpPr>
          <p:grpSpPr>
            <a:xfrm>
              <a:off x="1219320" y="5029200"/>
              <a:ext cx="1791720" cy="732240"/>
              <a:chOff x="1219320" y="5029200"/>
              <a:chExt cx="1791720" cy="732240"/>
            </a:xfrm>
          </p:grpSpPr>
          <p:sp>
            <p:nvSpPr>
              <p:cNvPr id="157" name="Line 24"/>
              <p:cNvSpPr/>
              <p:nvPr/>
            </p:nvSpPr>
            <p:spPr>
              <a:xfrm>
                <a:off x="1219320" y="5029200"/>
                <a:ext cx="53316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Text Box 25"/>
              <p:cNvSpPr/>
              <p:nvPr/>
            </p:nvSpPr>
            <p:spPr>
              <a:xfrm>
                <a:off x="1763640" y="5362560"/>
                <a:ext cx="1247400" cy="3988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methodB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9" name="Group 26"/>
            <p:cNvGrpSpPr/>
            <p:nvPr/>
          </p:nvGrpSpPr>
          <p:grpSpPr>
            <a:xfrm>
              <a:off x="3103560" y="5514840"/>
              <a:ext cx="1792080" cy="398880"/>
              <a:chOff x="3103560" y="5514840"/>
              <a:chExt cx="1792080" cy="398880"/>
            </a:xfrm>
          </p:grpSpPr>
          <p:sp>
            <p:nvSpPr>
              <p:cNvPr id="160" name="Line 27"/>
              <p:cNvSpPr/>
              <p:nvPr/>
            </p:nvSpPr>
            <p:spPr>
              <a:xfrm>
                <a:off x="3103560" y="5562360"/>
                <a:ext cx="5335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Text Box 28"/>
              <p:cNvSpPr/>
              <p:nvPr/>
            </p:nvSpPr>
            <p:spPr>
              <a:xfrm>
                <a:off x="3648240" y="5514840"/>
                <a:ext cx="1247400" cy="3988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methodC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2" name="Group 29"/>
            <p:cNvGrpSpPr/>
            <p:nvPr/>
          </p:nvGrpSpPr>
          <p:grpSpPr>
            <a:xfrm>
              <a:off x="1066680" y="5105520"/>
              <a:ext cx="1944360" cy="1189080"/>
              <a:chOff x="1066680" y="5105520"/>
              <a:chExt cx="1944360" cy="1189080"/>
            </a:xfrm>
          </p:grpSpPr>
          <p:sp>
            <p:nvSpPr>
              <p:cNvPr id="163" name="Line 30"/>
              <p:cNvSpPr/>
              <p:nvPr/>
            </p:nvSpPr>
            <p:spPr>
              <a:xfrm>
                <a:off x="1066680" y="5105520"/>
                <a:ext cx="6858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31"/>
              <p:cNvSpPr/>
              <p:nvPr/>
            </p:nvSpPr>
            <p:spPr>
              <a:xfrm>
                <a:off x="1763640" y="5895720"/>
                <a:ext cx="1247400" cy="3988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methodD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Bad "chain" cod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BMI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his program reads ... (etc.)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erson(console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person(Scanner console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Enter next person's information: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height (in inches)? 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height = console.nextDouble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getWeight(console, height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getWeight(Scanner console, double height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weight (in pounds)? 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weight = console.nextDouble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computeBMI(console, height, weight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computeBMI(Scanner s, double h, double w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rocedural heuristic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>
              <a:spcBef>
                <a:spcPts val="1375"/>
              </a:spcBef>
              <a:spcAft>
                <a:spcPts val="1375"/>
              </a:spcAft>
              <a:buClr>
                <a:srgbClr val="eb641b"/>
              </a:buClr>
              <a:buSzPct val="9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ach method should have a clear set of responsibiliti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19040" indent="-419040">
              <a:spcBef>
                <a:spcPts val="1375"/>
              </a:spcBef>
              <a:spcAft>
                <a:spcPts val="1375"/>
              </a:spcAft>
              <a:buClr>
                <a:srgbClr val="eb641b"/>
              </a:buClr>
              <a:buSzPct val="9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 method should do too large a share of the overall task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19040" indent="-419040">
              <a:spcBef>
                <a:spcPts val="1375"/>
              </a:spcBef>
              <a:spcAft>
                <a:spcPts val="1375"/>
              </a:spcAft>
              <a:buClr>
                <a:srgbClr val="eb641b"/>
              </a:buClr>
              <a:buSzPct val="9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inimize coupling and dependencies between method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19040" indent="-419040">
              <a:spcBef>
                <a:spcPts val="1375"/>
              </a:spcBef>
              <a:spcAft>
                <a:spcPts val="1375"/>
              </a:spcAft>
              <a:buClr>
                <a:srgbClr val="eb641b"/>
              </a:buClr>
              <a:buSzPct val="9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main method should read as a concise summary of the overall set of tasks performed by the program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19040" indent="-419040">
              <a:spcBef>
                <a:spcPts val="1375"/>
              </a:spcBef>
              <a:spcAft>
                <a:spcPts val="1375"/>
              </a:spcAft>
              <a:buClr>
                <a:srgbClr val="eb641b"/>
              </a:buClr>
              <a:buSzPct val="9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ata should be declared/used at the lowest level possibl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6" descr="dilberttourofaccounting.png"/>
          <p:cNvPicPr/>
          <p:nvPr/>
        </p:nvPicPr>
        <p:blipFill>
          <a:blip r:embed="rId1"/>
          <a:stretch/>
        </p:blipFill>
        <p:spPr>
          <a:xfrm>
            <a:off x="507960" y="952560"/>
            <a:ext cx="8128080" cy="2400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random_number.png"/>
          <p:cNvPicPr/>
          <p:nvPr/>
        </p:nvPicPr>
        <p:blipFill>
          <a:blip r:embed="rId2"/>
          <a:stretch/>
        </p:blipFill>
        <p:spPr>
          <a:xfrm>
            <a:off x="2031840" y="4191120"/>
            <a:ext cx="5080320" cy="18288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0"/>
          <p:cNvSpPr/>
          <p:nvPr/>
        </p:nvSpPr>
        <p:spPr>
          <a:xfrm>
            <a:off x="3708720" y="6019920"/>
            <a:ext cx="1726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8119"/>
                </a:solidFill>
                <a:uFillTx/>
                <a:latin typeface="Verdana"/>
                <a:hlinkClick r:id="rId3"/>
              </a:rPr>
              <a:t>http://xkcd.com/221/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he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Random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clas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bject generates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pseudo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random numb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s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found in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ackag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andom rand = new Random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randomNumber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nd.nextInt(10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0-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52280" y="2666880"/>
          <a:ext cx="8809200" cy="1793880"/>
        </p:xfrm>
        <a:graphic>
          <a:graphicData uri="http://schemas.openxmlformats.org/drawingml/2006/table">
            <a:tbl>
              <a:tblPr/>
              <a:tblGrid>
                <a:gridCol w="2362320"/>
                <a:gridCol w="644688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Int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turns a random integ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7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In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turns a random integer in the range [0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 other words, 0 to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1 inclus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Doubl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turns a random real number in the range [0.0, 1.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Generating random numbe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mon usage: to get a random number from 1 to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nd.nextInt(20) + 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1-20 inclusi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get a number in arbitrary range [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mi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max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] inclusiv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nextInt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ize of rang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+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700"/>
            </a:b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ere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ize of rang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is (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-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i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+ 1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A random integer between 4 and 10 inclusiv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nd.nextInt(7) + 4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Random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questio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iven the following declaration, how would you ge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andom rand = new Random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random number between 1 and 47 inclusiv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random1 = rand.nextInt(47) + 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random number between 23 and 30 inclusiv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random2 = rand.nextInt(8) + 23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random even number between 4 and 12 inclusiv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random3 = rand.nextInt(5) * 2 + 4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Random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and other typ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xtDoub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ethod return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between [0.0, 1.0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2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Get a random GPA value between [1.5,  4.0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randomGpa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nd.nextDoubl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* 2.5 + 1.5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y set of possible values can be mapped to intege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de to randomly play Rock-Paper-Scissor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r = rand.nextInt(3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 == 0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Rock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r == 1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aper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 == 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Scissors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Random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program that simulates rolling two 6-sided dice until their combined result comes up as 7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 + 4 = 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 + 5 = 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 + 6 = 1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 + 1 = 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 + 3 = 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ou won after 5 tries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Random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answ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olls two dice until a sum of 7 is reach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Dice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andom rand = new Random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tries = 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sum = 0;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anything but 7 to start the loo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sum != 7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oll the dice o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roll1 = rand.nextInt(6) + 1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roll2 = rand.nextInt(6) + 1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m = roll1 + roll2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roll1 + " + " + roll2 + " = " + sum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ies++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You won after " + tries + " tries!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Random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program that plays an adding gam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k user to solve random adding problems with 2-5 numbers in the range from 1 - 1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user gets 1 point for a correct answer, 0 for incorrec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program stops after 3 incorrect answ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4 + 10 + 3 + 10 =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9 + 2 =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8 + 6 + 7 + 9 =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ong! The answer was 3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5 + 9 =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ong! The answer was 1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4 + 9 + 9 =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 + 1 + 7 + 2 =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4 + 2 + 10 + 9 + 7 =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ong! The answer was 3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ou earned 4 total poi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04:34:23Z</dcterms:created>
  <dc:creator>Marty Stepp</dc:creator>
  <dc:description/>
  <dc:language>en-US</dc:language>
  <cp:lastModifiedBy>Benson Limketkai</cp:lastModifiedBy>
  <cp:lastPrinted>2010-04-30T19:29:54Z</cp:lastPrinted>
  <dcterms:modified xsi:type="dcterms:W3CDTF">2014-04-28T17:57:59Z</dcterms:modified>
  <cp:revision>1397</cp:revision>
  <dc:subject/>
  <dc:title>Building Java Programs</dc:title>
</cp:coreProperties>
</file>