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50A4B95-C204-45DE-B135-C017A251161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6F2C679-7AC3-4EEA-8D82-B9C00396D12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62206C2-2D3F-4E1D-9838-108A3E3EC10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73160" y="630360"/>
            <a:ext cx="4200480" cy="315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C180077-9DA6-4876-A5F5-FE9AEF879F45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0A03-2F2E-4B90-AE93-EBBAD6A54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E398-B5E9-41B8-BD8F-CA3EC875E2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8FAA-163E-49E4-868F-9BD7AB8272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A57F-4731-4B66-AA38-8B5CE71A3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D95-7AE5-4741-9452-73FFF2CCB2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7A27-72C9-4AED-8531-CC0DF4209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5B5C-F149-4356-997C-C2C0A26A8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3197-AB86-47FF-8225-965786FE3C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CBC2-AD22-427B-8BF5-06F863133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FC11-A299-4259-A3CC-1363E99BB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DCE0-B2F1-448D-9B32-37C89BD866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1CA0-6402-44C8-A09B-788A579FD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E33-DA4F-454B-9377-2519AD75057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5C3-4B33-4AC3-9AF1-401F7BBF191A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ocs.oracle.com/javase/7/docs/api/java/lang/String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3: Strings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3,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 bord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mpt the user for full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out the pattern to the lef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hould be resizable.  Size 1 is shown and size 2 would have the first name twice followed by last name tw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1368360"/>
            <a:ext cx="243828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outputs “The Name Game” with a person’s first and last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mes J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mes, James, bo-b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ana-fana fo-f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e-fi-mo-m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ME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yce, Joyce, bo-b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ana-fana fo-f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e-fi-mo-m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Y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"The Name Game"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heNameGam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paceIndex = name.indexOf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Name = name.substring(0, spaceInde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Name = name.substring(spaceIndex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Song(first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Song(last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(cont.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ingSong(String nam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allButLast = name.substring(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, " + name + ", bo-b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nana-fana fo-f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ee-fi-mo-m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.toUpperCase() + "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ail on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’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will compile, but it will not print the so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ares objects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, so it often gi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when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have the same let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’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name = console.next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ame.equalsIgnoreCase("buTteRs"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System.out.println("You're grounded, young man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ing documentation: 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ourier New"/>
                <a:hlinkClick r:id="rId1"/>
              </a:rPr>
              <a:t>http://docs.oracle.com/javase/7/docs/api/java/lang/String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wo people's first names and suggests a name for their chi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ggestion is the concatentation of the first halves of both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1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ni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2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 gender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ggested baby name: JODA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1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ni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2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 gender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ggested baby name: DANI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uggests a baby name based on parents' nam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abyNam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s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Parent 1 first name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1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Parent 2 first name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2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Child gender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gender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uggested name: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ggestChildName(gender, name1, name2).toUpperCase()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(cont.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turn the first half of the given nam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HalfName(String name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halfIndex = name.length() / 2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name.substring(0, halfIndex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uggests a child's name (for a given gender) for parents with the given nam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uggestChildName(String gender, String name1, String name2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halfName1 = getHalfName(name1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halfName2 = getHalfName(name2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gender.toLowerCase().startsWith("f"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ame = halfName1 + halfName2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ame = halfName2 + halfName1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nam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ing: 3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mpt the user for two words and report whether the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"rhyme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nd with the same last two lette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lliter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egin with the same let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: (run #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bare b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ell sh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extra strawber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Determines whether two words rhyme and/or alliterat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class Rhym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ring word2 = console.next().toLowerCase();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IfRhyme(word1, word2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IfAlliterate(word1, word2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print if two words "rhyme" (i.e., end with the same two letters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printIfRhyme(String word1, String word2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f (word2.length() &gt;= 2 &amp;&amp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ord1.endsWith(word2.substring(word2.length() - 2))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ln("They rhyme!");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print if two alliter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printIfAlliterate(String word1, String word2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f (word1.startsWith(word2.substring(0, 1))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internally as an array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nacho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rrounded with apostrophes: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initial 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'J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itial)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itial + " Joyce")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J Joy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91120" y="2562120"/>
          <a:ext cx="4722840" cy="94320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n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c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o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s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706840" y="4792680"/>
            <a:ext cx="2062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549600" y="2494080"/>
            <a:ext cx="1892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pt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dex parameter and return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 that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with relational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&lt; 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 == 'X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Q' != 'q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ample that prints the alphab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test the value of a string's charact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.charAt(word.length() - 1) == 's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y are differen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mapped to an integer value intern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CII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ng "math"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ses automatic conversion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0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nvert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the equival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ype-cast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/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esar ciph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simple encryption where a message is encoded by shifting each letter by a given amou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with a shift of 3, 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,  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,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,  and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message from the user and performs a Caesar cipher on its let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messag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omputer science is awes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key: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coded message: frpsxwhu vflhqfh lv dzhvrp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reads a message and a secret key from the user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crypts the message using a Caesar cipher, shifting each le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Messag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 = message.toLowerCa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key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key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code(message, 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ob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method encodes the given text string using a Cae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ipher, shifting each letter by the given number of pla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ncode(String text, int shif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e encoded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text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letter = text.charAt(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hift only letters (leave other characters alo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= 'a' &amp;&amp; letter &lt;=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shif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ay need to wrap ar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-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letter &lt; 'a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let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(Optional)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  <a:ea typeface="Courier New"/>
              </a:rPr>
              <a:t> printf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ormatting text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an conta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16452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placeholders are used instead of + concate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16452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es not drop to the next line unless you wri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dt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precis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rounded 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git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s wide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git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de (left-align)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3392640" y="5105520"/>
            <a:ext cx="1218960" cy="682560"/>
            <a:chOff x="3392640" y="5105520"/>
            <a:chExt cx="1218960" cy="682560"/>
          </a:xfrm>
        </p:grpSpPr>
        <p:sp>
          <p:nvSpPr>
            <p:cNvPr id="185" name="Text Box 6"/>
            <p:cNvSpPr/>
            <p:nvPr/>
          </p:nvSpPr>
          <p:spPr>
            <a:xfrm>
              <a:off x="3552480" y="5419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 rot="16200000">
              <a:off x="3849840" y="4648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3952800" y="4056120"/>
            <a:ext cx="876960" cy="582480"/>
            <a:chOff x="3952800" y="4056120"/>
            <a:chExt cx="876960" cy="582480"/>
          </a:xfrm>
        </p:grpSpPr>
        <p:sp>
          <p:nvSpPr>
            <p:cNvPr id="188" name="AutoShape 10"/>
            <p:cNvSpPr/>
            <p:nvPr/>
          </p:nvSpPr>
          <p:spPr>
            <a:xfrm rot="5400000">
              <a:off x="4281480" y="429552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3952800" y="405612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o better format it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results in the format below, with 2 digits 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(partial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like most other objects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created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 (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valu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s = "Alice and Bob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dex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M. Mous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character's index :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 character's index :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arz = "Prince vs. Michae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z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371600"/>
          <a:ext cx="8845560" cy="3073320"/>
        </p:xfrm>
        <a:graphic>
          <a:graphicData uri="http://schemas.openxmlformats.org/drawingml/2006/table">
            <a:tbl>
              <a:tblPr/>
              <a:tblGrid>
                <a:gridCol w="3702240"/>
                <a:gridCol w="5143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st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ild and return a new string, rather than modifying the current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Mumford &amp; Son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umford &amp; 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modify a variable's value, you must reassign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Mumford &amp; Son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UMFORD &amp; 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241800" y="5678640"/>
            <a:ext cx="27018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60480" y="2390760"/>
            <a:ext cx="3814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user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word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B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NO has 4 letters and starts with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line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6:05:31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22T23:56:53Z</dcterms:modified>
  <cp:revision>1426</cp:revision>
  <dc:subject/>
  <dc:title>Building Java Programs</dc:title>
</cp:coreProperties>
</file>