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0B8281B-931D-44FB-84BC-B6410AE8A79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238C665-2272-4D5D-82DF-52775D10EEA4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8743-453E-4429-8278-94BE7641C4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CC4A-6677-4F5E-BE35-71DC5AC988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CC15-0D27-42E8-8F02-1F5B046E2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65E5-78C2-4AE6-9F8B-DF5D2FF69D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B6F0-E350-4A7A-BBF7-1D3402B3A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C494-93DE-4972-8F24-61E446700A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3920-577C-42D7-B6D7-79A2A1800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D729-28E6-481C-9C6B-5B69532246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EB75-0A07-4B4A-8E2F-CDE147FF1E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C18E-B281-4480-88DF-19B18E8CA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FB45-6155-4070-A614-14885C4E32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832B-5085-4C18-BEFE-ABFD6CD2C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6AD6-F379-47CC-BC8E-F92E9C1A4221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571C-A871-4FAE-95F7-83A9C8436AC4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encepost Loops, and Sentinel Loo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 – 5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tegories of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finite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ecutes a known number of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s we have seen are definite loo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"hello" 10 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all the prime numbers up to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each odd number between 5 and 12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finite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ne where the number of times its body repeats is not known in adv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pt the user until they type a non-negative numb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random numbers until a prime number is pri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eat until the user has typed "q" to qu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Repeatedly executes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as long as a logical test is tr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ampl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bett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we don't know how many times we will need to increment to find the fa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nti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alue that signals the end of user inpu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tinel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peats until a sentinel value is se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Write a program that prompts the user for text until the user types nothing, then output the total number of characters typ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 this case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t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ing is the sentinel valu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ell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his is a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typed a total of 19 charact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"dummy";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dummy" value, anything but "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"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nothing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hanging the sentinel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your program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the sentinel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ell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his is a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typed a total of 19 charac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hanging the sentinel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ing the sentinel's value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oes not work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"dummy";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dummy" value, anything but "quit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"quit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quit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olution produces the wrong output.  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typed a total of 23 charac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problem with our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r code uses a pattern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m =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le (input is not the senti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d input length to th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last pass, the sentinel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length (4) is added to the su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a50021"/>
                </a:solidFill>
                <a:latin typeface="Verdana"/>
              </a:rPr>
              <a:t>add input length (4) to th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is a fencepost probl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rea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ines, but only sum the lengths of the firs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fencepost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m =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prompt for input; read input.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po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le (input is not the senti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add input length to the sum.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wir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po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ntinel loops often utilize a fencepost "loop-and-a-half" style solution by pulling some code out of the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sheepless_in_seattle_groan.png"/>
          <p:cNvPicPr/>
          <p:nvPr/>
        </p:nvPicPr>
        <p:blipFill>
          <a:blip r:embed="rId1"/>
          <a:stretch/>
        </p:blipFill>
        <p:spPr>
          <a:xfrm>
            <a:off x="838080" y="584280"/>
            <a:ext cx="74678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rrect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ystem.out.print("Type a line (or \"quit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tring 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"quit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m += response.length()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quit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as a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448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tatic final String SENTINEL = "quit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// moved to top of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d with some cleanup…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448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final String SENTINEL = "quit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ine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SENTINEL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// moved to top of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ine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String getLine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SENTINE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deceptive problem..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ett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each letter from a word separated by comma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the 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etters("Atmosphere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, t, m, o, s, p, h, e, r,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olu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Letters(String word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for(int i = 0; i &lt; word.length(); i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.charAt(i)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nd l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, t, m, o, s, p, h, e, r, e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Letters(String word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for(int i = 0; i &lt; word.length(); i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word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nd l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, t, m, o, s, p, h, e, r,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 post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pri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etters but need onl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1 com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ilar to building a fence with wires separated by pos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we use a flawed algorithm that repeatedly places a post + wire, the last post will have an extra dangling w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for (length of fenc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11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1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2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2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2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2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3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3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3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3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3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a statement outside the loop to place the initial "post.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encepost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"loop-and-a-half" solu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- 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4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4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4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4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5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5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5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5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6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metho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Letters(String word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word.charAt(0)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or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 word.length(); 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, " + word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nd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ernate solution: Either first or last "post" can be taken 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Letters(String word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or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 word.length() - 1; 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word.charAt(i) + ",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last = word.length() –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ln(word.charAt(last)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nd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all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im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s up to a max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maximum is less than 2, print no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help you, 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returns the number of factors of a give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ue to factors 1, 2, 4, 5, 10, 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11:45Z</dcterms:created>
  <dc:creator>Marty Stepp</dc:creator>
  <dc:description/>
  <dc:language>en-US</dc:language>
  <cp:lastModifiedBy>Benson Limketkai</cp:lastModifiedBy>
  <cp:lastPrinted>2010-04-25T22:48:27Z</cp:lastPrinted>
  <dcterms:modified xsi:type="dcterms:W3CDTF">2014-04-26T20:39:06Z</dcterms:modified>
  <cp:revision>1387</cp:revision>
  <dc:subject/>
  <dc:title>Building Java Programs</dc:title>
</cp:coreProperties>
</file>