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63A6-2301-4CBF-AB24-EF5D98C41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901E-F756-450A-9A7F-C23E8EA33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E90F-E4C7-4EA1-A355-856C996D0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FB0B-D7C6-42F7-9E2D-9A852DAB7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D98C-7A35-48A5-9C4C-27C1107EF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8148-DB6D-4D2A-9F03-ED1CEEA64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9458-374E-4A5B-887E-E273AA25B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2760-510E-4668-B048-1C7F856207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61CE-5925-48C3-B01E-D90568F3D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249B-40D4-4769-980C-81E8E24E2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272A-EA4B-4D50-BA10-609CB39BD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A906-F3F3-427E-857E-89DFDB866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030-0361-4DDF-8829-E3D656150BF4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1F16-F588-4C15-8E09-49DF8BFE4527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2: Advanc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Cumulative s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4.2, 4.4 -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different value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ing a value causes a method to immediately ex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aths through the code must reach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ll paths must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also does not compile.  Why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think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can skip all paths, even though mathematically it must choose one or the 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 here is to ch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 pair of real number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returns the quadrant for that point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point falls directly on either axis,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umulative algorith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many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would you find the sum of all integers from 1-5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1 + 2 + 3 + 4 +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we want the sum from 1 - 1,000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ttempt at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mulative 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that keeps a sum in progress and is updated repeatedly until summing is finish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above code represents a cumulativ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st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produc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umulative idea can be used with other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we make the base and exponent adju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560600" y="3260880"/>
            <a:ext cx="4611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do a cumulative sum of user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05120"/>
          <a:ext cx="8001000" cy="1463400"/>
        </p:xfrm>
        <a:graphic>
          <a:graphicData uri="http://schemas.openxmlformats.org/drawingml/2006/table">
            <a:tbl>
              <a:tblPr/>
              <a:tblGrid>
                <a:gridCol w="1933560"/>
                <a:gridCol w="1825560"/>
                <a:gridCol w="3218040"/>
                <a:gridCol w="1023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04840" y="4270320"/>
          <a:ext cx="3721320" cy="18288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226200" y="4270320"/>
          <a:ext cx="1774800" cy="10969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from Ch.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pt for how many people, and each person's dinner c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static methods to structure the solu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answer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utting it all together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2, 3, 4, 6, 8, 12, and 24 are factors of 2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395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der of opera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 –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   6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5   &g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+    30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5   &gt;=    33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             &amp;&amp;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an be hard to read.  If you ever have an expression like this, consider adding more parentheses and storing intermediate results in varia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395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al operators cannot be "chained" as in algeb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true 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, combine multiple test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&amp;&amp; 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oolean-hair-logic.gif"/>
          <p:cNvPicPr/>
          <p:nvPr/>
        </p:nvPicPr>
        <p:blipFill>
          <a:blip r:embed="rId1"/>
          <a:stretch/>
        </p:blipFill>
        <p:spPr>
          <a:xfrm>
            <a:off x="2054160" y="1371600"/>
            <a:ext cx="503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result of each of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program that prompts for information about an apartment and uses it to decide whether to rent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dvance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4 -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acto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cto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tracting common/redundant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reduce or eliminate redundancy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4267080" y="2895480"/>
            <a:ext cx="4648320" cy="3276720"/>
            <a:chOff x="4267080" y="2895480"/>
            <a:chExt cx="4648320" cy="3276720"/>
          </a:xfrm>
        </p:grpSpPr>
        <p:sp>
          <p:nvSpPr>
            <p:cNvPr id="117" name="Text Box 5"/>
            <p:cNvSpPr/>
            <p:nvPr/>
          </p:nvSpPr>
          <p:spPr>
            <a:xfrm>
              <a:off x="5638680" y="3657600"/>
              <a:ext cx="3276720" cy="17398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8"/>
            <p:cNvGrpSpPr/>
            <p:nvPr/>
          </p:nvGrpSpPr>
          <p:grpSpPr>
            <a:xfrm>
              <a:off x="4267080" y="2895480"/>
              <a:ext cx="1301760" cy="3276720"/>
              <a:chOff x="4267080" y="2895480"/>
              <a:chExt cx="1301760" cy="3276720"/>
            </a:xfrm>
          </p:grpSpPr>
          <p:sp>
            <p:nvSpPr>
              <p:cNvPr id="119" name="Line 6"/>
              <p:cNvSpPr/>
              <p:nvPr/>
            </p:nvSpPr>
            <p:spPr>
              <a:xfrm>
                <a:off x="4881600" y="4535640"/>
                <a:ext cx="68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AutoShape 7"/>
              <p:cNvSpPr/>
              <p:nvPr/>
            </p:nvSpPr>
            <p:spPr>
              <a:xfrm>
                <a:off x="4267080" y="2895480"/>
                <a:ext cx="609840" cy="3276720"/>
              </a:xfrm>
              <a:custGeom>
                <a:avLst/>
                <a:gdLst>
                  <a:gd name="textAreaLeft" fmla="*/ 0 w 609840"/>
                  <a:gd name="textAreaRight" fmla="*/ 220320 w 60984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"dangling if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can be improved about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x &gt;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if test is unnecessary and can be remov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4:44:50Z</dcterms:created>
  <dc:creator>Marty Stepp</dc:creator>
  <dc:description/>
  <dc:language>en-US</dc:language>
  <cp:lastModifiedBy>Benson Limketkai</cp:lastModifiedBy>
  <cp:lastPrinted>2011-10-18T21:07:16Z</cp:lastPrinted>
  <dcterms:modified xsi:type="dcterms:W3CDTF">2014-04-21T00:01:24Z</dcterms:modified>
  <cp:revision>1354</cp:revision>
  <dc:subject/>
  <dc:title>Building Java Programs</dc:title>
</cp:coreProperties>
</file>