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9D81-AC1B-44AC-B0A9-401DDA7A43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834D-30CF-4ABE-B1DC-8515196D67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9E98-A565-4BC2-B1DF-EE1084291A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3C09-8801-4C29-A255-DFA5BA7B74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77DA-13C1-4A75-B892-DC21851ED5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AB0C-CEB7-4058-AE03-ADA38F3671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57EF-101F-4C5F-9C16-DDA9C62C62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3AC3-C5A0-4D68-80AC-D3B0B27636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3DB7-22CA-40AD-A545-9542C9433F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B032-7B3C-4C88-9FCF-93E22EA678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56EA-48FA-47BD-8C34-A757C1525A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8ED7-BE27-4849-A5D4-98CED302BF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06ED-39B5-48DE-985A-77FC80B1BAE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55E5-7003-4C08-8D3D-EADC34E8F9D4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4-1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tat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check: #4-5, 7, 10, 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: #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deos: Ch. 4 #2-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de in need of facto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oney &lt; 50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have, $" + money + " lef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Caution!  Bet careful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much do you want to bet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money &lt; 100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have, $" + money + " lef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Consider betting moderate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much do you want to bet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have, $" + money + " lef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ou may bet liberal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much do you want to bet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de after facto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ystem.out.println("You have, $" + money + " lef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oney &lt; 50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Caution!  Bet careful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money &lt; 100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Consider betting moderate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ou may bet liberal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ystem.out.print("How much do you want to bet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the start of each branch is the same, move it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the end of each branch is the same, move it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similar but code exists in each branch, look for patter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"dangl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can be improved about the following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x &gt;=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on-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eco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est is unnecessary and can be remov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on-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also relevant in methods that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can return different values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largest of the three given integ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ax3(int a, int b, int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b &amp;&amp; a &gt;=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b &gt;= c &amp;&amp; b &gt;= a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ever path the code enters, it will return the appropriate valu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urning a value causes a method to immediately exi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code paths must reach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tate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0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 paths must also return a value of the same typ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ll paths must 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ax3(int a, int b, int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b &amp;&amp; a &gt;=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b &gt;= c &amp;&amp; b &gt;= a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ollowing also does not compi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ax3(int a, int b, int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b &amp;&amp; a &gt;=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b &gt;= c &amp;&amp; b &gt;= a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if (c &gt;= a &amp;&amp; c &gt;=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iler think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de might skip all path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person's body mass index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BMI) is defined to b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produces the following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 compu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ir body mass index (BMI) and weight stat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1 body mass index = 27.8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2 body mass index = 23.4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995400" y="219708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8" name=""/>
          <p:cNvGraphicFramePr/>
          <p:nvPr/>
        </p:nvGraphicFramePr>
        <p:xfrm>
          <a:off x="5200560" y="1184400"/>
          <a:ext cx="3727440" cy="1828800"/>
        </p:xfrm>
        <a:graphic>
          <a:graphicData uri="http://schemas.openxmlformats.org/drawingml/2006/table">
            <a:tbl>
              <a:tblPr/>
              <a:tblGrid>
                <a:gridCol w="1730520"/>
                <a:gridCol w="1996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ight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ow 1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.5 - 2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0 - 2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0 and 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nd compares them.  The code uses parameters and retur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f("Difference = %.2f\n", Math.abs(bmi1 - bmi2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is program reads in data for two peopl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and computes their body mass index (BMI)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and weight status.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anner BMI solution, cont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utes/returns a person's BMIbased on their height and wei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f("Person #%d body mass index = %.2f\n", number, bmi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umber of factors of an integ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 2, 3, 4, 6, 8, 12, and 24 are factors of 2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prompts the user for a maximum integer and prints all prime numbers up to that max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imum number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3 5 7 11 13 17 19 23 29 31 37 41 43 4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primes (28.84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mpts for a maximum number and prints each prime up to that maximum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max from us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Maximum number?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ntPrimes(max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s all prime numbers up to the given maximum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primes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max; i++) {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countFactors(i) == 2) {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prim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mes++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percent = 100.0 * primes / max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f("%d primes (%.2f%%)\n", primes, percent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s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tatements can be used with loops or method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even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dd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 % 2 == 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venSum = evenSum +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ddSum = oddSum +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Even sum: " + even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dd sum: " + odd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if/else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2, 4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#6, 8, 9, 24-2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10-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4 #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nested_if_1"/>
          <p:cNvPicPr/>
          <p:nvPr/>
        </p:nvPicPr>
        <p:blipFill>
          <a:blip r:embed="rId1"/>
          <a:stretch/>
        </p:blipFill>
        <p:spPr>
          <a:xfrm>
            <a:off x="7391520" y="2057400"/>
            <a:ext cx="156348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quential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bu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's wrong with the following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hooses between outcomes using many te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number &gt; 0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number &lt; 0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nested_if_3"/>
          <p:cNvPicPr/>
          <p:nvPr/>
        </p:nvPicPr>
        <p:blipFill>
          <a:blip r:embed="rId1"/>
          <a:stretch/>
        </p:blipFill>
        <p:spPr>
          <a:xfrm>
            <a:off x="5638680" y="1969920"/>
            <a:ext cx="3429000" cy="26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/if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119" name="Picture 3" descr="nested_if_2"/>
          <p:cNvPicPr/>
          <p:nvPr/>
        </p:nvPicPr>
        <p:blipFill>
          <a:blip r:embed="rId1"/>
          <a:stretch/>
        </p:blipFill>
        <p:spPr>
          <a:xfrm>
            <a:off x="5791320" y="1936800"/>
            <a:ext cx="3276360" cy="2863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t end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one code path must be 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t end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the program might not execute any pa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You win the gold medal!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You win a silver medal!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You earned a bronze medal.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uct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122" name="Picture 3" descr="nested_if_1"/>
          <p:cNvPicPr/>
          <p:nvPr/>
        </p:nvPicPr>
        <p:blipFill>
          <a:blip r:embed="rId1"/>
          <a:stretch/>
        </p:blipFill>
        <p:spPr>
          <a:xfrm>
            <a:off x="3060720" y="3886200"/>
            <a:ext cx="97776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0" y="1295280"/>
          <a:ext cx="9144000" cy="49132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21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5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ly 1 path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51"/>
                        </a:spcBef>
                        <a:buClr>
                          <a:srgbClr val="eb641b"/>
                        </a:buClr>
                        <a:buSzPct val="5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or 1 pat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5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 1, or many paths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independent tests,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7" descr="nested_if_3"/>
          <p:cNvPicPr/>
          <p:nvPr/>
        </p:nvPicPr>
        <p:blipFill>
          <a:blip r:embed="rId2"/>
          <a:stretch/>
        </p:blipFill>
        <p:spPr>
          <a:xfrm>
            <a:off x="2743200" y="1924200"/>
            <a:ext cx="1752480" cy="136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nested_if_2"/>
          <p:cNvPicPr/>
          <p:nvPr/>
        </p:nvPicPr>
        <p:blipFill>
          <a:blip r:embed="rId3"/>
          <a:stretch/>
        </p:blipFill>
        <p:spPr>
          <a:xfrm>
            <a:off x="7238880" y="1752480"/>
            <a:ext cx="1828800" cy="15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ich 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1) if/if/if   (2) nested if/else   (3) nested if/else/i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the user's GPA and printing whether the student is on the dean's list (3.8 to 4.0) or honor roll (3.5 to 3.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ing whether a number is even or od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ing whether a user is lower-class, middle-class, or upper-class based on their inco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a number from the user and printing whether it is divisible by 2, 3, and/or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28600" y="1371600"/>
            <a:ext cx="8839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1) if/if/if   (2) nested if/else   (3) nested if/else/i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ading the user's GPA and printing whether the student is on the dean's list (3.8 to 4.0) or honor roll (3.5 to 3.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3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s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else 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inting whether a number is even or od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N/A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mp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inting whether a user is lower-class, middle-class, or upper-class based on their inco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2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s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else if / 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ading a number from the user and printing whether it is divisible by 2, 3, and/or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1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quenti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if / 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in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2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s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else if / else if / else if / 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actor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acto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extracting common/redundant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tor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de can reduce the size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tements or eliminate the need 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ltogeth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4114800" y="3276720"/>
            <a:ext cx="4647960" cy="1828800"/>
            <a:chOff x="4114800" y="3276720"/>
            <a:chExt cx="4647960" cy="1828800"/>
          </a:xfrm>
        </p:grpSpPr>
        <p:sp>
          <p:nvSpPr>
            <p:cNvPr id="132" name="Text Box 5"/>
            <p:cNvSpPr/>
            <p:nvPr/>
          </p:nvSpPr>
          <p:spPr>
            <a:xfrm>
              <a:off x="6216480" y="3565440"/>
              <a:ext cx="2546280" cy="131364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 = 3 * a;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if (a == 2) {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++;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4711680" y="4197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AutoShape 7"/>
            <p:cNvSpPr/>
            <p:nvPr/>
          </p:nvSpPr>
          <p:spPr>
            <a:xfrm>
              <a:off x="4114800" y="3276720"/>
              <a:ext cx="609480" cy="18288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1-26T19:09:06Z</dcterms:modified>
  <cp:revision>1268</cp:revision>
  <dc:subject/>
  <dc:title>Building Java Programs</dc:title>
</cp:coreProperties>
</file>