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AAC3-CCF1-43A8-9107-7DDF21D9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908A-4A85-429B-85DA-D86C4B8E67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7BE5-D018-4221-87E8-93E68E9CBD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53E7-FA98-4953-8D61-00952A250A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0140-439D-4E4D-847F-C66BE77C63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5FDE-FCD7-44DA-8BF8-4EA6A12B14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2996-131E-4410-A321-2E600A56EF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8434-0A85-4780-B2D1-20A80179E6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25E5-AF2F-4EE7-B8FB-5F9DBFC094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D56C-A511-4151-9C07-9E4DE5E98F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DC79-F88D-4D62-8279-21743FAB62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1056-9539-4107-9015-E620BFF871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C829-A978-4F14-A974-F23105ECE4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F408-3842-41E2-BCE4-0C05C12968A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9D1A-E21F-471C-A342-25C4D909EF6A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3: Interactive Programs w/ Sc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ding: 3.3 - 3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16-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3 #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umulative sum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4 #1-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4 #1-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dding many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would you find the sum of all integers from 1-1000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we want the sum from 1 - 1,000,000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the sum up to any maximum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write a method that accepts the max value as a parameter and prints the s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we generalize code like the abo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failed attem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correct solution for summing 1-100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sum is undefined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's scope is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, so the code does not compi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mulative s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riable that keeps a sum in progress and is updated repeatedly until summing is finish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above code is an attempt at a cumulative 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36720" y="1886040"/>
            <a:ext cx="1654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ed cumulative sum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orrected version of the sum loop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y ide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sum variables must be declar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oops that update them, so that they will exist after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produc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cumulative idea can be used with other operato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we make the base and exponent adjus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488960" y="3144960"/>
            <a:ext cx="3997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do a cumulative sum of user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3817800" y="2597040"/>
            <a:ext cx="7207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28800" y="1928880"/>
            <a:ext cx="4024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er-guided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any numbers to add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numbers to ad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um is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two employees' hours and displays each employee's total and the overall total hou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any doesn't pay overtime; cap each day at 8 hou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1: How many day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1's total hours = 19 (6.3 / d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2: How many day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2's total hours = 14 (7.0 / d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hours for both = 3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total paid hours worked by two employe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e company does not pay for more than 8 hours per day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Uses a "cumulative sum" loop to compute the total hour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ours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hours1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cessEmployee(console, 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hours2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cessEmployee(console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total = hours1 + hours2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otal hours for both = " + tota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hours information about an employee with the given numb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otal hours worked by the employe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processEmployee(Scanner console, int number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Employee " + number + ": How many days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otalHours is a cumulative sum of all days' hours worked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totalHours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days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Hours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hour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otalHours = totalHours + Math.min(hours, 8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hoursPerDay = (double) totalHours / day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f("Employee %d's total hours = %d (%.1f / day)\n"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umber, totalHours, hoursPerDay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totalHou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ractive progra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have written programs that print console output, but it is also possible to rea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r types input into the console.  We capture the input and use it in ou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a program i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ractive progr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ve programs can be challeng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rs and users think in very different wa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misbeh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odified vers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from Ch.2 that prompts the user for how many people ate and how much each person's dinner co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results in format below,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2 digits after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total: $7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x: $5.6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p: $10.5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: $86.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Tax: $%.2f\n", ta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Tip: $%.2f\n", tip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Total: $%.2f\n", 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a block of statements only if a test is tr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if_statement"/>
          <p:cNvPicPr/>
          <p:nvPr/>
        </p:nvPicPr>
        <p:blipFill>
          <a:blip r:embed="rId1"/>
          <a:stretch/>
        </p:blipFill>
        <p:spPr>
          <a:xfrm>
            <a:off x="6267600" y="1905120"/>
            <a:ext cx="27432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69" name="Picture 3" descr="if_else"/>
          <p:cNvPicPr/>
          <p:nvPr/>
        </p:nvPicPr>
        <p:blipFill>
          <a:blip r:embed="rId1"/>
          <a:stretch/>
        </p:blipFill>
        <p:spPr>
          <a:xfrm>
            <a:off x="5334120" y="1905120"/>
            <a:ext cx="3657600" cy="23731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one block if a test is true, another if 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lation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s the same as in a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s, seen in Ch.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u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3828960"/>
          <a:ext cx="6735600" cy="256068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operators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&amp;&amp;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||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itions can be combined us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"Truth tables" for each, used with logical valu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03400" y="1905120"/>
          <a:ext cx="6897600" cy="146340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104840" y="4191120"/>
          <a:ext cx="3721320" cy="182880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226200" y="4191120"/>
          <a:ext cx="1774800" cy="109692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valuating logic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operators have lower precedence than ma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operators cannot be "chained" as in algeb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lt;= 10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 &lt;=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ead, combine multiple test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result of each of the following express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i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bject with metho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intended to be used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use a second object, from a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o help 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read console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 libraries, impo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ava class libra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lasses included with Java's JD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d into groups nam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a package, put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ort decla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you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in a packag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ou must place the above line at the top of your program (befor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ead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typed is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'll be 40 in "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40 - age) + " years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m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message telling the user what input to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371600"/>
          <a:ext cx="7605720" cy="1981080"/>
        </p:xfrm>
        <a:graphic>
          <a:graphicData uri="http://schemas.openxmlformats.org/drawingml/2006/table">
            <a:tbl>
              <a:tblPr/>
              <a:tblGrid>
                <a:gridCol w="2346120"/>
                <a:gridCol w="5259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eads a 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of user input as a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795320" y="2448000"/>
            <a:ext cx="5461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133800" y="3211560"/>
            <a:ext cx="2354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ampl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usag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adSomeInpu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ge + "... That's quite ol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... That's quite old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3290760" y="2827440"/>
            <a:ext cx="2355840" cy="806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Sum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hree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num1 + num2 + num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hree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 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um is 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n read multiple values from one l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as read b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kens are separat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tespa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paces, tabs, newli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tokens appear on the following line of inpu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"Hello world"   $2.50   " 1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token is not the type you ask for, it crash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849840" y="2782800"/>
            <a:ext cx="985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386240" y="4000680"/>
            <a:ext cx="2093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many methods read input, declar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pass it to the others as a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1-26T19:09:10Z</dcterms:modified>
  <cp:revision>1264</cp:revision>
  <dc:subject/>
  <dc:title>Building Java Programs</dc:title>
</cp:coreProperties>
</file>