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3593880" y="-360"/>
            <a:ext cx="274932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3"/>
          </p:nvPr>
        </p:nvSpPr>
        <p:spPr>
          <a:xfrm>
            <a:off x="0" y="79815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4"/>
          </p:nvPr>
        </p:nvSpPr>
        <p:spPr>
          <a:xfrm>
            <a:off x="3593880" y="7981560"/>
            <a:ext cx="274932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FF522AD-4DEE-4AF7-8F8C-6CB6F3D36B53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== tests equality, not = .  The = is used for the assignment opera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This program computes two people's body mass index (BMI)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compares them.  The code uses parameters, returns, and Sc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.util.*;  // so that I can use Sc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class BMI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This program reads in data for two people and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computes their body mass index (BMI)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finish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we round the BMI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F30D0-C7A3-441A-85D4-620551B748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89502-47C3-4835-AD7B-BD517D3BD7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579DB-DCF4-44A7-B725-4B82E80708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6F35A-A80B-491C-ADEB-EFD51BF846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CCF8-F775-436F-A676-3089F529A6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F7FD2-0057-477E-B726-34B4B3F120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A08B-A11F-4C5B-A532-3F3347BF77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888E1-16E7-41D7-8A38-91DD37D2B6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40A53-2E65-49D6-A270-E75BAA2417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27685-B2CD-4D2C-945C-88F4934243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3468D-7821-485A-9CFF-4629F2E4D2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DE975-9F2A-4C95-9668-01EDCC8ABC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BAB5-6157-42BA-8778-313D14AB179A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0" name="Freeform 13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53" name="Freeform 16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54" name="Freeform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" name="Freeform 17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57" name="Freeform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676A-021D-4F74-A18C-65E7ECF756F2}" type="slidenum">
              <a:rPr b="0" lang="en-US" sz="12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4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4-1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ding: 3.3 – 3.4, 4.1, 4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put toke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unit of user input, as read b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kens are separated b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hitespa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paces, tabs, new lin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many tokens appear on the following line of inpu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John Smith   42.0  "Hello world"  $2.50  "  19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a token is not the type you ask for, it crash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age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console.nextIn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at is your ag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Timm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java.util.InputMismatchExcep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next(Unknown Sour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nextInt(Unknown Sour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3849840" y="2782800"/>
            <a:ext cx="9856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4386240" y="4000680"/>
            <a:ext cx="20937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canners as parame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many methods need to read input, declar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pass it to the other methods as a parame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readSum3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ompts for 3 numbers and returns their su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readSum3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canner conso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3 numbers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1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2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3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m1 + num2 + num3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gram puzz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changing the output to include the minimum valu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3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ype 3 numbers: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Courier New"/>
              </a:rPr>
              <a:t>8 6 13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e average is 9.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e minimum value is 6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3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45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would we change the previous program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um = readSum3(console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average = sum / 3.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he average is " + average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/ What goes here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 readSum3(Scanner console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Type 3 numbers: 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num1 = console.nextInt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num2 = console.nextInt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num3 = console.nextInt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num1 + num2 + num3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100000"/>
              </a:lnSpc>
              <a:spcBef>
                <a:spcPts val="37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an’t return multiple values!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// so that I can use Sc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Averag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3 numbers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1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2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3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average = (num1 + num2 + num3) / 3.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average is " + averag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minimum value is " 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th.min(num1, Math.min(num2, num3)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8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 statemen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4.1, 4.6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ditional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you eat your vegetables, then you can have dessert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you do your homework, then you may go outside to play, or else you’ll be grounded for life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stateme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ecutes a block of statements only if a test is tru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gpa &gt;= 3.0)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Good job! Here’s a cookie."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4" descr="if_statement"/>
          <p:cNvPicPr/>
          <p:nvPr/>
        </p:nvPicPr>
        <p:blipFill>
          <a:blip r:embed="rId1"/>
          <a:stretch/>
        </p:blipFill>
        <p:spPr>
          <a:xfrm>
            <a:off x="6095880" y="2019240"/>
            <a:ext cx="2773440" cy="259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stateme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ecutes one block if a test is true, another if fal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gpa &gt;= 3.0)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Good job! Here’s a cookie."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No cookie for you!"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3" descr="if_else"/>
          <p:cNvPicPr/>
          <p:nvPr/>
        </p:nvPicPr>
        <p:blipFill>
          <a:blip r:embed="rId1"/>
          <a:stretch/>
        </p:blipFill>
        <p:spPr>
          <a:xfrm>
            <a:off x="4876920" y="1905120"/>
            <a:ext cx="4016160" cy="26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lational express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statements and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loops both use logical test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are Boolean expressions, seen in Ch. 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sts us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lational opera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62120" y="3840120"/>
          <a:ext cx="7924680" cy="2560680"/>
        </p:xfrm>
        <a:graphic>
          <a:graphicData uri="http://schemas.openxmlformats.org/drawingml/2006/table">
            <a:tbl>
              <a:tblPr/>
              <a:tblGrid>
                <a:gridCol w="1568160"/>
                <a:gridCol w="3468960"/>
                <a:gridCol w="1822320"/>
                <a:gridCol w="10652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+ 1 ==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es not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2 != 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l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ater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g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6 &lt;=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ater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0 &gt;= 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nested_if_1"/>
          <p:cNvPicPr/>
          <p:nvPr/>
        </p:nvPicPr>
        <p:blipFill>
          <a:blip r:embed="rId1"/>
          <a:stretch/>
        </p:blipFill>
        <p:spPr>
          <a:xfrm>
            <a:off x="7470720" y="1969920"/>
            <a:ext cx="1563840" cy="457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isuse of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's wrong with the following cod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percentage did you earn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ercent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9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A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8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B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7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C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6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D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lt; 6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F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90s_flowchart.png"/>
          <p:cNvPicPr/>
          <p:nvPr/>
        </p:nvPicPr>
        <p:blipFill>
          <a:blip r:embed="rId1"/>
          <a:stretch/>
        </p:blipFill>
        <p:spPr>
          <a:xfrm>
            <a:off x="2031840" y="907920"/>
            <a:ext cx="508032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nested_if_3"/>
          <p:cNvPicPr/>
          <p:nvPr/>
        </p:nvPicPr>
        <p:blipFill>
          <a:blip r:embed="rId1"/>
          <a:stretch/>
        </p:blipFill>
        <p:spPr>
          <a:xfrm>
            <a:off x="5257800" y="1969920"/>
            <a:ext cx="3809880" cy="29768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Chooses between outcomes using many tes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f (x &gt; 0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Positive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 else if (x &lt; 0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Negative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Zero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nested_if_2"/>
          <p:cNvPicPr/>
          <p:nvPr/>
        </p:nvPicPr>
        <p:blipFill>
          <a:blip r:embed="rId1"/>
          <a:stretch/>
        </p:blipFill>
        <p:spPr>
          <a:xfrm>
            <a:off x="5562720" y="2013120"/>
            <a:ext cx="3504960" cy="30636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/if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t ends wit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exactly one path must be tak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t ends wit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the code might not execute any pat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f (place == 1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Gold medal!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 else if (place == 2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If you're not first, you're last!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 else if (place == 3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What comes after last place?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ummary: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structur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0" y="1295280"/>
          <a:ext cx="9144000" cy="51148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450160">
                <a:tc>
                  <a:txBody>
                    <a:bodyPr lIns="90000" rIns="90000" anchor="t">
                      <a:noAutofit/>
                    </a:bodyPr>
                    <a:p>
                      <a:pPr marL="289080" indent="-289080">
                        <a:spcBef>
                          <a:spcPts val="400"/>
                        </a:spcBef>
                        <a:buClr>
                          <a:srgbClr val="eb641b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actly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} else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808080"/>
                      </a:solidFill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9080" indent="-289080">
                        <a:spcBef>
                          <a:spcPts val="400"/>
                        </a:spcBef>
                        <a:buClr>
                          <a:srgbClr val="eb641b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or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06920">
                <a:tc gridSpan="2">
                  <a:txBody>
                    <a:bodyPr lIns="90000" rIns="90000" anchor="t">
                      <a:noAutofit/>
                    </a:bodyPr>
                    <a:p>
                      <a:pPr marL="2117880" indent="-289080">
                        <a:spcBef>
                          <a:spcPts val="99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117880" indent="-289080">
                        <a:spcBef>
                          <a:spcPts val="400"/>
                        </a:spcBef>
                        <a:buClr>
                          <a:srgbClr val="eb641b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, 1, or many paths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independent tests; not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2743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}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hich 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(1) if/if/if   (2) nested if/else   (3) nested if/else/if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ther a user is lower, middle, or upper-class based on incom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2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ste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/ else if / el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ther you made the dean's list (GPA ≥ 3.8) or honor roll (3.5-3.8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3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ste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/ else i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ther a number is divisible by 2, 3, and/or 5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1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quenti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/ if / i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ing a grade of A, B, C, D, or F based on a percentag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2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ste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/ else if / else if / else if / 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mula for body mass index (BMI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produces output like the follow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 program reads data for two people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utes their body mass index (BMI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70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94.2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62.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30.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1 BMI = 27.86892857142857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verweigh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2 BMI = 23.48582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fference = 4.383104571428571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888840" y="1884240"/>
                <a:ext cx="24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M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eigh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0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0" name=""/>
          <p:cNvGraphicFramePr/>
          <p:nvPr/>
        </p:nvGraphicFramePr>
        <p:xfrm>
          <a:off x="5867280" y="1295280"/>
          <a:ext cx="3054600" cy="1505160"/>
        </p:xfrm>
        <a:graphic>
          <a:graphicData uri="http://schemas.openxmlformats.org/drawingml/2006/table">
            <a:tbl>
              <a:tblPr/>
              <a:tblGrid>
                <a:gridCol w="1420920"/>
                <a:gridCol w="1633680"/>
              </a:tblGrid>
              <a:tr h="311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ight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29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low 1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d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29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.5 - 2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29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.0 - 2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29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.0 and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This program computes two people's body mass index (BMI) a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ompares them.  The code uses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Scanner for input, and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parameters/retur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BMI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roductio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bmi1 = person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bmi2 = person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port overall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port(1, bmi1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port(2, bmi2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Difference = " + Math.abs(bmi1 - bmi2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ints a welcome message explaining the progra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introduction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is program reads data for two people and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computes their body mass index (BMI).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, cont'd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ads information for one person, computes their BMI, and returns i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double person(Scanner console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Enter next person's information: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height (in inches)?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height = console.nextDoubl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weight (in pounds)?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weight = console.nextDoubl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bodyMass = bmi(height, weight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bodyMas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omputes/returns a person's BMI based on their height and weigh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double bmi(double height, double weight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(weight * 703 / height / height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Outputs information about a person's BMI and weight statu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report(int number, double bmi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Person " + number + " BMI = " + bmi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bmi &lt; 18.5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"underweight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if (bmi &lt; 25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"normal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if (bmi &lt; 30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"overweight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"obese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hamm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ust because you learned a new construct does not mean that every new problem has to be solved using that construct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457200" y="2514600"/>
            <a:ext cx="4572000" cy="42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z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x &gt; y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z = x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else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z = y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d = a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b &lt; d) {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d = b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c &lt; d) {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d = c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666880" y="2514600"/>
            <a:ext cx="6324840" cy="40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z = Math.max(x, 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d = Math.min(a, Math.min(b, c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Line 6"/>
          <p:cNvSpPr/>
          <p:nvPr/>
        </p:nvSpPr>
        <p:spPr>
          <a:xfrm>
            <a:off x="581040" y="4495680"/>
            <a:ext cx="8077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Interactive Programs with </a:t>
            </a:r>
            <a:r>
              <a:rPr b="0" lang="en-US" sz="4800" spc="-1" strike="noStrike">
                <a:solidFill>
                  <a:srgbClr val="464646"/>
                </a:solidFill>
                <a:latin typeface="Courier New"/>
              </a:rPr>
              <a:t>Scanner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ding: 3.3 - 3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teractive program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have written programs that print console outp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t is also possible to read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from the conso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user types the input into the consol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program uses the input to do something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uch a program is called an 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interactive program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teractive program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active programs can be challeng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mputers and users think in very different way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sers tend to “misbehave”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4" name="Object 2"/>
          <p:cNvGraphicFramePr/>
          <p:nvPr/>
        </p:nvGraphicFramePr>
        <p:xfrm>
          <a:off x="533520" y="3200400"/>
          <a:ext cx="8084880" cy="26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00400"/>
                    <a:ext cx="808488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object that can read input from many sour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es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also read from files (Ch. 6), web sites, databases, etc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lass is found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ackag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o you can use Scan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ucting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to read console in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canner(System.i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2732040" y="4938840"/>
            <a:ext cx="25891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method waits until the user presses En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alue typed by the user is return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How old are you? 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onsole.nextInt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You typed " + ag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mp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 message telling the user what input to typ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69880" y="1339920"/>
          <a:ext cx="8001000" cy="1981080"/>
        </p:xfrm>
        <a:graphic>
          <a:graphicData uri="http://schemas.openxmlformats.org/drawingml/2006/table">
            <a:tbl>
              <a:tblPr/>
              <a:tblGrid>
                <a:gridCol w="2133720"/>
                <a:gridCol w="5867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d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rom the user and returns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d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ds a one-wor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reads a one-</a:t>
                      </a: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line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UserInputExampl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ow old are you?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console.nextIn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years = 65 - ag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years + " years until retirement!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ole (user input underlined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w old are you?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3 years until retiremen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609480" y="2847960"/>
            <a:ext cx="102708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609480" y="3100320"/>
            <a:ext cx="102708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609480" y="3710160"/>
            <a:ext cx="102708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2387880" y="5357880"/>
            <a:ext cx="10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Group 19"/>
          <p:cNvGrpSpPr/>
          <p:nvPr/>
        </p:nvGrpSpPr>
        <p:grpSpPr>
          <a:xfrm>
            <a:off x="3139920" y="5470560"/>
            <a:ext cx="2367000" cy="961920"/>
            <a:chOff x="3139920" y="5470560"/>
            <a:chExt cx="2367000" cy="961920"/>
          </a:xfrm>
        </p:grpSpPr>
        <p:pic>
          <p:nvPicPr>
            <p:cNvPr id="129" name="Picture 11" descr=""/>
            <p:cNvPicPr/>
            <p:nvPr/>
          </p:nvPicPr>
          <p:blipFill>
            <a:blip r:embed="rId1"/>
            <a:srcRect l="0" t="0" r="5017" b="0"/>
            <a:stretch/>
          </p:blipFill>
          <p:spPr>
            <a:xfrm>
              <a:off x="4511520" y="5470560"/>
              <a:ext cx="9954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Line 12"/>
            <p:cNvSpPr/>
            <p:nvPr/>
          </p:nvSpPr>
          <p:spPr>
            <a:xfrm flipH="1" flipV="1">
              <a:off x="3139920" y="5530320"/>
              <a:ext cx="137160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1" name="Line 13"/>
          <p:cNvSpPr/>
          <p:nvPr/>
        </p:nvSpPr>
        <p:spPr>
          <a:xfrm flipV="1">
            <a:off x="2971800" y="3208320"/>
            <a:ext cx="809640" cy="2193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Group 18"/>
          <p:cNvGrpSpPr/>
          <p:nvPr/>
        </p:nvGrpSpPr>
        <p:grpSpPr>
          <a:xfrm>
            <a:off x="5105520" y="3030480"/>
            <a:ext cx="575640" cy="474840"/>
            <a:chOff x="5105520" y="3030480"/>
            <a:chExt cx="575640" cy="474840"/>
          </a:xfrm>
        </p:grpSpPr>
        <p:pic>
          <p:nvPicPr>
            <p:cNvPr id="133" name="Picture 16" descr=""/>
            <p:cNvPicPr/>
            <p:nvPr/>
          </p:nvPicPr>
          <p:blipFill>
            <a:blip r:embed="rId2"/>
            <a:stretch/>
          </p:blipFill>
          <p:spPr>
            <a:xfrm>
              <a:off x="5105520" y="3030480"/>
              <a:ext cx="39240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7"/>
            <p:cNvSpPr/>
            <p:nvPr/>
          </p:nvSpPr>
          <p:spPr>
            <a:xfrm>
              <a:off x="5497920" y="3168360"/>
              <a:ext cx="1832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135" name=""/>
          <p:cNvGraphicFramePr/>
          <p:nvPr/>
        </p:nvGraphicFramePr>
        <p:xfrm>
          <a:off x="7162920" y="2766960"/>
          <a:ext cx="1295280" cy="397080"/>
        </p:xfrm>
        <a:graphic>
          <a:graphicData uri="http://schemas.openxmlformats.org/drawingml/2006/table">
            <a:tbl>
              <a:tblPr/>
              <a:tblGrid>
                <a:gridCol w="647640"/>
                <a:gridCol w="64764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858000" y="3286080"/>
          <a:ext cx="1593720" cy="397080"/>
        </p:xfrm>
        <a:graphic>
          <a:graphicData uri="http://schemas.openxmlformats.org/drawingml/2006/table">
            <a:tbl>
              <a:tblPr/>
              <a:tblGrid>
                <a:gridCol w="946080"/>
                <a:gridCol w="64764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Line 9"/>
          <p:cNvSpPr/>
          <p:nvPr/>
        </p:nvSpPr>
        <p:spPr>
          <a:xfrm>
            <a:off x="609480" y="3962520"/>
            <a:ext cx="102708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2982960" y="2851200"/>
            <a:ext cx="2260440" cy="463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example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cannerMultiply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Please type two numbers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um1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um2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roduct = num1 * num2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he product is " + produc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 (user input underlined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ease type two numbers: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8 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 product is 4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an read multiple values from one li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00:18:07Z</dcterms:created>
  <dc:creator>Marty Stepp</dc:creator>
  <dc:description/>
  <dc:language>en-US</dc:language>
  <cp:lastModifiedBy>Benson Limketkai</cp:lastModifiedBy>
  <cp:lastPrinted>2009-04-22T19:24:48Z</cp:lastPrinted>
  <dcterms:modified xsi:type="dcterms:W3CDTF">2014-04-06T20:28:10Z</dcterms:modified>
  <cp:revision>1344</cp:revision>
  <dc:subject/>
  <dc:title>Building Java Programs</dc:title>
</cp:coreProperties>
</file>