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73F4-5547-4072-9197-5959C7601D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1DE4-30BF-4D94-A636-F559F251F7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82A8-E3F0-4EFC-9BF9-50F3C08BAA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980F-2F2E-40D6-9E95-5CF21C6F66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666A-C792-4314-A9CE-792998A8AC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34E0-EBCB-461C-B50C-AA26DC5B56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6AD2F-659B-4E33-A85E-227EF8B5B9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4933-3E59-41BF-9747-F05A9CFBA3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E95D-D668-4242-9B5D-E8530EB101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D65D3-97C4-42BF-BF8D-08CCBD8104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10A7-A247-4520-AB7D-772CF52423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E481-5230-4AB2-A462-321F57A0A1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DBC7-AD94-4D0A-AB0A-25AC1D7D7B5E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E41D-69A3-4308-A699-D99084E83AF5}" type="slidenum">
              <a: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3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3-2: Return values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3.2, 2.1 - 2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ore about type cast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pe casting has high precedence and only casts the item immediately next to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x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double)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 / 2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y = 1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double)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/ 2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use parentheses to force evaluation ord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averag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 + b + c) /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conversion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n be achieved in other way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average = 1.0 * (a + b + c) /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ing a valu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Java reaches a return stateme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evaluates the exp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substitutes the return value in place of the c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goes back to the caller and continues after the method c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 examp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verts degrees Fahrenheit to Celsiu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egreesC = 5.0 / 9.0 * (degreesF - 3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egreesC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mputes triangle hypotenuse length given its side length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hypotenuse(int a, int b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c = Math.sqrt(a * a + b * b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shorten the examples by returning the express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.0 / 9.0 * (degreesF - 3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mon error: Not sto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y students incorrectly think that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tatement sends a variable's name back to the calling meth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// ERROR: cannot find symbol: resul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xing the common err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ead, returning sends the variable'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c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turned value must be stored into a variable or used in an expression to be useful to the c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ouble s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mon error vari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ularly confusing is conflating the return variable with a variable in the calling meth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r program will compile, but you won’t get the right result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ReturnExamp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One(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= " + 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addOne(int x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x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Verdana"/>
              </a:rPr>
              <a:t>Don’t ignore the return value!</a:t>
            </a:r>
            <a:endParaRPr b="0" lang="en-US" sz="42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st because the return variable in the called method has the same name as the variable in the calling method, they ar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same.  Think scop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57200" y="2666880"/>
            <a:ext cx="4038480" cy="30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ReturnExample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(String[] args)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 = 1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One(x)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x = " + x)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int addOne(int x)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x + 1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648320" y="2666880"/>
            <a:ext cx="4038480" cy="30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ReturnExample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(String[] args)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 = 1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dOne(x)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x = " + x)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int addOne(int x)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x + 1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886200" y="3048120"/>
            <a:ext cx="152280" cy="457200"/>
          </a:xfrm>
          <a:custGeom>
            <a:avLst/>
            <a:gdLst>
              <a:gd name="textAreaLeft" fmla="*/ 0 w 152280"/>
              <a:gd name="textAreaRight" fmla="*/ 5508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3733920" y="3908520"/>
            <a:ext cx="152280" cy="457200"/>
          </a:xfrm>
          <a:custGeom>
            <a:avLst/>
            <a:gdLst>
              <a:gd name="textAreaLeft" fmla="*/ 0 w 152280"/>
              <a:gd name="textAreaRight" fmla="*/ 5508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physics, th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isplacemen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a moving body represents its change in position over time while accelerat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iven initial velocit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m/s, acceleratio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m/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d elapsed tim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s, the displacement of the body 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placement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 ½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place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accept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computes and returns the change in posi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placement(3.0, 4.0, 5.0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5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ercise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displacement(double v0, double a, double 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d = v0 * t + 0.5 * a * Math.pow(t, 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d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you drop two balls, which will hit the ground firs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ll 1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ight of 600m, initial velocity = 25 m/sec downw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ll 2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ight of 500m, initial velocity = 15 m/sec downw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determines how long each ball takes to hit the ground (and draws each ball falling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tal time is based on the force of gravity on each bal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leration due to gravity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≅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9.81 m/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downw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placement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 ½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's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Math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219320"/>
          <a:ext cx="6643800" cy="4911480"/>
        </p:xfrm>
        <a:graphic>
          <a:graphicData uri="http://schemas.openxmlformats.org/drawingml/2006/table">
            <a:tbl>
              <a:tblPr/>
              <a:tblGrid>
                <a:gridCol w="3083040"/>
                <a:gridCol w="356076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172200" y="4952880"/>
          <a:ext cx="2771640" cy="100656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all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imulates the dropping of two balls from various height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alls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final static int PANEL_HEIGHT = 60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final static int PANEL_WIDTH = 60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ingPanel panel = new DrawingPanel(PANEL_WIDTH, PANEL_HEIGHT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ball1x = 100,  initialBall1y = 600,  v01 = 25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ball2x = 200,  initialBall2y = 500,  v02 = 15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/ draw the balls at each time incremen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double t = 0; t &lt;= 10.0; t = t + 0.1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height1 = initialBall1y - displacement(v01, 9.81, t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.fillOval(ball1x, PANEL_HEIGHT - (int)height1, 10, 10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height2 = initialBall2y - displacement(v02, 9.81, t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.fillOval(ball2x, PANEL_HEIGHT - (int)height2, 10, 10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anel.sleep(50)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ause for 50 m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anel.clear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o output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mply calling these methods produces no visible resul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TestMath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th.pow(3, 4);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Courier New"/>
              </a:rPr>
              <a:t>// no outpu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o output!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h method calls use a feature calle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turn valu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cause them to be treated as express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gram runs the method, computes the answer, and then "replaces" the call with its computed result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pow(3, 4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no outpu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1.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no out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see the result, we must print it or store it in a vari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uble result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ath.pow(3, 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81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914400" y="3440160"/>
            <a:ext cx="2209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o send out a value as the result of a meth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posite of a param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meters send informatio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om the caller to the metho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turn values send informatio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om a method to its call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lnSpc>
                <a:spcPct val="110000"/>
              </a:lnSpc>
              <a:spcBef>
                <a:spcPts val="425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 call to the method can be used as part of an express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2144880" y="3581280"/>
            <a:ext cx="4904640" cy="2431080"/>
            <a:chOff x="2144880" y="3581280"/>
            <a:chExt cx="4904640" cy="2431080"/>
          </a:xfrm>
        </p:grpSpPr>
        <p:sp>
          <p:nvSpPr>
            <p:cNvPr id="111" name="Text Box 5"/>
            <p:cNvSpPr/>
            <p:nvPr/>
          </p:nvSpPr>
          <p:spPr>
            <a:xfrm>
              <a:off x="2144880" y="44578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Line 6"/>
            <p:cNvSpPr/>
            <p:nvPr/>
          </p:nvSpPr>
          <p:spPr>
            <a:xfrm flipV="1">
              <a:off x="2966760" y="3660480"/>
              <a:ext cx="14475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Text Box 7"/>
            <p:cNvSpPr/>
            <p:nvPr/>
          </p:nvSpPr>
          <p:spPr>
            <a:xfrm>
              <a:off x="4430520" y="3581280"/>
              <a:ext cx="2161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abs(-42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3236400" y="3645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Line 9"/>
            <p:cNvSpPr/>
            <p:nvPr/>
          </p:nvSpPr>
          <p:spPr>
            <a:xfrm>
              <a:off x="2939760" y="4856040"/>
              <a:ext cx="147456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4430520" y="561348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 flipH="1" flipV="1">
              <a:off x="2890800" y="4952880"/>
              <a:ext cx="152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Text Box 12"/>
            <p:cNvSpPr/>
            <p:nvPr/>
          </p:nvSpPr>
          <p:spPr>
            <a:xfrm>
              <a:off x="3673080" y="4879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H="1">
              <a:off x="3119040" y="3965400"/>
              <a:ext cx="129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14"/>
            <p:cNvSpPr/>
            <p:nvPr/>
          </p:nvSpPr>
          <p:spPr>
            <a:xfrm>
              <a:off x="3790440" y="41781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Text Box 15"/>
            <p:cNvSpPr/>
            <p:nvPr/>
          </p:nvSpPr>
          <p:spPr>
            <a:xfrm>
              <a:off x="3409560" y="5397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y return and not print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might seem more useful for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s to print their results rather than returning them.  Why don't they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: Returning is more flexible than print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compute several things before print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pow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th.pow(3, 4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pow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th.pow(10, 6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owers are " + pow1 + " and " + pow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combine the results of many comput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k = 13 *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th.pow(3, 4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5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th.sqrt(17.8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Math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aluate the following express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abs(-1.2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pow(3,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pow(10, -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sqrt(121.0) - Math.sqrt(256.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round(Math.PI) + Math.round(Math.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ceil(6.022) + Math.floor(15.999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abs(Math.min(-3, -5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m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be used to bound nu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riable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tatement would replace negative ages with 0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tatement would cap the maximum age to 40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compatible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s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other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yp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Math.pow(10, 3);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incompatible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f you wanted to stor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riable? (maybe you don’t care about the decimal par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cast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 ca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conversion from one type to ano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promote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o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get exact division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runca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rom a real number to an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9 / 5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pow(10, 3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Benson Limketkai</cp:lastModifiedBy>
  <cp:lastPrinted>2011-10-13T16:27:35Z</cp:lastPrinted>
  <dcterms:modified xsi:type="dcterms:W3CDTF">2014-04-21T15:13:49Z</dcterms:modified>
  <cp:revision>1331</cp:revision>
  <dc:subject/>
  <dc:title>Building Java Programs</dc:title>
</cp:coreProperties>
</file>