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DFEA-C632-4CED-9B81-7FB60E4438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AF5C-6A62-496B-B8C0-BA4C588F70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CDDF-674D-44EE-998D-FA3BF1BA4C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C761-A4AB-4DCE-A7A3-4BA74F3B2C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67F1-69DC-43F1-AE3B-ECE632C3DF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35BF-0998-4ACB-B529-20994AE10B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1BC7-BDD6-48F9-807B-99528F37EC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A944-116B-440D-A414-D9CDD8B539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42094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3372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9292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8164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9292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8164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7E6C-5F04-4F44-95F4-2D6B732C73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39E4-A84E-4145-8A4E-2A9D51563D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9852-DED0-405A-BCB3-7158AE7FA3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4A41-9C1F-4C5D-96E8-7166ADF5B9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96D1-9919-4D99-8510-36B3EB151E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628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4CB8-7645-4CE9-9878-BB7E89F00B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F9CE-A6EF-4725-BC07-6BF1333A7A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372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3DBC-13E2-483B-B6D3-1E88FC3CFB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2F12-BED6-43AE-A435-8E9E6E818F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560" y="42094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7D19-D1A8-49B1-A654-29FFBC3B15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372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93F3-115A-4E49-9158-8C05AFABAE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292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8164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56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292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8164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1DB6-4CBD-49DF-A710-FA0483D72A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628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3372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0"/>
            <a:ext cx="9162720" cy="81900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267080" y="0"/>
            <a:ext cx="4876920" cy="41580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" name="Group 1"/>
          <p:cNvGrpSpPr/>
          <p:nvPr/>
        </p:nvGrpSpPr>
        <p:grpSpPr>
          <a:xfrm>
            <a:off x="0" y="219240"/>
            <a:ext cx="9159840" cy="390240"/>
            <a:chOff x="0" y="219240"/>
            <a:chExt cx="9159840" cy="390240"/>
          </a:xfrm>
        </p:grpSpPr>
        <p:grpSp>
          <p:nvGrpSpPr>
            <p:cNvPr id="5" name="Freeform 11"/>
            <p:cNvGrpSpPr/>
            <p:nvPr/>
          </p:nvGrpSpPr>
          <p:grpSpPr>
            <a:xfrm>
              <a:off x="0" y="219240"/>
              <a:ext cx="9159840" cy="390240"/>
              <a:chOff x="0" y="219240"/>
              <a:chExt cx="9159840" cy="39024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0080" y="219240"/>
                <a:ext cx="9149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 rot="21435600">
                <a:off x="0" y="432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" name="Freeform 12"/>
            <p:cNvGrpSpPr/>
            <p:nvPr/>
          </p:nvGrpSpPr>
          <p:grpSpPr>
            <a:xfrm>
              <a:off x="5760" y="219240"/>
              <a:ext cx="9154080" cy="361080"/>
              <a:chOff x="5760" y="219240"/>
              <a:chExt cx="9154080" cy="36108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0" y="219240"/>
                <a:ext cx="914184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5760" y="432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1060-34A3-4BBE-81BE-DD09744FE545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9"/>
          <p:cNvSpPr/>
          <p:nvPr/>
        </p:nvSpPr>
        <p:spPr>
          <a:xfrm>
            <a:off x="-9360" y="0"/>
            <a:ext cx="9162720" cy="81900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Freeform 10"/>
          <p:cNvSpPr/>
          <p:nvPr/>
        </p:nvSpPr>
        <p:spPr>
          <a:xfrm>
            <a:off x="4267080" y="0"/>
            <a:ext cx="4876920" cy="41580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Group 1"/>
          <p:cNvGrpSpPr/>
          <p:nvPr/>
        </p:nvGrpSpPr>
        <p:grpSpPr>
          <a:xfrm>
            <a:off x="0" y="219240"/>
            <a:ext cx="9159840" cy="390240"/>
            <a:chOff x="0" y="219240"/>
            <a:chExt cx="9159840" cy="390240"/>
          </a:xfrm>
        </p:grpSpPr>
        <p:grpSp>
          <p:nvGrpSpPr>
            <p:cNvPr id="51" name="Freeform 14"/>
            <p:cNvGrpSpPr/>
            <p:nvPr/>
          </p:nvGrpSpPr>
          <p:grpSpPr>
            <a:xfrm>
              <a:off x="0" y="219240"/>
              <a:ext cx="9159840" cy="390240"/>
              <a:chOff x="0" y="219240"/>
              <a:chExt cx="9159840" cy="390240"/>
            </a:xfrm>
          </p:grpSpPr>
          <p:pic>
            <p:nvPicPr>
              <p:cNvPr id="52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0080" y="219240"/>
                <a:ext cx="9149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0" y="432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4" name="Freeform 15"/>
            <p:cNvGrpSpPr/>
            <p:nvPr/>
          </p:nvGrpSpPr>
          <p:grpSpPr>
            <a:xfrm>
              <a:off x="5760" y="219240"/>
              <a:ext cx="9154080" cy="361080"/>
              <a:chOff x="5760" y="219240"/>
              <a:chExt cx="9154080" cy="361080"/>
            </a:xfrm>
          </p:grpSpPr>
          <p:pic>
            <p:nvPicPr>
              <p:cNvPr id="55" name="Freeform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0" y="219240"/>
                <a:ext cx="914184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5760" y="432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8942-9548-49CB-95AE-325CED511248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.njit.edu/~kevin/rgb.txt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h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ding: Supplement 3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aking your own col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e colors using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d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en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ue (RGB) values of 0-25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red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green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blue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 of RGB colors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Courier New"/>
                <a:hlinkClick r:id="rId1"/>
              </a:rPr>
              <a:t>http://web.njit.edu/~kevin/rgb.txt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ing col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s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equent shapes will be drawn in the new col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ss a col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verall window background color will chan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7620120" y="2438280"/>
            <a:ext cx="1307880" cy="1629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2"/>
          <a:stretch/>
        </p:blipFill>
        <p:spPr>
          <a:xfrm>
            <a:off x="7607160" y="5076720"/>
            <a:ext cx="13082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lined sha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raw a colored shape with an outline, firs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fil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raw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ame shape in the outline col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draw_outline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uperimposing sha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≥ 2 shapes occupy the same pixels, the last drawn "wins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r bod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hee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ind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with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xpressions can use the loop counter variab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sted loops can be used with graphic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Zero-base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ginning at 0 and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make coordinates easi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: Write a variation of the abo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 that draws the output at righ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ottom-left rectangle is at (11, 9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7391520" y="2209680"/>
            <a:ext cx="1542960" cy="1981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2"/>
          <a:stretch/>
        </p:blipFill>
        <p:spPr>
          <a:xfrm>
            <a:off x="7391520" y="4495680"/>
            <a:ext cx="154296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imation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 the following program to draw a "moving" c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r bod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hee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ind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ed fig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car-drawing method so that it can draw cars at different positions, as in the following im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-left corners: (10, 30), (150, 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 the drawing panel's size to 260x100 to f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532240" cy="16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with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raw in a method, you must pas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to the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wise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out of scope and cannot be us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(declaration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Graphics g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(call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g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alue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ed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3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6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Car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, 10, 3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Car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, 150,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Car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raphics g, int x, int 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, 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100,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 + 10, y + 4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 + 70, y + 4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 + 70, y +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3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532240" cy="16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bjects (briefly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entity that contains data and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s inside th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hods inside th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interact with the method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ata is hidden in the obje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yp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objec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ng (creating) an objec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ing an object's metho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6" descr="object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book figur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draws the following figur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ing panel is size 200x1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ok is at (20, 35), size 100x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yan backgr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te "BJP" text at position (70, 5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irs are (red=191, green=118, blue=7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stair is 9px t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st stair is 10px w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nd stair is 20px wide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irs are 10px apart (1 blank pixel betwe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7162920" y="2438280"/>
            <a:ext cx="987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book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Java book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Java book program so that it can draw books at differen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ositio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s shown bel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ok top/left positions: (20, 35), (150, 70), (300, 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ing panel's new size: 450x1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book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books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sizable Java book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Java book program so that it can draw books at differen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iz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s shown bel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ok sizes: 100x100,  60x60,  200x2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ing panel's new size: 520x24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sizable book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sizable solution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olyg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Objects that represent arbitrary sha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point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using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rawingPanel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rases any shapes that are drawn on the drawing pane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the drawing panel's size to the given value(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il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ves the image on the panel to the given file (String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llisecond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uses the drawing for the given number of millisecon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will draw graphics in Java using 3 kinds of objec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window on the scre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part of Java; provided by the authors.  See class web si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"pen" to draw shape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lines on a wind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olors in which to draw shap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imation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lee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pauses your program for a given number of millisecon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create simple anim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anel.sleep(5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y add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mands to loops in past exercises in this chapter and watch the panel draw itself piece by pie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imation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 the previous program to draw a "moving" animated c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511440" y="2971800"/>
            <a:ext cx="2051280" cy="1703520"/>
          </a:xfrm>
          <a:prstGeom prst="rect">
            <a:avLst/>
          </a:prstGeom>
          <a:ln w="0">
            <a:noFill/>
          </a:ln>
        </p:spPr>
      </p:pic>
      <p:sp>
        <p:nvSpPr>
          <p:cNvPr id="193" name="Line 5"/>
          <p:cNvSpPr/>
          <p:nvPr/>
        </p:nvSpPr>
        <p:spPr>
          <a:xfrm>
            <a:off x="4800600" y="4065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rawingPanel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Canvas" objects that represents windows/drawing surfa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create a wind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igh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429000" y="411336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asel2"/>
          <p:cNvPicPr/>
          <p:nvPr/>
        </p:nvPicPr>
        <p:blipFill>
          <a:blip r:embed="rId2"/>
          <a:stretch/>
        </p:blipFill>
        <p:spPr>
          <a:xfrm>
            <a:off x="8283600" y="380880"/>
            <a:ext cx="71604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Graphic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Pen" or "paint brush" objects to draw lines and sha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ss it by 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you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w shapes by calling method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486400" y="365760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paintbrush"/>
          <p:cNvPicPr/>
          <p:nvPr/>
        </p:nvPicPr>
        <p:blipFill>
          <a:blip r:embed="rId2"/>
          <a:stretch/>
        </p:blipFill>
        <p:spPr>
          <a:xfrm>
            <a:off x="8175600" y="304920"/>
            <a:ext cx="81612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class libraries, impor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ava class librari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lasses included with the JDK (Java Development Kit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ed into groups nam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ack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use a package, put 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mport declar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your progr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ckag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longs to a packag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you must place the above line at the very top of your program, befor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ea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ordinate syst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(x, y) position is 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ix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("picture element"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ition (0, 0) is at the window's top-left corn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 increases rightward and the y increas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ownwa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ctangle from (0, 0) to (200, 100) looks like thi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0, 0)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200, 10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447920" y="4191120"/>
            <a:ext cx="1371600" cy="914400"/>
            <a:chOff x="1447920" y="4191120"/>
            <a:chExt cx="1371600" cy="914400"/>
          </a:xfrm>
        </p:grpSpPr>
        <p:sp>
          <p:nvSpPr>
            <p:cNvPr id="124" name="Rectangle 5"/>
            <p:cNvSpPr/>
            <p:nvPr/>
          </p:nvSpPr>
          <p:spPr>
            <a:xfrm>
              <a:off x="1524240" y="42674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Line 6"/>
            <p:cNvSpPr/>
            <p:nvPr/>
          </p:nvSpPr>
          <p:spPr>
            <a:xfrm>
              <a:off x="1524240" y="41911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7"/>
            <p:cNvSpPr/>
            <p:nvPr/>
          </p:nvSpPr>
          <p:spPr>
            <a:xfrm>
              <a:off x="1447920" y="42674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s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280" y="1587600"/>
          <a:ext cx="8839440" cy="4282920"/>
        </p:xfrm>
        <a:graphic>
          <a:graphicData uri="http://schemas.openxmlformats.org/drawingml/2006/table">
            <a:tbl>
              <a:tblPr/>
              <a:tblGrid>
                <a:gridCol w="4114800"/>
                <a:gridCol w="4724640"/>
              </a:tblGrid>
              <a:tr h="37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of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 with bottom-left at 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ol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ecified as predefin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lass constan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one of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lor.MAGEN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839880" cy="82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Benson Limketkai</cp:lastModifiedBy>
  <cp:lastPrinted>2009-04-22T19:24:48Z</cp:lastPrinted>
  <dcterms:modified xsi:type="dcterms:W3CDTF">2014-04-05T22:59:29Z</dcterms:modified>
  <cp:revision>1247</cp:revision>
  <dc:subject/>
  <dc:title>Building Java Programs</dc:title>
</cp:coreProperties>
</file>