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B4F2-03A4-481B-AE28-0FC64D84D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25A5-C8C2-4C27-9051-BFC63C8F3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595F-5952-440B-8897-450EA7DD81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D1A0-F503-4929-B22F-D1DBCB7CA9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49B9-DA6A-40A7-9A48-A8949C6125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4685-5A20-4032-9F4C-B331C12B54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807F-7D30-4725-BC2B-3E577CE543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CFC1-5DA4-427A-8045-96C269E143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5CB5-789D-4CFB-8574-FE315404C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B47C-179E-4387-810D-DB0B814531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5D67-EBFA-42AC-9B30-442414576C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BE98-E06B-497D-876F-C13727CE5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1F0D-040A-43BF-A9FC-A65FB7B2C7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7879-4B4C-490F-ACA4-52E70283F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4CFE-2449-4440-BD13-91CC457572CA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D937-DB33-450C-977E-890F479E22B3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1: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w parameters are pass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method is call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stored into the parameter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's code executes using that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think I can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47" name="Line 5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50" name="Rectangle 8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 method accepts a parameter, it is illegal to call it without passing any value for tha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value passed to a method must be of the correct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Chang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a parameterized method for drawing lines of st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can accept multiple parameters (separat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alling it, you must pass values for each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41760" y="2935440"/>
            <a:ext cx="2878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draw boxes with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222200" y="4995720"/>
            <a:ext cx="15224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220760" y="3201840"/>
            <a:ext cx="1430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76880" y="2879640"/>
            <a:ext cx="72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When primitive variables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are passed as parameters, their values are copi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parameter will not affect the variable passed 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730520" y="3595680"/>
            <a:ext cx="2423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30520" y="3032280"/>
            <a:ext cx="2423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A "Parameter Mystery" proble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4916520" y="4314960"/>
            <a:ext cx="2590920" cy="609480"/>
            <a:chOff x="4916520" y="4314960"/>
            <a:chExt cx="2590920" cy="609480"/>
          </a:xfrm>
        </p:grpSpPr>
        <p:sp>
          <p:nvSpPr>
            <p:cNvPr id="176" name="Rectangle 7"/>
            <p:cNvSpPr/>
            <p:nvPr/>
          </p:nvSpPr>
          <p:spPr>
            <a:xfrm>
              <a:off x="491652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590724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6897600" y="431496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 (resulting in String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reci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z.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4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z.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446800" y="3216240"/>
            <a:ext cx="1735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Helen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He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string parameters. Us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 string many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reci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808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1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z.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that distinguishes similar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printing the following lines/box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redundan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code is redunda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ould variables help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ould constants hel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is a better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line of any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box of any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20" name="Text Box 5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8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Text Box 14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15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7566120" y="4359240"/>
            <a:ext cx="619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419800" y="4024440"/>
            <a:ext cx="1243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ing a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tating that a method requires a parameter in order to r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called, the caller must specif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ger code to pr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133800" y="3849840"/>
            <a:ext cx="788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144960" y="3546360"/>
            <a:ext cx="311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a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lling a method and specifying values for its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98520" y="2217600"/>
            <a:ext cx="13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489560" y="3433680"/>
            <a:ext cx="795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498920" y="3141720"/>
            <a:ext cx="139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an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arameter can guide the number of repetitions of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think I can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think I can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think I can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think I can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Benson Limketkai</cp:lastModifiedBy>
  <cp:lastPrinted>2010-04-09T19:32:39Z</cp:lastPrinted>
  <dcterms:modified xsi:type="dcterms:W3CDTF">2014-04-05T22:50:10Z</dcterms:modified>
  <cp:revision>1286</cp:revision>
  <dc:subject/>
  <dc:title>Building Java Programs</dc:title>
</cp:coreProperties>
</file>