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555-C240-47AB-B59C-341B5248A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DC5-4571-4692-ADFE-04E3F2E6B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750-8621-47B1-AD3F-D73558E50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923-A6D7-40EE-8332-C673B7575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3D0E-429C-46AB-B859-3E245D3761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5E34-76D1-49D8-A151-0CC7BFD87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CE73-EFAF-418A-9E2E-9C8DF76F4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15E3-080A-41CB-96FE-5431D3BE8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EA03-E606-4B70-A5FB-FEC3E389F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ABAA-9EDE-4033-9265-77DB9010E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3230-97D9-4CAF-B57A-13AEB0566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5E29-4B3F-4206-9F52-E2B6657EB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13FE-C993-474C-9F1D-FEECDF0FF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7C68-9439-4FAA-9DE2-47C04E549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1AA9-3C4B-4BF9-83CB-761049E6C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BFE8-C6B0-4D06-B9F3-D44FBE85D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87CA-A03F-4B47-A826-FDB4AA079D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F279-B193-4FC0-9837-9D14219EDD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E36E-3322-49D5-9674-7F68E4D135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143B-2508-40FF-AC8B-F26AA83CA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" name="Freeform 11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" name="Freeform 12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A5BC-FC98-4691-A6F1-38B6D02D37D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9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1" name="Freeform 14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52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" name="Freeform 15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55" name="Freeform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34A-670D-4010-8CB6-DBFA6E8435C3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njit.edu/~kevin/rgb.tx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ing: Supplement 3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king your own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colors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of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 of RGB colors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Courier New"/>
                <a:hlinkClick r:id="rId1"/>
              </a:rPr>
              <a:t>http://web.njit.edu/~kevin/rgb.tx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col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620120" y="2438280"/>
            <a:ext cx="1307880" cy="16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7607160" y="5076720"/>
            <a:ext cx="1308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lined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a colored shape with an outline, firs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i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ra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me shape in the outline col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draw_outline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perimposing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pressions can use the loop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sted loops can be used with graphic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Zero-bas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ginning at 0 and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make coordinates easi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variation of the ab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hat draws the output at r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ottom-left rectangle is at (11, 9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54296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7391520" y="4495680"/>
            <a:ext cx="1542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following program to draw a "moving"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car-drawing method so that it can draw cars at different positions, as in the following im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corners: (10, 30),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the drawing panel's size to 260x100 to 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in a method, you must pas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the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wis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ut of scope and cannot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declaration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raphics 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call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0, 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50,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raphics g, int x, int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(briefly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ob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fig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raws the following fig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 is size 200x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is at (20, 35), size 100x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an back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te "BJP" text at position (70, 5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(red=191, green=118, blue=7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air is 9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st stair is 10px w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nd stair is 20px wide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10px apart (1 blank pixel betwe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7162920" y="2438280"/>
            <a:ext cx="98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osi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top/left positions: (20, 35), (150, 70), (30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450x1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iz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sizes: 100x100,  60x60,  200x2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520x2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 that represent arbitrary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point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ing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ases any shapes that are drawn on the drawing pan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drawing panel's size to the given value(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ves the image on the panel to the given file (String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llisecond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uses the drawing for the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ll draw graphics in Java using 3 kinds of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indow on the scre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part of Java; provided by the authors.  See class web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"pen" to draw shap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lines on a wind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lors in which to draw sha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pauses your program for a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create simple anim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ad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ands to loops in past exercises in this chapter and watch the panel draw itself piece by pie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previous program to draw a "moving" animated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511440" y="2971800"/>
            <a:ext cx="2051280" cy="170352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>
            <a:off x="4800600" y="40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429000" y="411336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asel2"/>
          <p:cNvPicPr/>
          <p:nvPr/>
        </p:nvPicPr>
        <p:blipFill>
          <a:blip r:embed="rId2"/>
          <a:stretch/>
        </p:blipFill>
        <p:spPr>
          <a:xfrm>
            <a:off x="8283600" y="380880"/>
            <a:ext cx="71604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r "paint brush" objects to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aintbrush"/>
          <p:cNvPicPr/>
          <p:nvPr/>
        </p:nvPicPr>
        <p:blipFill>
          <a:blip r:embed="rId2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the JDK (Java Development Ki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ongs to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very top of your program, 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ordinate syst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(x, y) position is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"picture element"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ition (0, 0) is at the window's top-left corn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increases rightward and the y increa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own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ctangle from (0, 0) to (200, 100) looks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0, 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00, 1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447920" y="4191120"/>
            <a:ext cx="1371600" cy="914400"/>
            <a:chOff x="1447920" y="4191120"/>
            <a:chExt cx="1371600" cy="914400"/>
          </a:xfrm>
        </p:grpSpPr>
        <p:sp>
          <p:nvSpPr>
            <p:cNvPr id="124" name="Rectangle 5"/>
            <p:cNvSpPr/>
            <p:nvPr/>
          </p:nvSpPr>
          <p:spPr>
            <a:xfrm>
              <a:off x="1524240" y="42674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>
              <a:off x="1524240" y="4191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1447920" y="42674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s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587600"/>
          <a:ext cx="8839440" cy="428292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37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fied as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.MAGE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05T22:59:29Z</dcterms:modified>
  <cp:revision>1247</cp:revision>
  <dc:subject/>
  <dc:title>Building Java Programs</dc:title>
</cp:coreProperties>
</file>