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84D7-9811-4E17-987A-A4DB6EE252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EF59-35FA-46C1-A240-E1E3AFD4B6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E465-90E0-486A-9324-29C7DE585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7502-6D78-4FC6-985F-D08ED0D6B9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Footer Placeholder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we print a multiplication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printing each of the following inside the inner loo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(i + " 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(j + " 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((i * j) + " 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DC2F-F2C5-4237-A03F-6176945C86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Footer Placeholder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C132-EEC4-4500-918D-0B92E42DAD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cases produce infinite lo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B446-2605-4E7E-8C80-95316F95AE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related to book exercise 1.10 about printing 1000 copies of "All work and no play makes Jack a dull boy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EB7C-C220-419D-B30C-2E8471FBAD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7F13-8304-400F-981B-C3A3A68F28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54E8-60EE-4BCD-81E4-AF90168804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B835-4442-47A9-BA10-A93C43CF6C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71BC-4259-403C-A011-947D5B2943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1EB96-EB85-4389-8A4C-085C2414D2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3A4E-2817-4AC5-A8F7-D120AD61FD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2DFC-D78D-45D9-B280-B8B3B062B0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5B62-F637-4848-9ABF-5AF6AEFDB3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5EA8-9688-4A72-B701-28311A743C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6B49-4DA6-482B-8767-F80E6263F6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3DDA1-E9F7-41AC-AD95-F56BC33A68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4071-C35C-4034-AD6D-D504717477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3D9D7-F32B-495B-9020-84648A1483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DF99-5C0A-4AE8-B22A-53422497F203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1DAF-7F60-4DC9-8AE4-DE20C2123590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2-2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2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is </a:t>
            </a:r>
            <a:r>
              <a:rPr b="1" lang="en-US" sz="4400" spc="-1" strike="noStrike">
                <a:solidFill>
                  <a:srgbClr val="464646"/>
                </a:solidFill>
                <a:latin typeface="Verdana"/>
              </a:rPr>
              <a:t>NO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loop is a 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control structu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—a syntactic structure that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e execution of other statem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hampoo hair.  Rinse. 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Repeat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.”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petition over a rang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1 squared = " + 1 * 1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2 squared = " + 2 * 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3 squared = " + 3 * 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4 squared = " + 4 * 4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5 squared = " + 5 * 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6 squared = " + 6 * 6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Intuition: "I want to print a line for each number from 1 to 6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6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30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Courier New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Courier New"/>
              </a:rPr>
              <a:t> loop does exactly that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squared = " +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i * 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"For each integ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rom 1 through 6, print ...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forloop"/>
          <p:cNvPicPr/>
          <p:nvPr/>
        </p:nvPicPr>
        <p:blipFill>
          <a:blip r:embed="rId1"/>
          <a:stretch/>
        </p:blipFill>
        <p:spPr>
          <a:xfrm>
            <a:off x="3962520" y="2544840"/>
            <a:ext cx="4724280" cy="3779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op walkthrough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4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 + " squared = " + (i * i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o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squared =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squared =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squared = 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squared = 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oo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2190600" y="10954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a2bf"/>
                </a:solidFill>
                <a:latin typeface="Verdana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4762440" y="27432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a2bf"/>
                </a:solidFill>
                <a:latin typeface="Verdana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3486240" y="10954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Verdana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65760" y="341784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Verdana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4476600" y="10954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3c4a"/>
                </a:solidFill>
                <a:latin typeface="Verdana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6873840" y="48420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3c4a"/>
                </a:solidFill>
                <a:latin typeface="Verdana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914400" y="16239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41b"/>
                </a:solidFill>
                <a:latin typeface="Verdana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6781680" y="40989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41b"/>
                </a:solidFill>
                <a:latin typeface="Verdana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380880" y="22860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Verdana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5334120" y="54291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Verdana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1495440" y="1989000"/>
            <a:ext cx="4648320" cy="60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-line loop bod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+----+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3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\\    /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/    \\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+----+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----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    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    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    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    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    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    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----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4260960" y="1725480"/>
            <a:ext cx="18889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2887560" y="1724040"/>
            <a:ext cx="3733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pressions for count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ighTemp =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ighTemp /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 * 1.8 + 3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putes the Fahrenheit equivalents for -3 degrees Celsius to 2 degrees Celsiu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6.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8.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0.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2.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3.8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5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1531800" y="3016080"/>
            <a:ext cx="2514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ystem.out.prin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ints without moving to a new 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you to print partial messages on the same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ighestTemp =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-3; i &lt;= highestTemp / 2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(i * 1.8 + 32) + " 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6.6  28.4  30.2  32.0  33.8  35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atenate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 "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to separate the numb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4903920" y="2811600"/>
            <a:ext cx="3142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816360" y="2811600"/>
            <a:ext cx="3794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unting dow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n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make the loop count dow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ust sa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stead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-minus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0; i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; 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i + ",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lastoff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end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-minus 10, 9, 8, 7, 6, 5, 4, 3, 2, 1, blastoff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e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Nested loop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2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sted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loop placed inside another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j = 1; j &lt;= 10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outer loop repeats 5 times; the inner one 10 tim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"sets and reps" exercise analo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j = 1; j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**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2011-04-10-09945c81.gif"/>
          <p:cNvPicPr/>
          <p:nvPr/>
        </p:nvPicPr>
        <p:blipFill>
          <a:blip r:embed="rId1"/>
          <a:stretch/>
        </p:blipFill>
        <p:spPr>
          <a:xfrm>
            <a:off x="0" y="1305000"/>
            <a:ext cx="9144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j = 1; j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i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3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44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555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3673440" y="2209680"/>
            <a:ext cx="9907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906800" y="4343400"/>
            <a:ext cx="4273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mon err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th of the following sets of code produc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nfinite loop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j = 1;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i &lt;= 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j = 1; j &lt;= 10;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i++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plex lin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 produce the following output?</a:t>
            </a:r>
            <a:br>
              <a:rPr sz="22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must build multiple complex lines of output us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uter "vertical" loo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 each of the 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ner "horizontal" loop(s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 the patterns within each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714240" y="2390760"/>
            <a:ext cx="1523880" cy="1828440"/>
            <a:chOff x="714240" y="2390760"/>
            <a:chExt cx="1523880" cy="1828440"/>
          </a:xfrm>
        </p:grpSpPr>
        <p:sp>
          <p:nvSpPr>
            <p:cNvPr id="176" name="AutoShape 5"/>
            <p:cNvSpPr/>
            <p:nvPr/>
          </p:nvSpPr>
          <p:spPr>
            <a:xfrm>
              <a:off x="1704600" y="3061080"/>
              <a:ext cx="533520" cy="1158120"/>
            </a:xfrm>
            <a:custGeom>
              <a:avLst/>
              <a:gdLst>
                <a:gd name="textAreaLeft" fmla="*/ 0 w 533520"/>
                <a:gd name="textAreaRight" fmla="*/ 192600 w 533520"/>
                <a:gd name="textAreaTop" fmla="*/ 29880 h 1158120"/>
                <a:gd name="textAreaBottom" fmla="*/ 1128240 h 115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08080"/>
                  </a:solidFill>
                  <a:latin typeface="Verdana"/>
                  <a:ea typeface="Times New Roman"/>
                </a:rPr>
                <a:t>        </a:t>
              </a:r>
              <a:r>
                <a:rPr b="0" i="1" lang="en-US" sz="1800" spc="-1" strike="noStrike">
                  <a:solidFill>
                    <a:srgbClr val="808080"/>
                  </a:solidFill>
                  <a:latin typeface="Verdana"/>
                  <a:ea typeface="Times New Roman"/>
                </a:rPr>
                <a:t>outer loop (loops 5 times because there are 5 lines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AutoShape 6"/>
            <p:cNvSpPr/>
            <p:nvPr/>
          </p:nvSpPr>
          <p:spPr>
            <a:xfrm rot="16200000">
              <a:off x="882000" y="2223000"/>
              <a:ext cx="426240" cy="761760"/>
            </a:xfrm>
            <a:custGeom>
              <a:avLst/>
              <a:gdLst>
                <a:gd name="textAreaLeft" fmla="*/ 0 w 426240"/>
                <a:gd name="textAreaRight" fmla="*/ 153720 w 42624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08080"/>
                  </a:solidFill>
                  <a:latin typeface="Verdana"/>
                  <a:ea typeface="Times New Roman"/>
                </a:rPr>
                <a:t>inner loop (repeated characters on each line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er and inner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rst write the outer loop, from 1 to the number of lin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line = 1; line &lt;= 5; line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w look at the line contents.  Each line has a patter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dots (0 dots on the last line),  then a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ation: the number of dots is related to the line numb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apping loops to numb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count = 1; count &lt;= 5; count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tatement in the body would cause the loop to prin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7 10 13 16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count = 1; count &lt;= 5; count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3 * count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op tab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statement in the body would cause the loop to prin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7 12 17 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see patterns, make a tabl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he numb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time count goes up by 1, the number should go up by 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 * 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oo great by 3, so we subtract 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66680" y="3886200"/>
          <a:ext cx="4280040" cy="2362320"/>
        </p:xfrm>
        <a:graphic>
          <a:graphicData uri="http://schemas.openxmlformats.org/drawingml/2006/table">
            <a:tbl>
              <a:tblPr/>
              <a:tblGrid>
                <a:gridCol w="866880"/>
                <a:gridCol w="2000160"/>
                <a:gridCol w="141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to pr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 * 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354640" y="3889440"/>
          <a:ext cx="2417760" cy="2359080"/>
        </p:xfrm>
        <a:graphic>
          <a:graphicData uri="http://schemas.openxmlformats.org/drawingml/2006/table">
            <a:tbl>
              <a:tblPr/>
              <a:tblGrid>
                <a:gridCol w="241776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urier New"/>
                          <a:ea typeface="Times New Roman"/>
                        </a:rPr>
                        <a:t>5 * count -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op tables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statement in the body would cause the loop to prin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7 13 9 5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t's create the loop table togeth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tim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oes up 1, the number printed should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this multiple is off by a margin of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095480" y="3886200"/>
          <a:ext cx="2867040" cy="2362320"/>
        </p:xfrm>
        <a:graphic>
          <a:graphicData uri="http://schemas.openxmlformats.org/drawingml/2006/table">
            <a:tbl>
              <a:tblPr/>
              <a:tblGrid>
                <a:gridCol w="866520"/>
                <a:gridCol w="2000520"/>
              </a:tblGrid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to pr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3962520" y="3886200"/>
          <a:ext cx="4495680" cy="2362320"/>
        </p:xfrm>
        <a:graphic>
          <a:graphicData uri="http://schemas.openxmlformats.org/drawingml/2006/table">
            <a:tbl>
              <a:tblPr/>
              <a:tblGrid>
                <a:gridCol w="2057400"/>
                <a:gridCol w="2438280"/>
              </a:tblGrid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4 * 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urier New"/>
                          <a:ea typeface="Times New Roman"/>
                        </a:rPr>
                        <a:t>-4 * count + 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3962520" y="3886200"/>
          <a:ext cx="4495680" cy="2362320"/>
        </p:xfrm>
        <a:graphic>
          <a:graphicData uri="http://schemas.openxmlformats.org/drawingml/2006/table">
            <a:tbl>
              <a:tblPr/>
              <a:tblGrid>
                <a:gridCol w="2057400"/>
                <a:gridCol w="2438280"/>
              </a:tblGrid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4 * 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3962520" y="3886200"/>
          <a:ext cx="4495680" cy="2362320"/>
        </p:xfrm>
        <a:graphic>
          <a:graphicData uri="http://schemas.openxmlformats.org/drawingml/2006/table">
            <a:tbl>
              <a:tblPr/>
              <a:tblGrid>
                <a:gridCol w="2057400"/>
                <a:gridCol w="2438280"/>
              </a:tblGrid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43956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other view: Slope-intercep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240" y="13716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next three slides present the mathematical basis for the loop tables.  Feel free to skip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Object 2"/>
          <p:cNvGraphicFramePr/>
          <p:nvPr/>
        </p:nvGraphicFramePr>
        <p:xfrm>
          <a:off x="609480" y="2833560"/>
          <a:ext cx="3581640" cy="257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833560"/>
                    <a:ext cx="358164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419720" y="2743200"/>
          <a:ext cx="4267080" cy="2743200"/>
        </p:xfrm>
        <a:graphic>
          <a:graphicData uri="http://schemas.openxmlformats.org/drawingml/2006/table">
            <a:tbl>
              <a:tblPr/>
              <a:tblGrid>
                <a:gridCol w="1931760"/>
                <a:gridCol w="233532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unt (x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to print (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43956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other view: Slope-intercep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Caution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: This is algebra, not assignment!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call: slope-intercept form (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y = mx + 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ope is defined as </a:t>
            </a:r>
            <a:r>
              <a:rPr b="0" lang="ja-JP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ise over run</a:t>
            </a:r>
            <a:r>
              <a:rPr b="0" lang="ja-JP" sz="19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(i.e. rise / run).  Since the </a:t>
            </a:r>
            <a:r>
              <a:rPr b="0" lang="ja-JP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un</a:t>
            </a:r>
            <a:r>
              <a:rPr b="0" lang="ja-JP" sz="19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is always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(we increment along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by 1), we just need to look at the </a:t>
            </a:r>
            <a:r>
              <a:rPr b="0" lang="ja-JP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ise</a:t>
            </a:r>
            <a:r>
              <a:rPr b="0" lang="ja-JP" sz="19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.  The rise is the difference between the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values.  Thus, the slope (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 is the difference between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values; in this case, it is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+5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compute the y-intercept (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, plug in the value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at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x = 1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and solve for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.  In this case,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y = 2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y = m * x + 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2 = 5 * 1 + 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n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b = -3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 the equation 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y = m * x + 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y = 5 * x – 3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y = 5 * count - 3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724280" y="4154400"/>
          <a:ext cx="4038840" cy="2170080"/>
        </p:xfrm>
        <a:graphic>
          <a:graphicData uri="http://schemas.openxmlformats.org/drawingml/2006/table">
            <a:tbl>
              <a:tblPr/>
              <a:tblGrid>
                <a:gridCol w="1828800"/>
                <a:gridCol w="2210040"/>
              </a:tblGrid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unt (x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to print (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3956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other view: Slope-intercep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ebraically, if we always take the valu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we can solve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 follow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m * x + 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 m * 1 + 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m + 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 = 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– m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other words, to ge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, just subtract the slope from the fir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value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= 2 – 5 = -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gets us the equ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m * x + 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5 * x – 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5 * count – 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which is exactly the equation from the previous slid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petition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 far, repeating a statement is redundan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System.out.println("Homer says: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System.out.println("I am so smar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System.out.println("I am so smar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System.out.println("I am so smar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System.out.println("I am so smar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-M-R-T... I mean S-M-A-R-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ava'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tatement performs a task many tim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Homer says: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for (int i = 1; i &lt;= 4; i++) 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peat 4 ti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ln("I am so smar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-M-R-T... I mean S-M-A-R-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a table to represent any patterns on each lin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print a character multiple times,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4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."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4 do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362320" y="1996920"/>
          <a:ext cx="1973160" cy="2197080"/>
        </p:xfrm>
        <a:graphic>
          <a:graphicData uri="http://schemas.openxmlformats.org/drawingml/2006/table">
            <a:tbl>
              <a:tblPr/>
              <a:tblGrid>
                <a:gridCol w="730080"/>
                <a:gridCol w="12430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# of do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343400" y="2000160"/>
          <a:ext cx="2019240" cy="2193840"/>
        </p:xfrm>
        <a:graphic>
          <a:graphicData uri="http://schemas.openxmlformats.org/drawingml/2006/table">
            <a:tbl>
              <a:tblPr/>
              <a:tblGrid>
                <a:gridCol w="2019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Courier New"/>
                          <a:ea typeface="Times New Roman"/>
                        </a:rPr>
                        <a:t>-1 * 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375240" y="2000160"/>
          <a:ext cx="2019600" cy="2193840"/>
        </p:xfrm>
        <a:graphic>
          <a:graphicData uri="http://schemas.openxmlformats.org/drawingml/2006/table">
            <a:tbl>
              <a:tblPr/>
              <a:tblGrid>
                <a:gridCol w="2019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Courier New"/>
                          <a:ea typeface="Times New Roman"/>
                        </a:rPr>
                        <a:t>-1 * line +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4343400" y="2000160"/>
          <a:ext cx="2019240" cy="2193840"/>
        </p:xfrm>
        <a:graphic>
          <a:graphicData uri="http://schemas.openxmlformats.org/drawingml/2006/table">
            <a:tbl>
              <a:tblPr/>
              <a:tblGrid>
                <a:gridCol w="2019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6362640" y="2000160"/>
          <a:ext cx="2019240" cy="2193840"/>
        </p:xfrm>
        <a:graphic>
          <a:graphicData uri="http://schemas.openxmlformats.org/drawingml/2006/table">
            <a:tbl>
              <a:tblPr/>
              <a:tblGrid>
                <a:gridCol w="2019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4200480" y="3003480"/>
            <a:ext cx="6094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552920" y="2089080"/>
            <a:ext cx="22096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line = 1; line &lt;= 5; line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-1 * line + 5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line = 1; line &lt;= 5; line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(-1 * line + 5)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 = 1; k &lt;= line; k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lin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3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44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555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previous code to produce this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.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5; line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j = 1; j &lt;= (-1 * line + 5)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n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j = 1; j &lt;= (line - 1)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syntax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itializa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itializ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eat the follow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ck if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true.  If not, sto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ecute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orm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6781680" y="1403280"/>
            <a:ext cx="457200" cy="1904760"/>
            <a:chOff x="6781680" y="1403280"/>
            <a:chExt cx="457200" cy="1904760"/>
          </a:xfrm>
        </p:grpSpPr>
        <p:sp>
          <p:nvSpPr>
            <p:cNvPr id="113" name="AutoShape 5"/>
            <p:cNvSpPr/>
            <p:nvPr/>
          </p:nvSpPr>
          <p:spPr>
            <a:xfrm>
              <a:off x="6781680" y="1922760"/>
              <a:ext cx="457200" cy="13852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36000 h 1385280"/>
                <a:gd name="textAreaBottom" fmla="*/ 1349280 h 138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od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AutoShape 6"/>
            <p:cNvSpPr/>
            <p:nvPr/>
          </p:nvSpPr>
          <p:spPr>
            <a:xfrm>
              <a:off x="6781680" y="1403280"/>
              <a:ext cx="457200" cy="4327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1160 h 432720"/>
                <a:gd name="textAreaBottom" fmla="*/ 421560 h 43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eader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trol struct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trol structu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programming construct that affects the flow of a program's execu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code may include one or more state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for loop is an example of a looping control stru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716120" y="1379520"/>
            <a:ext cx="1376280" cy="273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itializatio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 =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 &lt;= 4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am so smar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ls Java what variable to use in the loo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riable is called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oop coun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 use any name, not jus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 start at any value, not jus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y valid in the loo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ed once as the loop begi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3386160" y="1379520"/>
            <a:ext cx="9349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es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&lt;= 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am so smar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sts the loop counter variable against a limi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s comparison operato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less th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less than or equal 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greater th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greater than or equal 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770040" y="5073480"/>
            <a:ext cx="7905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779400" y="4043520"/>
            <a:ext cx="4492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crement and decreme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hortcuts to increase or decrease a variable's value by 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horthand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quivalent longer v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++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x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now stores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2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pa--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pa = gpa -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pa now stores 1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odify-and-assign opera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hortcuts to modify a variable's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spcBef>
                <a:spcPts val="400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horthand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quivalent longer v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/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/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%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%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+= 3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x +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pa -= 0.5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pa = gpa - 0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*= 2 + 1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number = number * (2 + 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3886200" y="2133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7T04:29:02Z</dcterms:created>
  <dc:creator>Marty Stepp</dc:creator>
  <dc:description/>
  <dc:language>en-US</dc:language>
  <cp:lastModifiedBy>Benson Limketkai</cp:lastModifiedBy>
  <cp:lastPrinted>2011-10-04T23:10:14Z</cp:lastPrinted>
  <dcterms:modified xsi:type="dcterms:W3CDTF">2014-04-01T13:54:55Z</dcterms:modified>
  <cp:revision>1295</cp:revision>
  <dc:subject/>
  <dc:title>Building Java Programs</dc:title>
</cp:coreProperties>
</file>