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D4D1-44E4-4D63-84B1-C018936F96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2D37-D501-4DD5-9364-B9E2F309C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8DA3-5ED5-4E66-867F-DB334AA263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8 % 20?  It's 8, but students often say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students what 15 % 4 and 8 / 3 are, since the answers are non-obvi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DBF0-00CB-439A-AB07-3E1A5F5226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F90D-F6FB-4F9A-BEF5-A470C6D89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FB56-38C7-444E-8772-E6A060217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8D48-20D3-4061-9B84-1B4B4A7467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6AE8-D99C-4CC6-B8F8-99DCC1C084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374F-93C0-4495-8352-B1DD4F5D2E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x + 2;     increases the value stored in variable x by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6483-B8F6-425C-8D5D-22BAF31E6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486F-1F2F-423F-91AC-DADE6692A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C732-AC29-4249-8F4A-C22794BDFB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3CA6-24E6-4E58-90F9-36FCBF7938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8427-5527-4B0C-BD29-DB57CDF713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60AC-CA37-457A-84E1-F15720B0B1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603B-7830-490F-9642-2B94D745A3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D544-B1B2-41F8-B26B-56C9C4E4C6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C067-D786-45B0-BEFC-A0AE8C8C6E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FE5E-91AD-423A-83C3-A39A95E382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DA0A-31CC-4CD3-9FCE-9E064CB366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43EB-17D6-40A6-93B6-DCCCE34FCA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3C6A-71DF-4112-9B95-2E4FA35A82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5736-B9B7-44F7-8789-4D6140D868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FFFA-E241-436E-AD57-5D110CB0E7FE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E1A9-CF8A-407A-BB00-4D5155E6D7D0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2-1: Expressions and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2.1 - 2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remainder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%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computes the remainder from integer divi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%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8 %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7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4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4 ) 14              5 ) 2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erat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digit of a number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0857 %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4 digit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58236489 % 1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4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whether a number is odd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095880" y="2006640"/>
            <a:ext cx="28195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is the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 %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%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862280" y="3922560"/>
            <a:ext cx="1106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00120" y="3649680"/>
            <a:ext cx="9367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490760" y="3152880"/>
            <a:ext cx="9903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member PEMDAS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eced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rder in which operators are evalua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ly operators evaluate left-to-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- 2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- 2)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which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ve a higher level of precedence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br>
              <a:rPr sz="2000"/>
            </a:br>
            <a:br>
              <a:rPr sz="8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 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  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heses can force a certain order of evalu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+ 3)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ing does not affect order of evalu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+3 * 4-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* 2 + 3 * 5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+ 3 * 5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00600" y="1752480"/>
            <a:ext cx="4343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+ 8 / 3 * 2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+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* 2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+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values result from the following express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/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95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+ 6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* 6 +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48 % 100 /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* 3 - 9 /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5 - 7) *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(18 % (17 - 12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l numbers (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ub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.02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42.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.143e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ter an integer makes i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perator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all still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oduces an exact answer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.0 / 2.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edence is the sam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befor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befor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l numbe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0 * 2.4 + 2.25 * 4.0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+ 2.25 * 4.0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ision in real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puter internally represents real numbers in an imprecise w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utpu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835360" y="4114800"/>
            <a:ext cx="761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re mixed, the result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.2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version is per-operator, affecting only its opera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 / 3 * 1.2 + 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* 1.2 + 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2.4     +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3.4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44b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/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bove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952880" y="2789280"/>
            <a:ext cx="41911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5 + 10 / 3 * 2.5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5 +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* 2.5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5 +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7.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  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5 +      7.5     -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- 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__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9.0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(not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9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3968640" y="5281560"/>
            <a:ext cx="176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 concaten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 concate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a string and another value to make a longer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" + 4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4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"abc"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abc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1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1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2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9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27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"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1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- 1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n expression's valu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Grade: "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95.1 + 71.9) /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: 8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Verdana"/>
              </a:rPr>
              <a:t>Variables</a:t>
            </a:r>
            <a:endParaRPr b="0" lang="en-US" sz="5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artoon37.png"/>
          <p:cNvPicPr/>
          <p:nvPr/>
        </p:nvPicPr>
        <p:blipFill>
          <a:blip r:embed="rId1"/>
          <a:stretch/>
        </p:blipFill>
        <p:spPr>
          <a:xfrm>
            <a:off x="0" y="1692360"/>
            <a:ext cx="91440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1"/>
          <p:cNvGrpSpPr/>
          <p:nvPr/>
        </p:nvGrpSpPr>
        <p:grpSpPr>
          <a:xfrm>
            <a:off x="4267080" y="2727360"/>
            <a:ext cx="1828800" cy="2254320"/>
            <a:chOff x="4267080" y="2727360"/>
            <a:chExt cx="1828800" cy="2254320"/>
          </a:xfrm>
        </p:grpSpPr>
        <p:sp>
          <p:nvSpPr>
            <p:cNvPr id="155" name="Rectangle 4"/>
            <p:cNvSpPr/>
            <p:nvPr/>
          </p:nvSpPr>
          <p:spPr>
            <a:xfrm>
              <a:off x="4267080" y="2727360"/>
              <a:ext cx="167652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4"/>
            <p:cNvSpPr/>
            <p:nvPr/>
          </p:nvSpPr>
          <p:spPr>
            <a:xfrm>
              <a:off x="4419720" y="3308400"/>
              <a:ext cx="167616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4"/>
            <p:cNvSpPr/>
            <p:nvPr/>
          </p:nvSpPr>
          <p:spPr>
            <a:xfrm>
              <a:off x="4419720" y="377028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>
              <a:off x="4275000" y="4230720"/>
              <a:ext cx="167652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4419720" y="447984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4419720" y="470052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What's bad about the following code?</a:t>
            </a:r>
            <a:br>
              <a:rPr sz="24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public static void main(String[] args) {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// Calculate total owed, assuming 8% tax / 15% tip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Sub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);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ax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08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ip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08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ubtotal express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 is rep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man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iece of the computer's memory that is given a name and type, and can store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preset stations on a car stereo, or cell phone speed di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s for using a variab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tate its name and ty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itializ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tore a value into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print it or use it as part of an expre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066680" y="3162240"/>
            <a:ext cx="4826160" cy="1181160"/>
            <a:chOff x="1066680" y="3162240"/>
            <a:chExt cx="4826160" cy="1181160"/>
          </a:xfrm>
        </p:grpSpPr>
        <p:pic>
          <p:nvPicPr>
            <p:cNvPr id="166" name="Picture 5" descr="car_stereo"/>
            <p:cNvPicPr/>
            <p:nvPr/>
          </p:nvPicPr>
          <p:blipFill>
            <a:blip r:embed="rId1"/>
            <a:srcRect l="0" t="33199" r="0" b="35405"/>
            <a:stretch/>
          </p:blipFill>
          <p:spPr>
            <a:xfrm>
              <a:off x="1066680" y="3162240"/>
              <a:ext cx="48261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val 6"/>
            <p:cNvSpPr/>
            <p:nvPr/>
          </p:nvSpPr>
          <p:spPr>
            <a:xfrm>
              <a:off x="2456280" y="3929400"/>
              <a:ext cx="2258640" cy="36108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8" name="Picture 8" descr=""/>
          <p:cNvPicPr/>
          <p:nvPr/>
        </p:nvPicPr>
        <p:blipFill>
          <a:blip r:embed="rId2"/>
          <a:srcRect l="0" t="0" r="3169" b="0"/>
          <a:stretch/>
        </p:blipFill>
        <p:spPr>
          <a:xfrm>
            <a:off x="6705720" y="2984400"/>
            <a:ext cx="15048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 declar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s aside memory for storing a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must be declare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fore they can be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ipc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myGP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562720" y="3657600"/>
          <a:ext cx="2590560" cy="66024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562720" y="4749840"/>
          <a:ext cx="2590560" cy="66024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905040" y="5021280"/>
            <a:ext cx="29541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887400" y="3989520"/>
            <a:ext cx="11700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sign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Stores a value into a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can be an expression; the variable stores its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zipcod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ipcode = 902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GPA = 1.0 + 2.2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562720" y="3657600"/>
          <a:ext cx="2590560" cy="66024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90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562720" y="4749840"/>
          <a:ext cx="2590560" cy="66024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3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932040" y="5478480"/>
            <a:ext cx="15634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417920" y="3122640"/>
            <a:ext cx="228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324400" y="2654280"/>
            <a:ext cx="228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vari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ce given a value, a variable can be used in expression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assign a value more than on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 + " here"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 her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4 + 7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w x is " + x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w x is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705720" y="4064040"/>
          <a:ext cx="19810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705720" y="4064040"/>
          <a:ext cx="19810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ation/initial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be declared/initialized in on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(11 % 3) +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 = 3.95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562720" y="314964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562720" y="429264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62040" y="5334120"/>
            <a:ext cx="15969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 vs. algebra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us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but it is not an algebraic equ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,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store the value at right in variable at lef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,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become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or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should now stor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= 1 + 2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is an illegal statement,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not a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happens her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2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791320" y="4902120"/>
          <a:ext cx="198108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791320" y="4902120"/>
          <a:ext cx="198108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Java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 and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only store a value of its own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2.5;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ible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 can be stored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is converted into the equivalent real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myGPA = 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y do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o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.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.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791320" y="373392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791320" y="474984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v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iler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't be used until it is assigned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x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x has no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may not declare the same variable twi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;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x already ex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5;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x already ex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can this code be fix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Data and expression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3848040" y="2309760"/>
            <a:ext cx="383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nting a variable's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 variable's value on one l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rade = (95.1 + 71.9 + 82.6) / 3.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Your grade was " + gra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tudents = 11 + 17 + 4 + 19 + 1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ere are " + students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students in the course.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rade was 8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 are 65 students in the cour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Improve the receipt program using variab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0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1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15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0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total = 38 + 40 + 3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subtot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i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ot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computer’s vie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nally, computers store everything as 1’s and 0’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1101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can the computer tell the difference between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4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ategory or set of data val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ains the operations that can be performed on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languages ask the programmer to specify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integer, real number,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primitive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itive typ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8 simple types for numbers, tex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lso h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 typ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hich we'll talk about l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up to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3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- 1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263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numb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up to 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308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0.2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4e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single text character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X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?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\n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logical value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4b9e8"/>
              </a:buClr>
              <a:buSzPct val="85000"/>
              <a:buFont typeface="Verdana"/>
              <a:buChar char="•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does Java distinguish integers vs. real numb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or real number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category is more appropria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dit: Kate Deib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981080"/>
          <a:ext cx="6934320" cy="176400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number 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Group 15"/>
          <p:cNvGrpSpPr/>
          <p:nvPr/>
        </p:nvGrpSpPr>
        <p:grpSpPr>
          <a:xfrm>
            <a:off x="0" y="4114800"/>
            <a:ext cx="9144000" cy="1763640"/>
            <a:chOff x="0" y="4114800"/>
            <a:chExt cx="9144000" cy="1763640"/>
          </a:xfrm>
        </p:grpSpPr>
        <p:sp>
          <p:nvSpPr>
            <p:cNvPr id="118" name="Text Box 16"/>
            <p:cNvSpPr/>
            <p:nvPr/>
          </p:nvSpPr>
          <p:spPr>
            <a:xfrm>
              <a:off x="0" y="4114800"/>
              <a:ext cx="434340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1. Temperature in degrees Celsiu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2. The population of lemming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3. Your grade point average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4. A person's age in year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5. A person's weight in pound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6. A person's height in meter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17"/>
            <p:cNvSpPr/>
            <p:nvPr/>
          </p:nvSpPr>
          <p:spPr>
            <a:xfrm>
              <a:off x="3962520" y="4114800"/>
              <a:ext cx="518148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7. Number of miles traveled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8. Number of dry days in the past month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9. Your locker number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10. Number of seconds left in a game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11. The sum of a group of integer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12. The average of a group of integer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or operation that computes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4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7 + 2) * 6 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, world!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mplest expression is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teral va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x expression can use operators and parenthe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ithmetic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mbines multiple values or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traction (or neg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ulus (a.k.a. remain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a program runs, its expressions ar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valua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aluat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3 * 4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prin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would we print the tex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divis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/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we divide integers, the quotient is also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/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) 14           10 ) 45               27 ) 14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              5                      7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example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2 /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4 /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6 / 1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ng by 0 causes an error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18:17Z</dcterms:created>
  <dc:creator>Marty Stepp</dc:creator>
  <dc:description/>
  <dc:language>en-US</dc:language>
  <cp:lastModifiedBy>Benson Limketkai</cp:lastModifiedBy>
  <cp:lastPrinted>2011-09-30T21:02:58Z</cp:lastPrinted>
  <dcterms:modified xsi:type="dcterms:W3CDTF">2014-04-01T13:33:56Z</dcterms:modified>
  <cp:revision>1285</cp:revision>
  <dc:subject/>
  <dc:title>Building Java Programs</dc:title>
</cp:coreProperties>
</file>