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3C8B-0CBC-47F2-A6E6-5704D871F7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5265-25BB-46FE-99A1-73C4A39166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46F1-2818-43E2-BE10-0C519F061F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B900-DCB6-4BEF-8101-ADCCF38446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B5B7-F790-454E-B702-07998D6AA7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code does not mean worse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05DA-D072-4CA4-8E8A-B21A5E7D39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525C-E513-4618-B30E-D5CF5A10CD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19F3-5218-47D6-88C7-79BF697735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AA25-FA67-46A3-94FE-A2778290B7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7A8D-3B09-4FB5-8A31-6FB483C8FF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47A7-C434-429E-A828-0F93ED7CE1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41BA-1144-4F51-8760-C829EFFC48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8C604-308C-47DB-B391-5F48B03911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9137-E930-49F5-A170-1546E66F77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8CD0A-5F57-46DC-8CF6-F079326237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90628-3A08-42D1-BA45-41823D29DC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6E35-131E-487F-9A3A-462D76BA95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21764-E983-472F-AF50-BA3227E244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AE91-2697-451F-9C19-BD710A7939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64689-E82F-4C40-A9B2-9C7766CAED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DB6E-D99B-4CF3-BBF8-17FBF09479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B25EE-E813-439B-81C9-7B4956FB10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BDFF-19B4-43C5-BF9C-1CB887D855C7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EBC6-50BF-474B-BFCA-3920EE5C1056}" type="slidenum">
              <a: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1-2: Static Metho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1.4 - 1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blems with algorith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lack of structu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Many steps; tough to follo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dundanc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Consider making a double batch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Mix the dry ingredi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Cream the butter and sug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Beat in the eg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Stir in the dry ingredi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Verdana"/>
              </a:rPr>
              <a:t>Set the oven temperatu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Verdana"/>
              </a:rPr>
              <a:t>Set the timer for 10 minu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Verdana"/>
              </a:rPr>
              <a:t>Place the first batch of cookies into the ov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Verdana"/>
              </a:rPr>
              <a:t>Allow the cookies to bak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Set the timer for 10 minu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Place the second batch of cookies into the ov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Allow the cookies to bak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Mix ingredients for fros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Structured algorith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tructured algorithm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Split into coherent task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Make the bat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Mix the dry ingredi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Cream the butter and sug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Beat in the eg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Stir in the dry ingredi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Bake the cook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Set the oven temperatu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Set the timer for 10 minu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Place the cookies into the ov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Allow the cookies to bak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3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Decorate the cook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Mix the ingredients for the fros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Spread frosting and sprinkles onto the cook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moving redundanc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well-structured algorithm can describe repeated tasks with less redundanc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 Make the bat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99"/>
                </a:solidFill>
                <a:uFillTx/>
                <a:latin typeface="Verdana"/>
              </a:rPr>
              <a:t>2a</a:t>
            </a:r>
            <a:r>
              <a:rPr b="0" lang="en-GB" sz="2000" spc="-1" strike="noStrike" u="sng">
                <a:solidFill>
                  <a:srgbClr val="003399"/>
                </a:solidFill>
                <a:uFillTx/>
                <a:latin typeface="Verdana"/>
              </a:rPr>
              <a:t> Bake the cookies (first batch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Set the timer for 10 minu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99"/>
                </a:solidFill>
                <a:uFillTx/>
                <a:latin typeface="Verdana"/>
              </a:rPr>
              <a:t>2b</a:t>
            </a:r>
            <a:r>
              <a:rPr b="0" lang="en-GB" sz="2000" spc="-1" strike="noStrike" u="sng">
                <a:solidFill>
                  <a:srgbClr val="003399"/>
                </a:solidFill>
                <a:uFillTx/>
                <a:latin typeface="Verdana"/>
              </a:rPr>
              <a:t> Bake the cookies (second batch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Repeat Step 2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3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 Decorate the cook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A program with redundanc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 for 10 minute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 for 10 minute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Static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tatic method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named group of statem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notes the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structur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f a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iminates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redundanc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y code re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procedural decompositio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viding a problem into metho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riting a static method is lik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dding a new command to Jav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5943600" y="1928880"/>
            <a:ext cx="3048120" cy="4572000"/>
            <a:chOff x="5943600" y="1928880"/>
            <a:chExt cx="3048120" cy="4572000"/>
          </a:xfrm>
        </p:grpSpPr>
        <p:sp>
          <p:nvSpPr>
            <p:cNvPr id="143" name="Text Box 5"/>
            <p:cNvSpPr/>
            <p:nvPr/>
          </p:nvSpPr>
          <p:spPr>
            <a:xfrm>
              <a:off x="5943600" y="1928880"/>
              <a:ext cx="3048120" cy="4572000"/>
            </a:xfrm>
            <a:prstGeom prst="rect">
              <a:avLst/>
            </a:prstGeom>
            <a:solidFill>
              <a:srgbClr val="f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Text Box 6"/>
            <p:cNvSpPr/>
            <p:nvPr/>
          </p:nvSpPr>
          <p:spPr>
            <a:xfrm>
              <a:off x="6095880" y="233028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A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6095880" y="3833640"/>
              <a:ext cx="2743200" cy="10821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B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6095880" y="499752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C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Using static methods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Design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(think about)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e algorith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ok at the structure, and which commands are repea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cide what are the important overall task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Declar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(write down) the meth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range statements into groups and give each group a na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all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(run) the meth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program'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method executes the other methods to perform the overall tas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Design of an algorith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2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a: Bake cookies (first batch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 for 10 minute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b: Bake cookies (second batch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 for 10 minute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918640" cy="47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Gives your method a name so it can be execu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2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br>
              <a:rPr sz="2200"/>
            </a:br>
            <a:br>
              <a:rPr sz="700"/>
            </a:br>
            <a:br>
              <a:rPr sz="8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spcBef>
                <a:spcPts val="1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br>
              <a:rPr sz="2200"/>
            </a:br>
            <a:br>
              <a:rPr sz="7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printWarning() {</a:t>
            </a:r>
            <a:br>
              <a:rPr sz="20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This product causes cancer");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in lab rats and humans.");</a:t>
            </a:r>
            <a:br>
              <a:rPr sz="19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Declaring a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Calling a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Executes the method's c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You can call the same method many times if you lik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rintWarning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duct causes can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 lab rats and huma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with static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FreshPrinc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(running) the rap metho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the rap method aga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method prints the lyrics to my favorite song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rap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Now this is the story all about how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y life got flipped turned upside-down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foxtrot_java.jpeg"/>
          <p:cNvPicPr/>
          <p:nvPr/>
        </p:nvPicPr>
        <p:blipFill>
          <a:blip r:embed="rId1"/>
          <a:stretch/>
        </p:blipFill>
        <p:spPr>
          <a:xfrm>
            <a:off x="81000" y="1333440"/>
            <a:ext cx="8982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Final cookie progra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3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akeBatter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1st bat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2nd bat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corat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makeBatter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: Bake a batch of cook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bak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timer for 10 minute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decorat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7"/>
          <p:cNvSpPr/>
          <p:nvPr/>
        </p:nvSpPr>
        <p:spPr>
          <a:xfrm>
            <a:off x="457200" y="5257800"/>
            <a:ext cx="3886200" cy="838080"/>
          </a:xfrm>
          <a:prstGeom prst="rect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76440"/>
            <a:ext cx="81532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kes code easier to read by capturing the structure of the progr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hould be a good summary of the progra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nger code doesn’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cessarily mean worse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ummary: Why methods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291636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..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...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..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...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148360" y="4398840"/>
            <a:ext cx="3200400" cy="7178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6335640" y="4170240"/>
            <a:ext cx="1143000" cy="184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5181480" y="3373560"/>
            <a:ext cx="1143000" cy="183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4495680" y="2971800"/>
            <a:ext cx="0" cy="360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5181480" y="3591000"/>
            <a:ext cx="1143000" cy="16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6335640" y="5573880"/>
            <a:ext cx="1143000" cy="183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990720" y="3473280"/>
            <a:ext cx="3200400" cy="7178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990720" y="3267000"/>
            <a:ext cx="3200400" cy="173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990720" y="4224240"/>
            <a:ext cx="3200400" cy="48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5181480" y="3166920"/>
            <a:ext cx="3200400" cy="173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5148360" y="5811840"/>
            <a:ext cx="3200400" cy="48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6840" y="156492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iminate redundan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ummary: Why methods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203472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..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...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990720" y="2525760"/>
            <a:ext cx="3200400" cy="8697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990720" y="3440160"/>
            <a:ext cx="3200400" cy="17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990720" y="3657600"/>
            <a:ext cx="3200400" cy="870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148360" y="4268880"/>
            <a:ext cx="3200400" cy="8697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6335640" y="4038480"/>
            <a:ext cx="1143000" cy="184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181480" y="2525760"/>
            <a:ext cx="1143000" cy="183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5181480" y="2940120"/>
            <a:ext cx="1143000" cy="183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12"/>
          <p:cNvSpPr/>
          <p:nvPr/>
        </p:nvSpPr>
        <p:spPr>
          <a:xfrm>
            <a:off x="4495680" y="2022480"/>
            <a:ext cx="0" cy="380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990720" y="4789440"/>
            <a:ext cx="3200400" cy="870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5181480" y="2733840"/>
            <a:ext cx="3200400" cy="172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990720" y="4572000"/>
            <a:ext cx="3200400" cy="173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181480" y="3157560"/>
            <a:ext cx="3200400" cy="173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5181480" y="3352680"/>
            <a:ext cx="1143000" cy="184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Methods calling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1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1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2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2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essage2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6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essage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ai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en a method is called, the program's execution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"jumps" into that method, executing its statements, 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"jumps" back to the point where the method was call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2743200" y="3244680"/>
            <a:ext cx="6324480" cy="719280"/>
            <a:chOff x="2743200" y="3244680"/>
            <a:chExt cx="6324480" cy="719280"/>
          </a:xfrm>
        </p:grpSpPr>
        <p:sp>
          <p:nvSpPr>
            <p:cNvPr id="194" name="Text Box 4"/>
            <p:cNvSpPr/>
            <p:nvPr/>
          </p:nvSpPr>
          <p:spPr>
            <a:xfrm>
              <a:off x="3978000" y="3244680"/>
              <a:ext cx="50896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5"/>
            <p:cNvSpPr/>
            <p:nvPr/>
          </p:nvSpPr>
          <p:spPr>
            <a:xfrm>
              <a:off x="2743200" y="3512880"/>
              <a:ext cx="1752480" cy="36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6"/>
            <p:cNvSpPr/>
            <p:nvPr/>
          </p:nvSpPr>
          <p:spPr>
            <a:xfrm flipH="1" flipV="1">
              <a:off x="2743200" y="3664800"/>
              <a:ext cx="1295280" cy="1126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7" name="Group 7"/>
          <p:cNvGrpSpPr/>
          <p:nvPr/>
        </p:nvGrpSpPr>
        <p:grpSpPr>
          <a:xfrm>
            <a:off x="2514240" y="4160880"/>
            <a:ext cx="6553440" cy="1401840"/>
            <a:chOff x="2514240" y="4160880"/>
            <a:chExt cx="6553440" cy="1401840"/>
          </a:xfrm>
        </p:grpSpPr>
        <p:sp>
          <p:nvSpPr>
            <p:cNvPr id="198" name="Text Box 8"/>
            <p:cNvSpPr/>
            <p:nvPr/>
          </p:nvSpPr>
          <p:spPr>
            <a:xfrm>
              <a:off x="3965400" y="4160880"/>
              <a:ext cx="510228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public static void message2() {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This is message2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</a:rPr>
                <a:t>message1(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Done with message2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9"/>
            <p:cNvSpPr/>
            <p:nvPr/>
          </p:nvSpPr>
          <p:spPr>
            <a:xfrm>
              <a:off x="2590560" y="4237200"/>
              <a:ext cx="182880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10"/>
            <p:cNvSpPr/>
            <p:nvPr/>
          </p:nvSpPr>
          <p:spPr>
            <a:xfrm flipH="1" flipV="1">
              <a:off x="2514240" y="4313160"/>
              <a:ext cx="1523880" cy="10670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1" name="Group 11"/>
          <p:cNvGrpSpPr/>
          <p:nvPr/>
        </p:nvGrpSpPr>
        <p:grpSpPr>
          <a:xfrm>
            <a:off x="3962520" y="4827600"/>
            <a:ext cx="5105160" cy="1594080"/>
            <a:chOff x="3962520" y="4827600"/>
            <a:chExt cx="5105160" cy="1594080"/>
          </a:xfrm>
        </p:grpSpPr>
        <p:sp>
          <p:nvSpPr>
            <p:cNvPr id="202" name="Text Box 12"/>
            <p:cNvSpPr/>
            <p:nvPr/>
          </p:nvSpPr>
          <p:spPr>
            <a:xfrm>
              <a:off x="3962520" y="5702400"/>
              <a:ext cx="51051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Line 13"/>
            <p:cNvSpPr/>
            <p:nvPr/>
          </p:nvSpPr>
          <p:spPr>
            <a:xfrm flipH="1">
              <a:off x="4489200" y="4827600"/>
              <a:ext cx="380880" cy="11430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Line 14"/>
            <p:cNvSpPr/>
            <p:nvPr/>
          </p:nvSpPr>
          <p:spPr>
            <a:xfrm flipV="1">
              <a:off x="4108320" y="4827600"/>
              <a:ext cx="533160" cy="1447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Control flow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en NOT to use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should not create static methods fo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blank lines. (Put blank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related or weakly related state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onsider splitting them into two smaller methods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Drawing complex figures with static method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1.5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Ch. 1 Case Study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Figur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tic methods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o print these figures using meth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velopment strateg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362320" y="1905120"/>
            <a:ext cx="647676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First version (unstructured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an empty program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y the expected output into it, surrounding each line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yntax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n it to verify the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version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1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all: structure, syntax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very executable Java program consists of a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at contains 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name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2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at contains the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(commands) to be execut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Group 14"/>
          <p:cNvGrpSpPr/>
          <p:nvPr/>
        </p:nvGrpSpPr>
        <p:grpSpPr>
          <a:xfrm>
            <a:off x="3068640" y="1146240"/>
            <a:ext cx="3529800" cy="398880"/>
            <a:chOff x="3068640" y="1146240"/>
            <a:chExt cx="3529800" cy="398880"/>
          </a:xfrm>
        </p:grpSpPr>
        <p:sp>
          <p:nvSpPr>
            <p:cNvPr id="111" name="Text Box 6"/>
            <p:cNvSpPr/>
            <p:nvPr/>
          </p:nvSpPr>
          <p:spPr>
            <a:xfrm>
              <a:off x="3834720" y="114624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Line 7"/>
            <p:cNvSpPr/>
            <p:nvPr/>
          </p:nvSpPr>
          <p:spPr>
            <a:xfrm flipH="1">
              <a:off x="3068640" y="124776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3" name="Group 8"/>
          <p:cNvGrpSpPr/>
          <p:nvPr/>
        </p:nvGrpSpPr>
        <p:grpSpPr>
          <a:xfrm>
            <a:off x="2743200" y="3316320"/>
            <a:ext cx="5852520" cy="779760"/>
            <a:chOff x="2743200" y="3316320"/>
            <a:chExt cx="5852520" cy="779760"/>
          </a:xfrm>
        </p:grpSpPr>
        <p:sp>
          <p:nvSpPr>
            <p:cNvPr id="114" name="Text Box 9"/>
            <p:cNvSpPr/>
            <p:nvPr/>
          </p:nvSpPr>
          <p:spPr>
            <a:xfrm>
              <a:off x="3136320" y="369720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Line 10"/>
            <p:cNvSpPr/>
            <p:nvPr/>
          </p:nvSpPr>
          <p:spPr>
            <a:xfrm flipH="1" flipV="1">
              <a:off x="2743200" y="3316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6" name="Group 11"/>
          <p:cNvGrpSpPr/>
          <p:nvPr/>
        </p:nvGrpSpPr>
        <p:grpSpPr>
          <a:xfrm>
            <a:off x="3468600" y="2028960"/>
            <a:ext cx="5783040" cy="1084680"/>
            <a:chOff x="3468600" y="2028960"/>
            <a:chExt cx="5783040" cy="1084680"/>
          </a:xfrm>
        </p:grpSpPr>
        <p:sp>
          <p:nvSpPr>
            <p:cNvPr id="117" name="Text Box 12"/>
            <p:cNvSpPr/>
            <p:nvPr/>
          </p:nvSpPr>
          <p:spPr>
            <a:xfrm>
              <a:off x="3468600" y="24098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13"/>
            <p:cNvSpPr/>
            <p:nvPr/>
          </p:nvSpPr>
          <p:spPr>
            <a:xfrm flipH="1" flipV="1">
              <a:off x="4190760" y="20289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velopment strategy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econd version (structured, with redundancy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the structure of the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d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 into static methods based on this struc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638280" y="1860480"/>
            <a:ext cx="1218960" cy="4267080"/>
            <a:chOff x="638280" y="1860480"/>
            <a:chExt cx="1218960" cy="4267080"/>
          </a:xfrm>
        </p:grpSpPr>
        <p:sp>
          <p:nvSpPr>
            <p:cNvPr id="221" name="Rectangle 3"/>
            <p:cNvSpPr/>
            <p:nvPr/>
          </p:nvSpPr>
          <p:spPr>
            <a:xfrm>
              <a:off x="638280" y="5441760"/>
              <a:ext cx="1218960" cy="685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Rectangle 4"/>
            <p:cNvSpPr/>
            <p:nvPr/>
          </p:nvSpPr>
          <p:spPr>
            <a:xfrm>
              <a:off x="638280" y="3993840"/>
              <a:ext cx="1218960" cy="1143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Rectangle 5"/>
            <p:cNvSpPr/>
            <p:nvPr/>
          </p:nvSpPr>
          <p:spPr>
            <a:xfrm>
              <a:off x="638280" y="2927160"/>
              <a:ext cx="1218960" cy="685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Rectangle 6"/>
            <p:cNvSpPr/>
            <p:nvPr/>
          </p:nvSpPr>
          <p:spPr>
            <a:xfrm>
              <a:off x="638280" y="1860480"/>
              <a:ext cx="1218960" cy="914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put structur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2362320" y="1905120"/>
            <a:ext cx="647676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ructure of the 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"egg" 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"teacup" 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"stop sign" 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"hat" 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structure can be represented by method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g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aC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op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version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2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version 2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velopment strategy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hird version (structured, without redundancy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redundancy in the output, and create methods to eliminate as much as possi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comments to the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717480" y="1727280"/>
            <a:ext cx="1066680" cy="4409640"/>
            <a:chOff x="717480" y="1727280"/>
            <a:chExt cx="1066680" cy="4409640"/>
          </a:xfrm>
        </p:grpSpPr>
        <p:sp>
          <p:nvSpPr>
            <p:cNvPr id="236" name="Rectangle 3"/>
            <p:cNvSpPr/>
            <p:nvPr/>
          </p:nvSpPr>
          <p:spPr>
            <a:xfrm>
              <a:off x="717480" y="5984640"/>
              <a:ext cx="1066680" cy="15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Rectangle 4"/>
            <p:cNvSpPr/>
            <p:nvPr/>
          </p:nvSpPr>
          <p:spPr>
            <a:xfrm>
              <a:off x="717480" y="3441600"/>
              <a:ext cx="1066680" cy="151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Rectangle 5"/>
            <p:cNvSpPr/>
            <p:nvPr/>
          </p:nvSpPr>
          <p:spPr>
            <a:xfrm>
              <a:off x="717480" y="4698720"/>
              <a:ext cx="1066680" cy="456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717480" y="2984400"/>
              <a:ext cx="1066680" cy="456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Rectangle 7"/>
            <p:cNvSpPr/>
            <p:nvPr/>
          </p:nvSpPr>
          <p:spPr>
            <a:xfrm>
              <a:off x="717480" y="2336760"/>
              <a:ext cx="1066680" cy="456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Rectangle 8"/>
            <p:cNvSpPr/>
            <p:nvPr/>
          </p:nvSpPr>
          <p:spPr>
            <a:xfrm>
              <a:off x="717480" y="3860640"/>
              <a:ext cx="1066680" cy="609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Rectangle 9"/>
            <p:cNvSpPr/>
            <p:nvPr/>
          </p:nvSpPr>
          <p:spPr>
            <a:xfrm>
              <a:off x="717480" y="5384520"/>
              <a:ext cx="1066680" cy="590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Rectangle 10"/>
            <p:cNvSpPr/>
            <p:nvPr/>
          </p:nvSpPr>
          <p:spPr>
            <a:xfrm>
              <a:off x="717480" y="1727280"/>
              <a:ext cx="1066680" cy="609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put redundanc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2362320" y="2286000"/>
            <a:ext cx="640080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dundancy in the 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g top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used on stop sign, h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g bottom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used on teacup, stop 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der lin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on teacup, h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redundancy can be fixed by method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ggT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ggBott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version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uzy Student, CSE 138, Spring 209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several figures, with methods for structure and redundanc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3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top half of an an egg fig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Top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bottom half of an egg fig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Bottom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complete egg fig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version 3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teacup fig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stop sign fig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figure that looks sort of like a ha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line of dash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lin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word about sty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ucture your code proper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iminate redundant c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spaces judiciously and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sistent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dent proper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llow the naming conven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comments to describe code behavi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y style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Programmers build on top of other’s code all the tim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524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You shouldn’t waste time deciphering what a method do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You should spend time on thinking or coding.  You should </a:t>
            </a:r>
            <a:r>
              <a:rPr b="1" lang="en-GB" sz="25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be wasting time looking for that missing closing brac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So code with style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Commen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omment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note written in source code by the programmer to describe or clarify the co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ments are not executed when your program ru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ment text, on one line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r,</a:t>
            </a:r>
            <a:br>
              <a:rPr sz="2000"/>
            </a:b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/*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ment text; may span multiple lin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Courier New"/>
              </a:rPr>
              <a:t>// This is a one-line com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Courier New"/>
              </a:rPr>
              <a:t>/* This is a very lo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6666"/>
                </a:solidFill>
                <a:latin typeface="Courier New"/>
              </a:rPr>
              <a:t>multi-line comment. *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Where to place commen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t the top of each file (a "comment header") to describe the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* Suzy Student, CS 101, Fall 201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This program prints lyrics about Fraggle Rock. *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t the start of every method (seen later) to describe what the method do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Print the chor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o explain complex pieces of c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Compute the Mercator map proj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Comments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* Suzy Student, CS 101, Fall 201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This program prints lyrics about Fraggle Rock. *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FraggleRock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first ver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ance your cares away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Worry’s for another day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second ver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Let the music play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wn at Fraggle Rock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Why comments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Helpful for understanding larger, more complex program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Helps other programmers understand your co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“other” programmer could be the future yo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tic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1.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sugar_cookies"/>
          <p:cNvPicPr/>
          <p:nvPr/>
        </p:nvPicPr>
        <p:blipFill>
          <a:blip r:embed="rId1"/>
          <a:srcRect l="1923" t="2389" r="3037" b="1964"/>
          <a:stretch/>
        </p:blipFill>
        <p:spPr>
          <a:xfrm>
            <a:off x="6477120" y="2876400"/>
            <a:ext cx="2365200" cy="2381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Algorith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algorithm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list of steps for solving a proble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ample algorithm: "Bake sugar cookie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Set the timer for 10 minu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Place the cookies into the ov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Mix ingredients for frost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9:48:47Z</dcterms:created>
  <dc:creator>Marty Stepp</dc:creator>
  <dc:description/>
  <dc:language>en-US</dc:language>
  <cp:lastModifiedBy>Benson Limketkai</cp:lastModifiedBy>
  <cp:lastPrinted>2011-09-29T22:35:49Z</cp:lastPrinted>
  <dcterms:modified xsi:type="dcterms:W3CDTF">2014-04-01T04:31:35Z</dcterms:modified>
  <cp:revision>1306</cp:revision>
  <dc:subject/>
  <dc:title>Building Java Programs</dc:title>
</cp:coreProperties>
</file>