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B26E-CCD9-4749-A129-65F850D848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F615-BA06-440B-BE3A-D5976663A7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6564-9444-48FA-AC1B-9FA6205215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079A-57D4-47E2-966C-A23C0C96EF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52E4-C3D0-4EE5-9D8A-A5840529BD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E8AE-2A32-49D8-AAC8-19D80B448C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E7D6-E8FC-4991-9916-118D62581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8B9D-8793-4696-9BD2-07B41131A7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6FE1-077F-4AA5-823E-64C3759763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DF37-13C1-4C22-B22B-0C7E40B9BF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3F8E-31FB-45C0-830A-DF2ABCB6C9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FB08-0EDF-4FF6-83ED-3267FD293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6C8E-4703-4F77-93CE-64C75844687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6990-1BBA-4A4D-97D8-6D439CEDB917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9-1: Inherit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9.1 - 9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ay to form new classes based on existing classes, taking on their attributes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group related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share code between two or more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lass ca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te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other, absorbing its data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parent class that is being exten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child class that extends the superclass and inherits its behavi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class gets a copy of every field and method from super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exten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n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automatical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client code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rov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we only write the parts unique to each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dd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plement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awy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following lawyer regula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who get an extra week of paid vacation (a total of 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use a pink form when applying for vacation lea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yers have some unique behavior: they know how to 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We want lawyers to inheri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s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havior from employee, but we want to replace parts with new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verriding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write a new version of a method in a subclass that replaces the superclass's ver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pecial syntax required to override a superclass meth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 write a new version of it in the sub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3 weeks vacation, pink vacation form, can su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awy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  Marketers make $10,000 extra ($50,000 total) and know how to adverti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rket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evels of inherita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levels of inheritance in a hierarchy are allow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legal secretary is the same as a regular secretary but makes more money ($45,000) and can file legal brief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Comple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gal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9-3: Polymorph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9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5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software cris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ftware enginee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ractice of developing, designing, documenting, testing large computer progra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rge-scale projects face many issu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ting many programmers to work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ting code finished on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oiding redundant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ing and fixing bu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ing, improving, and reusing existing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de re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ractice of writing program code once and using it in many contex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lymorph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bility for the same code to be used with different types of objects and behave differently with 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print any type of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one displays in its own way on the conso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interact with any type of crit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one moves, etc. in its own w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ing with 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variable of typ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an hold an object of any subclass of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all any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 any methods specific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method is call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t behaves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Verdana"/>
              </a:rPr>
              <a:t>Polymorphism and parameters</a:t>
            </a:r>
            <a:endParaRPr b="0" lang="en-US" sz="4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pass any subtype of a parameter's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 = " + empl.getSalary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days = " + empl.getVacationDays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form = " + empl.getVacationForm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 = 5000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 = 5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days = 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days =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form = pin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cation form = yell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3970440" y="2975040"/>
            <a:ext cx="206676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044960" y="3193920"/>
            <a:ext cx="184608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nd array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rays of superclass types can store any subtype as el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proble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-5 classes with inheritance relationships are show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lient program calls methods on objects of each cla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must read the code and determine the client's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always place such a question on our final exams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olymorphism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 that the following four classes have been declar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polymorphism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would be the output of the following client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[] elements = {new Foo(), new Bar(), new Baz(), new Mumble()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s[i]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s[i].method1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ments[i].method2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classes from top (superclass) to bottom (subclas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lude all inherited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iagramming the class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nding output with t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1752480"/>
          <a:ext cx="7619760" cy="2967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762120" y="1752480"/>
          <a:ext cx="7619760" cy="2967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elements={new Foo(), new Bar(), new Baz(), new Mumble()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elements[i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].method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].method2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aw firm employee analo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rules: hours, vacation, benefits, regulations 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employees attend a common orientation to learn general company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employee receives a 20-page manual of common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subdivision also has specific ru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ee receives a smaller (1-3 page) manual of these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manual adds some new rules and also changes some rules from the large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parating behavi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 not just have a 22 page Lawyer manual, a 21-page Secretary manual, a 23-page Marketer manual, etc.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advantages of the separate manual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enance: Only one update if a common rule chan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ity: Quick discovery of all rules specific to law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key ideas from this 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 rules are useful (the 20-page manua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 rules that may override general ones are also usefu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Verdana"/>
              </a:rPr>
              <a:t>Is-a relationships, hierarchies</a:t>
            </a:r>
            <a:endParaRPr b="0" lang="en-US" sz="36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hierarchical connection where one category can be treated 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pecialized version of ano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 markete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s 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mploy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 legal secretar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s 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 hierarch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set of classes connected by is-a relationships that can share common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mployee regula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mploye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: Implemen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based on the previous employee regulations.  (Secretaries can take dictation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dundant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ecretary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sire for code-sha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the only unique behavior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like to be able to sa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3-03T02:29:24Z</dcterms:modified>
  <cp:revision>1429</cp:revision>
  <dc:subject/>
  <dc:title>Building Java Programs</dc:title>
</cp:coreProperties>
</file>