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BEE01-D8B8-436B-B135-377C08B47D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06B39-F84B-4C0C-8EAE-B47FAE4165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DBE4A-6679-4CB8-80F9-4D6487051D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05A0F-057F-4D81-8D35-98F5B93A2A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D45B6-851A-4149-9DBB-EBE8DD98C8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7379F-6C95-40E0-963F-8F03C69991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3C79B-49AA-480D-8B7B-C32B31C8B1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B8907-613D-4FC3-9304-8103E8F37E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C8A7A-531F-4DDC-ABFD-92A6D9DF4D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C336A-E073-447D-93EF-32C54A8F75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AA68E-AED3-48A1-AF15-5DA701C9D4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2FB4C-106F-4A91-B36D-59D41A8058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85E8-E0D7-416A-86CA-F9F579B3D3CC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8" name="Freeform 20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1" name="Freeform 23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2" name="Freeform 2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4" name="Freeform 24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65" name="Freeform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31B0-D23E-43A0-99F7-F62812FCA808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8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8-3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8.6 - 8.7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s: #13-18, 20-2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rcises: #5, 9, 1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Variable shadowin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 instance method parameter can have the same name as one of the object's field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his is leg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Location(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eld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hadow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y parameters with same nam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de that refers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ll use the parameter, not the fiel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voiding shadowing w/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thi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Location(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his.x =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his.y = 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sid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-2332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.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seen,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iel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us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-2332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51136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seen,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aramet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us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ultiple construct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is legal to have more than one constructor in a clas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nstructors must accept different paramet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Point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=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nstructors and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thi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e constructor can call another us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(0, 0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the (x, y) constru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x =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y = 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3048120" y="3505320"/>
            <a:ext cx="10666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3657600" y="3505320"/>
            <a:ext cx="15238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17"/>
          <p:cNvSpPr/>
          <p:nvPr/>
        </p:nvSpPr>
        <p:spPr>
          <a:xfrm>
            <a:off x="6705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0F5A-1BBB-4D1A-A3F3-89CD2FD36492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800" spc="-1" strike="noStrike">
                <a:solidFill>
                  <a:srgbClr val="464646"/>
                </a:solidFill>
                <a:latin typeface="Courier New"/>
              </a:rPr>
              <a:t>toString</a:t>
            </a: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 method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ading: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8.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f-check: #18, 20-2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ercises: #9, 1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inting object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y default, Java doesn't know how to print object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ew Point(10, 7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: " + p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: Point@9e8c3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can print a better string (but this is cumbersome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: (" + p.x + ", " + p.y + ")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'd like to be able to print the object itself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desired behavi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: " +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: (10, 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toString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lls Java how to convert an object in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lled when an object is printed/concatenated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7, 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1: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you prefer, you can wri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toString(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xplicitl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1: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1.toString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very class h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even if it isn't in your cod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default is the class's name and a hex (base-16) numb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@9e8c3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toString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syntax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de that returns a suitable 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ethod name, return, parameters must match exactl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turns a String representing this Poi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"(" + x + ", " + y + ")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ent co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client program uses the Point clas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ointMain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reate two Point object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 p1 = new Point(7, 2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 p2 = new Point(4, 3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int each poin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3399"/>
                </a:solidFill>
                <a:latin typeface="Courier New"/>
              </a:rPr>
              <a:t>System.out.println("p1: " + p1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3399"/>
                </a:solidFill>
                <a:latin typeface="Courier New"/>
              </a:rPr>
              <a:t>System.out.println("p2: " + p2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mpute/print each point's distance from the origi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p1's distance from origin: " + p1.distanceFromOrigin()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p2's distance from origin: " + p1.distanceFromOrigin()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move p1 and p2 and print them agai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1.translate(11, 6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2.translate(1, 7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3399"/>
                </a:solidFill>
                <a:latin typeface="Courier New"/>
              </a:rPr>
              <a:t>System.out.println("p1: " + p1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3399"/>
                </a:solidFill>
                <a:latin typeface="Courier New"/>
              </a:rPr>
              <a:t>System.out.println("p2: " + p2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mpute/print distance from p1 to p2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distance from p1 to p2: " + p1.distance(p2)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17"/>
          <p:cNvSpPr/>
          <p:nvPr/>
        </p:nvSpPr>
        <p:spPr>
          <a:xfrm>
            <a:off x="6705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21EB-FB63-4C3C-99AE-E2B656A505CD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The keyword </a:t>
            </a:r>
            <a:r>
              <a:rPr b="0" lang="en-US" sz="4800" spc="-1" strike="noStrike">
                <a:solidFill>
                  <a:srgbClr val="464646"/>
                </a:solidFill>
                <a:latin typeface="Courier New"/>
              </a:rPr>
              <a:t>thi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ading: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8.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thi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: A reference to the implicit paramet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76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implicit parameter: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bject on which a method is call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 for us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refer to a field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e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call a method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call a constructor from another construct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Variable names and scop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ually it is illegal to have two variables in the same scope with the same nam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Location(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arameters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be distinct from the object's field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Stuart Reges</cp:lastModifiedBy>
  <cp:lastPrinted>2009-04-22T19:24:48Z</cp:lastPrinted>
  <dcterms:modified xsi:type="dcterms:W3CDTF">2010-03-05T22:33:16Z</dcterms:modified>
  <cp:revision>1423</cp:revision>
  <dc:subject/>
  <dc:title>Building Java Programs</dc:title>
</cp:coreProperties>
</file>