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0CC2-E9A2-4600-B092-195347452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4C42-E39F-4E64-B619-B0D5644608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9304-D37F-4673-ABF6-3FD62367F1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940F-1EBC-4948-ADC7-60BD8E9F6A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AF26-D261-4394-A857-7A0848D24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122A-4B6C-4C0D-B6CC-81F0717847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00FA-4B11-4D21-BFEF-8F1CDB5D2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7B0C-05A4-420B-96C6-217836B12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CE2B-86EF-48A2-A822-9ECE082809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1270-B851-4ED3-8F0D-F92026C0D0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8CFA-F8E0-41D1-9177-C3EF287D6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C705-9155-45AF-A057-64DC2348A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153-F80C-4159-869B-5CCF41F03CB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58" name="Freeform 20"/>
            <p:cNvSpPr/>
            <p:nvPr/>
          </p:nvSpPr>
          <p:spPr>
            <a:xfrm>
              <a:off x="-9360" y="0"/>
              <a:ext cx="9162720" cy="5335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72" h="656">
                  <a:moveTo>
                    <a:pt x="6" y="2"/>
                  </a:moveTo>
                  <a:lnTo>
                    <a:pt x="2542" y="0"/>
                  </a:lnTo>
                  <a:cubicBezTo>
                    <a:pt x="2746" y="101"/>
                    <a:pt x="3828" y="367"/>
                    <a:pt x="4374" y="367"/>
                  </a:cubicBezTo>
                  <a:cubicBezTo>
                    <a:pt x="4920" y="367"/>
                    <a:pt x="5526" y="152"/>
                    <a:pt x="5766" y="55"/>
                  </a:cubicBezTo>
                  <a:lnTo>
                    <a:pt x="5772" y="213"/>
                  </a:lnTo>
                  <a:cubicBezTo>
                    <a:pt x="5670" y="257"/>
                    <a:pt x="5016" y="441"/>
                    <a:pt x="4302" y="439"/>
                  </a:cubicBezTo>
                  <a:cubicBezTo>
                    <a:pt x="3588" y="437"/>
                    <a:pt x="2205" y="165"/>
                    <a:pt x="1488" y="201"/>
                  </a:cubicBezTo>
                  <a:cubicBezTo>
                    <a:pt x="750" y="209"/>
                    <a:pt x="270" y="482"/>
                    <a:pt x="0" y="656"/>
                  </a:cubicBezTo>
                  <a:lnTo>
                    <a:pt x="6" y="2"/>
                  </a:lnTo>
                  <a:close/>
                </a:path>
              </a:pathLst>
            </a:cu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67080" y="0"/>
              <a:ext cx="4876920" cy="27180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1" name="Freeform 23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2" name="Freeform 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40" y="142560"/>
                  <a:ext cx="915300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" name="Freeform 24"/>
              <p:cNvGrpSpPr/>
              <p:nvPr/>
            </p:nvGrpSpPr>
            <p:grpSpPr>
              <a:xfrm>
                <a:off x="0" y="142560"/>
                <a:ext cx="9159840" cy="240840"/>
                <a:chOff x="0" y="142560"/>
                <a:chExt cx="9159840" cy="240840"/>
              </a:xfrm>
            </p:grpSpPr>
            <p:pic>
              <p:nvPicPr>
                <p:cNvPr id="65" name="Freeform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40" y="142560"/>
                  <a:ext cx="9156600" cy="24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21435600">
                  <a:off x="0" y="3070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45F8-BA87-4AB6-BB10-9149E617133B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8-2: Constructors and Encaps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8.4 - 8.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checks: #10-1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4A4E-738C-4E80-A5DF-802335FFD593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5 - 8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3-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Hiding implementation details of 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 from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vid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s external view (behavior) from internal view (st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tion protects the integrity of an object's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137" name="Picture 5" descr="boardb440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r-4c_r-4b_improve-4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139" name="Picture 7" descr="video-ipod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ivate fiel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field can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de outside the class can access or chang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ring 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 code sees an error when accessing private field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ystem.out.println("p1 is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private stat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can provide methods to get and/or set a field's valu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code will look more like th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get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int class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4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Main4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1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1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p2: (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X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.getY(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+ ")"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1 is (5, 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4, 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2 is (6, 7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Benefits of encapsul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bstraction between an object and its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cts an object from unwanted access by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ank app forbids a client to chang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s bal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hange the class implement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be rewritten to use polar coordin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adiu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gle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but with the same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you to constrain objects' state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aria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Only all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with non-negative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5438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7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F98-2277-4BD0-B08C-5062AD5A6C3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Object initialization: constructor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ad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heck: #10-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ises: #9, 11, 14, 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itializing objec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ly it takes 3 lines to 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itialize i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'd rather pass the fields' initial values as parame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able to this with most types of objects i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mplicitly returns the new object being cr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 exampl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racing a constructor ca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happens when the following call is ma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787480" y="2824200"/>
          <a:ext cx="2945160" cy="54756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1" name="Group 34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122" name="Rectangle 35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ent code, version 3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mmon constructor bug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identally writing a return type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not a constructor at all, but a metho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oring into local variables instead of fields ("shadowing"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da1f28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eclares local variables with the same name as the fields, rather than storing values into the fields.  The fields remain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ultiple construc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lass can have multiple constru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ne must accept a unique set of parame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constructor for Point objects that accepts no parameters and initializes the point to the origin, (0, 0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Stuart Reges</cp:lastModifiedBy>
  <cp:lastPrinted>2009-04-22T19:24:48Z</cp:lastPrinted>
  <dcterms:modified xsi:type="dcterms:W3CDTF">2010-03-02T01:20:00Z</dcterms:modified>
  <cp:revision>1415</cp:revision>
  <dc:subject/>
  <dc:title>Building Java Programs</dc:title>
</cp:coreProperties>
</file>