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0992-B201-41A3-899F-EF364E941B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46F6-F93F-4222-BAFA-497FB4337A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4F9A-8CB7-4BA7-BC47-5448EC1C93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532BE-08EA-44C7-90F4-9960C70E9E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CC43-7B2B-42DB-8C4D-E8DB4937A5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E968-3869-4E73-A08F-DF11F44FA1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2324-D5A5-4183-AA61-DE9DF7121C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ADBBE-35F4-48E6-B53F-70E4879DF0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D069D-6D04-4575-8F4A-42DA3EB2CC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0791-49B2-4CB8-931F-944FC6F89E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A6E3-8CE2-4697-AF65-4F14AB0358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7D7C6-A934-4FDD-AD60-730F8FF728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42CD-F767-47AF-B5A3-470063A549F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B0E9-DF07-4277-82BE-7DAA473122A8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8-1: Classes and Obje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8.1-8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s: Ch. 8 #1-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Ch. 8 #1-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ent and Object Class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ent progr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program that uses obje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HW6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a client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entity that combines state and behavi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data fiel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ehavi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Object Concep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ocedural programming: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grams that perform their behavior as a series of steps to be carried ou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Programs that perform their behavior as interactions between obje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es practice to understand the object con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el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variable inside an object that is part of its sta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object ha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ts own cop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each fiel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ents can access/modify an object's fiel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176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ss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&lt;variabl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&lt;field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&lt;variabl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&lt;field&gt;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&lt;valu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he x-coord is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2.y =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13;                 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ehavi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cts can tie related data an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behavio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stance method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ethod inside an object that operates on that o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&lt;type&gt; &lt;name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&lt;parameter(s)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&lt;statement(s)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to use metho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&lt;variabl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&lt;method&gt;(&lt;parameter(s)&gt;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1, 6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mplicit Paramet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instance method call happens on a particular objec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translate(11, 6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de for an instance method has an implied knowledge of what object it is operating 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mplicit parame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The object on which an instance method is call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be referred to inside the object us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keywor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ccess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cess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An instance method that provides information about the state of an objec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gives clients "read-only" access to the object's fiel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ta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utat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An instance method that modifies the object’s internal st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+= dx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y += d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gives clients both read and write access to co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ing same group of related variables several times in a progra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1 = 3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1 = 5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2 = 12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2 = 4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noying and redund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clear and hard to keep track of vari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olution: 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oup together related variables into a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 creating your own data structure out of Java building blo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&lt;object nam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&lt;field(s)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to use this data structur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&lt;objec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&lt;variabl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&lt;objec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olution: 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oup together related variables into a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 creating your own data structure out of Java building blo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to use this data structur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wo Uses for Java Class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A program entity that represents eith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700"/>
              </a:spcBef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/ module,  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700"/>
              </a:spcBef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 template for a new type of objec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700"/>
              </a:spcBef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70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lass is a template for crea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700"/>
              </a:spcBef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An entity that combines state and behavi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70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spcBef>
                <a:spcPts val="700"/>
              </a:spcBef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 class: Progra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xecutable progr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ith a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in meth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run; statements execute procedur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we’ve been writing all quar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BMI2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iveIntro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bmi1 = getBMI(consol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bmi2 = getBMI(consol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portResults(bmi1, bmi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 class: Object Defini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luepri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new data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t executable, not a complete progra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d objects are a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sta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pri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n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lueprint analog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iPod bluepri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123" name="Text Box 5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song = “</a:t>
              </a:r>
              <a:r>
                <a:rPr b="0" lang="en-US" sz="1000" spc="-1" strike="noStrike">
                  <a:solidFill>
                    <a:srgbClr val="003399"/>
                  </a:solidFill>
                  <a:latin typeface="Tahoma"/>
                </a:rPr>
                <a:t>Octopus’s Garden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Text Box 6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song = “Lovely Rita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Text Box 7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song = “For No O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127" name="Group 9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128" name="Line 10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Line 11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Line 12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1" name="Text Box 13"/>
            <p:cNvSpPr/>
            <p:nvPr/>
          </p:nvSpPr>
          <p:spPr>
            <a:xfrm>
              <a:off x="5699160" y="3625920"/>
              <a:ext cx="1006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creat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2" name="Picture 14" descr="blueprint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video-ipod"/>
          <p:cNvPicPr/>
          <p:nvPr/>
        </p:nvPicPr>
        <p:blipFill>
          <a:blip r:embed="rId2"/>
          <a:srcRect l="5775" t="5917" r="10780" b="3207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video-ipod"/>
          <p:cNvPicPr/>
          <p:nvPr/>
        </p:nvPicPr>
        <p:blipFill>
          <a:blip r:embed="rId3"/>
          <a:srcRect l="5775" t="5917" r="10780" b="3207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video-ipod"/>
          <p:cNvPicPr/>
          <p:nvPr/>
        </p:nvPicPr>
        <p:blipFill>
          <a:blip r:embed="rId4"/>
          <a:srcRect l="5775" t="5917" r="10780" b="3207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bstrac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distancing between ideas and detai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can use objects without knowing how they wor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straction in an iPo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understand its external behavior (buttons, scree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don't understand its inner details, and you don't need 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3352320" y="4114800"/>
            <a:ext cx="5334480" cy="2090880"/>
            <a:chOff x="3352320" y="4114800"/>
            <a:chExt cx="5334480" cy="2090880"/>
          </a:xfrm>
        </p:grpSpPr>
        <p:pic>
          <p:nvPicPr>
            <p:cNvPr id="139" name="Picture 5" descr="boardb440"/>
            <p:cNvPicPr/>
            <p:nvPr/>
          </p:nvPicPr>
          <p:blipFill>
            <a:blip r:embed="rId1"/>
            <a:stretch/>
          </p:blipFill>
          <p:spPr>
            <a:xfrm>
              <a:off x="3505320" y="4114800"/>
              <a:ext cx="2666880" cy="20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6" descr="r-4c_r-4b_improve-4"/>
            <p:cNvPicPr/>
            <p:nvPr/>
          </p:nvPicPr>
          <p:blipFill>
            <a:blip r:embed="rId2"/>
            <a:stretch/>
          </p:blipFill>
          <p:spPr>
            <a:xfrm>
              <a:off x="6019920" y="412452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  <p:grpSp>
          <p:nvGrpSpPr>
            <p:cNvPr id="141" name="Group 7"/>
            <p:cNvGrpSpPr/>
            <p:nvPr/>
          </p:nvGrpSpPr>
          <p:grpSpPr>
            <a:xfrm>
              <a:off x="3352320" y="4148280"/>
              <a:ext cx="5334480" cy="1905120"/>
              <a:chOff x="3352320" y="4148280"/>
              <a:chExt cx="5334480" cy="1905120"/>
            </a:xfrm>
          </p:grpSpPr>
          <p:sp>
            <p:nvSpPr>
              <p:cNvPr id="142" name="Line 8"/>
              <p:cNvSpPr/>
              <p:nvPr/>
            </p:nvSpPr>
            <p:spPr>
              <a:xfrm>
                <a:off x="3429000" y="4148280"/>
                <a:ext cx="525780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Line 9"/>
              <p:cNvSpPr/>
              <p:nvPr/>
            </p:nvSpPr>
            <p:spPr>
              <a:xfrm flipH="1">
                <a:off x="3352320" y="4148280"/>
                <a:ext cx="533412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144" name="Picture 10" descr="video-ipod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609480" y="3733920"/>
            <a:ext cx="15368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10-02-26T22:02:15Z</dcterms:modified>
  <cp:revision>1378</cp:revision>
  <dc:subject/>
  <dc:title>Building Java Programs</dc:title>
</cp:coreProperties>
</file>