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5666-8947-4C44-AD7E-A842F52765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21C9-1841-4627-B1D4-6FE669AA1A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A9B7-1F0F-4FE3-85F4-CEC4BF3400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CEC6-B219-4C3C-8BF8-1FF17EC08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EA9B-C35F-4810-9016-F46D8F7A0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096D-1D05-4664-A0B5-F6F6148362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CF92-4AEE-4E48-B223-936B3918D9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0179-4E4F-488F-BD4A-6331B5FC3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D561-AB84-4DD7-8114-BF7005CCE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C5CD-251D-4FE8-B036-517A507E39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2853-8BC8-42CA-9BED-17F44F626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B9A8-5543-4B2D-816B-2EA25D806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DEB-EF7E-4181-85BE-CB774EF063B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87C-7375-4C79-8BF5-E45854FFAD5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1: Arr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7 #1-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array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75248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common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to access array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times we assign each element a value in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xpressions refer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element of any array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iddle el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an array to solve the weather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eather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60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temperatures = new int[days]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 = console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= temperatures[i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       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erature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rrays for 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ounting and tally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Examine a large integer and count the numb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occurrences of every digit from 0 through 9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3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he number 229231007 contai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0s, one 1, three 2s, one 7, and one 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declare 10 counter variables for this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uc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multi-counter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to use an array of size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store the counter for digit valu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nteger value 229231007, our array should sto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dex at which a value is stored has mea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it doesn't m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bout the weather 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71600" y="2743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reating an array of talli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22923100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um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of integer exam scores, such 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will print a histogram of stars indicating the number of students who earned each unique exam sc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roblem we can't solv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program (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LOUDS&amp;RAIN"/>
          <p:cNvPicPr/>
          <p:nvPr/>
        </p:nvPicPr>
        <p:blipFill>
          <a:blip r:embed="rId2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istogram vari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ve the scores; add a fixed number to each sco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ut don't allow a curved score to exceed the max of 101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t the data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 is 10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px between each 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px tall bar for each student who earned that sc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724280" y="4165560"/>
            <a:ext cx="4114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an input file of test scores (integers) and displays 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graphical histogram of the score distribu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final int CURVE = 5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djustment to each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ore = Math.min(score +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V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100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urve the exam s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histogram solu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use a DrawingPanel to draw the hist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 = new DrawingPanel(counts.length * 3 + 6, 2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cou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i * 3 + 3, 175, i * 3 + 3, 175 - 5 * counts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the problem is t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each input value twi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mpute the average (a cumulative su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unt how many were above a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ould read each value into a variable... but w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days are needed until the program ru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know how many variables to dec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a way to declare many variables in one st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11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11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2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2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length can be any integer expres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element initially gets a "zero-equivalent"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of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828800" y="487836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1-07T07:31:30Z</dcterms:modified>
  <cp:revision>1360</cp:revision>
  <dc:subject/>
  <dc:title>Building Java Programs</dc:title>
</cp:coreProperties>
</file>