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14EB2-E3AA-4A95-91F9-B430B48409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505DF-009B-400D-A07B-E11C96BE40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B1FF1-8F2D-4DC0-AD57-5291D6E126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91541-462E-4E10-B353-0F754ECB89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02EE4-E6CA-41DC-A319-FB06E5C1D1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3EDC0-8068-42C3-A3CE-8966E636F8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4C013-B453-4486-AB67-E482B094C6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7ACB7-B0A5-46D2-A9E8-0F28029449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448D5-4FA4-4319-B3BE-9584D254E5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220E0-41BF-4529-B640-C29F03FBF8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07695-CEBE-4922-AA4F-A6C97B0C31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304A3-B536-4244-BE01-F7B5E2E7C6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DB60-58FC-475E-8148-DFEED0E0DEFC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8" name="Freeform 20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4267080" y="0"/>
              <a:ext cx="4876920" cy="27180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0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1" name="Freeform 23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2" name="Freeform 2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4" name="Freeform 24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65" name="Freeform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C575-9E88-4EDC-AC66-6DAAA497BFC8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Line-based</a:t>
            </a:r>
            <a:br>
              <a:rPr sz="4800"/>
            </a:b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file processing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6.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check: #7-1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rcises: #1-4, 8-1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Hours answer, correcte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ocesses an employee input file and outputs each employee's hou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io.*;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Hours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hrows FileNotFoundExceptio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input = new Scanner(new File("hours.txt")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lineScan = new Scanner(line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id = lineScan.nextInt();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.g. 45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name = lineScan.next();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.g. "Brad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sum = 0.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lineScan.hasNextDouble()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= sum + lineScan.nextDoubl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average = sum / coun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name + " (ID#" + id + ") worked " +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+ " hours (" + average + " hours/day)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6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Hours v2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ou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rogram to search for a person by ID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ter an ID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45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ad worked 36.8 hours (7.36 hours/da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ter an ID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9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#293 not fou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Hours v2 answer 1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This program searches an input file of employees' hours work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for a particular employee and outputs that employee's hours data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io.*;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util.*;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class HoursWorked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Enter an ID: "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searchId = console.nextInt();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e.g. 456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input = new Scanner(new File("hours.txt")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line = findPerson(input, searchId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line.length() &gt; 0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rocessLine(line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ID #" + searchId + " was not found"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Hours v2 answer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Locates and returns the line of data about a particular perso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String findPerson(Scanner input, int searchId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lineScan = new Scanner(line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id = lineScan.nextInt();  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e.g. 456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id == searchId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line;              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we found them!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"";   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not found, so return an empty 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Totals the hours worked by the person and outputs their info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processLine(String line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lineScan = new Scanner(line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id = lineScan.nextInt();      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e.g. 456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name = lineScan.next();    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e.g. "Brad"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hours = 0.0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days = 0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while (lineScan.hasNextDouble()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hours += lineScan.nextDouble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ays++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name + " worked " + hours + " hours ("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+ (hours / days) + " hours/day)"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6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6-3: Searching Fi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6.3, 6.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call: Line-based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xtLin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onsumes from the input cursor to the nex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le 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put.hasNextLin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line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put.nextLin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cess this li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19240" y="1614600"/>
          <a:ext cx="8696160" cy="1665000"/>
        </p:xfrm>
        <a:graphic>
          <a:graphicData uri="http://schemas.openxmlformats.org/drawingml/2006/table">
            <a:tbl>
              <a:tblPr/>
              <a:tblGrid>
                <a:gridCol w="2165040"/>
                <a:gridCol w="6531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Lin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the next entire line of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asNextLin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f there are any more lines of input to read   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(always true for console inpu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call: Tokenizing lin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 String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can tokenize each line of a fil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le 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canner lineScan = new Scanner(lin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cess the contents of this line..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Hours v2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ou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rogram to search for a person by ID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ter an ID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45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ad worked 36.8 hours (7.36 hours/da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ter an ID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9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#293 not fou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Hours v2 answer 1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This program searches an input file of employees' hours work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for a particular employee and outputs that employee's hours data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io.*;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util.*;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class HoursWorked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Enter an ID: "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searchId = console.nextInt();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e.g. 456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input = new Scanner(new File("hours.txt")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line = findPerson(input, searchId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line.length() &gt; 0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rocessLine(line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ID #" + searchId + " was not found"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Hours v2 answer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Locates and returns the line of data about a particular perso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String findPerson(Scanner input, int searchId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lineScan = new Scanner(line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id = lineScan.nextInt();  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e.g. 456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id == searchId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line;              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we found them!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"";   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not found, so return an empty 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Totals the hours worked by the person and outputs their info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processLine(String line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lineScan = new Scanner(line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id = lineScan.nextInt();      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e.g. 456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name = lineScan.next();    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e.g. "Brad"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hours = 0.0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days = 0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while (lineScan.hasNextDouble()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hours += lineScan.nextDouble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ays++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name + " worked " + hours + " hours ("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+ (hours / days) + " hours/day)"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Hours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iven a fi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ours.tx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ith the following content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23 Kim 12.5 8.1 7.6 3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56 Brad 4.0 11.6 6.5 2.7 1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89 Stef 8.0 8.0 8.0 8.0 7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der the task of computing hours worked by each pers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im (ID#123) worked 31.4 hours (7.85 hours/da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ad (ID#456) worked 36.8 hours (7.36 hours/da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ef (ID#789) worked 39.5 hours (7.9 hours/da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t's try to solve this problem token-by-token ..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MDb movies proble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der the following Internet Movie Database (IMDb) dat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 9.1 196376 The Shawshank Redemption (1994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 9.0 139085 The Godfather: Part II (1974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 8.8 81507 Casablanca (1942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e a program that displays any movies containing a phras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arch word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par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nk    Votes   Rating  Tit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       139085  9.0     The Godfather: Part II (1974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0      129172  8.5     The Departed (2006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95      20401   8.2     The Apartment (1960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92     30587   8.0     Spartacus (1960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 match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828800"/>
                <a:tab algn="l" pos="29718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s this a token or line-based problem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"Chaining"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hould be a concise summary of your progra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s bad if each method calls the next without ever returning (we call thi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hain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better structure h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ake most of the call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hods must return values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be passed on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1" name="Group 50"/>
          <p:cNvGrpSpPr/>
          <p:nvPr/>
        </p:nvGrpSpPr>
        <p:grpSpPr>
          <a:xfrm>
            <a:off x="392040" y="2666880"/>
            <a:ext cx="8277120" cy="1002240"/>
            <a:chOff x="392040" y="2666880"/>
            <a:chExt cx="8277120" cy="1002240"/>
          </a:xfrm>
        </p:grpSpPr>
        <p:sp>
          <p:nvSpPr>
            <p:cNvPr id="152" name="Text Box 5"/>
            <p:cNvSpPr/>
            <p:nvPr/>
          </p:nvSpPr>
          <p:spPr>
            <a:xfrm>
              <a:off x="392040" y="2666880"/>
              <a:ext cx="79020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3" name="Group 20"/>
            <p:cNvGrpSpPr/>
            <p:nvPr/>
          </p:nvGrpSpPr>
          <p:grpSpPr>
            <a:xfrm>
              <a:off x="1219320" y="2813040"/>
              <a:ext cx="1792080" cy="398880"/>
              <a:chOff x="1219320" y="2813040"/>
              <a:chExt cx="1792080" cy="398880"/>
            </a:xfrm>
          </p:grpSpPr>
          <p:sp>
            <p:nvSpPr>
              <p:cNvPr id="154" name="Line 6"/>
              <p:cNvSpPr/>
              <p:nvPr/>
            </p:nvSpPr>
            <p:spPr>
              <a:xfrm>
                <a:off x="1219320" y="2860560"/>
                <a:ext cx="533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Text Box 7"/>
              <p:cNvSpPr/>
              <p:nvPr/>
            </p:nvSpPr>
            <p:spPr>
              <a:xfrm>
                <a:off x="1764000" y="281304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methodA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6" name="Group 21"/>
            <p:cNvGrpSpPr/>
            <p:nvPr/>
          </p:nvGrpSpPr>
          <p:grpSpPr>
            <a:xfrm>
              <a:off x="3108240" y="2965320"/>
              <a:ext cx="1792080" cy="398880"/>
              <a:chOff x="3108240" y="2965320"/>
              <a:chExt cx="1792080" cy="398880"/>
            </a:xfrm>
          </p:grpSpPr>
          <p:sp>
            <p:nvSpPr>
              <p:cNvPr id="157" name="Line 22"/>
              <p:cNvSpPr/>
              <p:nvPr/>
            </p:nvSpPr>
            <p:spPr>
              <a:xfrm>
                <a:off x="3108240" y="3012840"/>
                <a:ext cx="533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Text Box 23"/>
              <p:cNvSpPr/>
              <p:nvPr/>
            </p:nvSpPr>
            <p:spPr>
              <a:xfrm>
                <a:off x="3652920" y="296532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methodB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9" name="Group 24"/>
            <p:cNvGrpSpPr/>
            <p:nvPr/>
          </p:nvGrpSpPr>
          <p:grpSpPr>
            <a:xfrm>
              <a:off x="4992840" y="3117960"/>
              <a:ext cx="1792080" cy="398880"/>
              <a:chOff x="4992840" y="3117960"/>
              <a:chExt cx="1792080" cy="398880"/>
            </a:xfrm>
          </p:grpSpPr>
          <p:sp>
            <p:nvSpPr>
              <p:cNvPr id="160" name="Line 25"/>
              <p:cNvSpPr/>
              <p:nvPr/>
            </p:nvSpPr>
            <p:spPr>
              <a:xfrm>
                <a:off x="4992840" y="3165480"/>
                <a:ext cx="533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Text Box 26"/>
              <p:cNvSpPr/>
              <p:nvPr/>
            </p:nvSpPr>
            <p:spPr>
              <a:xfrm>
                <a:off x="5537520" y="311796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methodC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2" name="Group 27"/>
            <p:cNvGrpSpPr/>
            <p:nvPr/>
          </p:nvGrpSpPr>
          <p:grpSpPr>
            <a:xfrm>
              <a:off x="6877080" y="3270240"/>
              <a:ext cx="1792080" cy="398880"/>
              <a:chOff x="6877080" y="3270240"/>
              <a:chExt cx="1792080" cy="398880"/>
            </a:xfrm>
          </p:grpSpPr>
          <p:sp>
            <p:nvSpPr>
              <p:cNvPr id="163" name="Line 28"/>
              <p:cNvSpPr/>
              <p:nvPr/>
            </p:nvSpPr>
            <p:spPr>
              <a:xfrm>
                <a:off x="6877080" y="3317760"/>
                <a:ext cx="533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29"/>
              <p:cNvSpPr/>
              <p:nvPr/>
            </p:nvSpPr>
            <p:spPr>
              <a:xfrm>
                <a:off x="7421760" y="327024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methodD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65" name="Group 53"/>
          <p:cNvGrpSpPr/>
          <p:nvPr/>
        </p:nvGrpSpPr>
        <p:grpSpPr>
          <a:xfrm>
            <a:off x="392040" y="4676760"/>
            <a:ext cx="4503600" cy="1617840"/>
            <a:chOff x="392040" y="4676760"/>
            <a:chExt cx="4503600" cy="1617840"/>
          </a:xfrm>
        </p:grpSpPr>
        <p:sp>
          <p:nvSpPr>
            <p:cNvPr id="166" name="Text Box 33"/>
            <p:cNvSpPr/>
            <p:nvPr/>
          </p:nvSpPr>
          <p:spPr>
            <a:xfrm>
              <a:off x="392040" y="4676760"/>
              <a:ext cx="79020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7" name="Group 52"/>
            <p:cNvGrpSpPr/>
            <p:nvPr/>
          </p:nvGrpSpPr>
          <p:grpSpPr>
            <a:xfrm>
              <a:off x="1219320" y="4822920"/>
              <a:ext cx="1791720" cy="398880"/>
              <a:chOff x="1219320" y="4822920"/>
              <a:chExt cx="1791720" cy="398880"/>
            </a:xfrm>
          </p:grpSpPr>
          <p:sp>
            <p:nvSpPr>
              <p:cNvPr id="168" name="Line 35"/>
              <p:cNvSpPr/>
              <p:nvPr/>
            </p:nvSpPr>
            <p:spPr>
              <a:xfrm>
                <a:off x="1219320" y="4870440"/>
                <a:ext cx="5331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9" name="Text Box 36"/>
              <p:cNvSpPr/>
              <p:nvPr/>
            </p:nvSpPr>
            <p:spPr>
              <a:xfrm>
                <a:off x="1763640" y="482292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methodA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0" name="Group 51"/>
            <p:cNvGrpSpPr/>
            <p:nvPr/>
          </p:nvGrpSpPr>
          <p:grpSpPr>
            <a:xfrm>
              <a:off x="1219320" y="5029200"/>
              <a:ext cx="1791720" cy="732240"/>
              <a:chOff x="1219320" y="5029200"/>
              <a:chExt cx="1791720" cy="732240"/>
            </a:xfrm>
          </p:grpSpPr>
          <p:sp>
            <p:nvSpPr>
              <p:cNvPr id="171" name="Line 38"/>
              <p:cNvSpPr/>
              <p:nvPr/>
            </p:nvSpPr>
            <p:spPr>
              <a:xfrm>
                <a:off x="1219320" y="5029200"/>
                <a:ext cx="53316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2" name="Text Box 39"/>
              <p:cNvSpPr/>
              <p:nvPr/>
            </p:nvSpPr>
            <p:spPr>
              <a:xfrm>
                <a:off x="1763640" y="536256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methodB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3" name="Group 40"/>
            <p:cNvGrpSpPr/>
            <p:nvPr/>
          </p:nvGrpSpPr>
          <p:grpSpPr>
            <a:xfrm>
              <a:off x="3103560" y="5514840"/>
              <a:ext cx="1792080" cy="398880"/>
              <a:chOff x="3103560" y="5514840"/>
              <a:chExt cx="1792080" cy="398880"/>
            </a:xfrm>
          </p:grpSpPr>
          <p:sp>
            <p:nvSpPr>
              <p:cNvPr id="174" name="Line 41"/>
              <p:cNvSpPr/>
              <p:nvPr/>
            </p:nvSpPr>
            <p:spPr>
              <a:xfrm>
                <a:off x="3103560" y="5562360"/>
                <a:ext cx="533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5" name="Text Box 42"/>
              <p:cNvSpPr/>
              <p:nvPr/>
            </p:nvSpPr>
            <p:spPr>
              <a:xfrm>
                <a:off x="3648240" y="551484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methodC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6" name="Group 46"/>
            <p:cNvGrpSpPr/>
            <p:nvPr/>
          </p:nvGrpSpPr>
          <p:grpSpPr>
            <a:xfrm>
              <a:off x="1085760" y="5062680"/>
              <a:ext cx="1925280" cy="1231920"/>
              <a:chOff x="1085760" y="5062680"/>
              <a:chExt cx="1925280" cy="1231920"/>
            </a:xfrm>
          </p:grpSpPr>
          <p:sp>
            <p:nvSpPr>
              <p:cNvPr id="177" name="Line 44"/>
              <p:cNvSpPr/>
              <p:nvPr/>
            </p:nvSpPr>
            <p:spPr>
              <a:xfrm>
                <a:off x="1085760" y="5062680"/>
                <a:ext cx="666720" cy="103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8" name="Text Box 45"/>
              <p:cNvSpPr/>
              <p:nvPr/>
            </p:nvSpPr>
            <p:spPr>
              <a:xfrm>
                <a:off x="1763640" y="5895720"/>
                <a:ext cx="1247400" cy="398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methodD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ad IMDb "chained" code 1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Displays IMDB's Top 250 movies that match a search string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io.*;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class Movies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etWord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Asks the user for their search word and returns i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getWord() throws FileNotFoundException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Search word: "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searchWord = console.next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earchWord = searchWord.toLowerCase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input = new Scanner(new File("imdb.txt")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800000"/>
                </a:solidFill>
                <a:latin typeface="Courier New"/>
              </a:rPr>
              <a:t>search(input, searchWord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ad IMDb "chained" code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Breaks apart each line, looking for lines that match the search wor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String search(Scanner input, String searchWord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matches = 0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lineLC = line.toLowerCase();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case-insensitive match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lineLC.indexOf(searchWord) &gt;= 0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matches++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Rank\tVotes\tRating\tTitle"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800000"/>
                </a:solidFill>
                <a:latin typeface="Courier New"/>
              </a:rPr>
              <a:t>                </a:t>
            </a:r>
            <a:r>
              <a:rPr b="1" lang="en-US" sz="1300" spc="-1" strike="noStrike">
                <a:solidFill>
                  <a:srgbClr val="800000"/>
                </a:solidFill>
                <a:latin typeface="Courier New"/>
              </a:rPr>
              <a:t>display(line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matches + " matches."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Displays the line in the proper format on the scree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display(String line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lineScan = new Scanner(line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rank = lineScan.nextInt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rating = lineScan.nextDouble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votes = lineScan.nextInt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title = ""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while (lineScan.hasNext()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title += lineScan.next() + " ";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the rest of the 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rank + "\t" + votes + "\t" + rating + "\t" + title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etter IMDb answer 1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Displays IMDB's Top 250 movies that match a search string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io.*;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class Movies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searchWord = getWord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input = new Scanner(new File("imdb.txt")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line = </a:t>
            </a:r>
            <a:r>
              <a:rPr b="1" lang="en-US" sz="1300" spc="-1" strike="noStrike">
                <a:solidFill>
                  <a:srgbClr val="003399"/>
                </a:solidFill>
                <a:latin typeface="Courier New"/>
              </a:rPr>
              <a:t>search(input, searchWord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line.length() &gt; 0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Rank\tVotes\tRating\tTitle"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while (line.length() &gt; 0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300" spc="-1" strike="noStrike">
                <a:solidFill>
                  <a:srgbClr val="003399"/>
                </a:solidFill>
                <a:latin typeface="Courier New"/>
              </a:rPr>
              <a:t>display(line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line = </a:t>
            </a:r>
            <a:r>
              <a:rPr b="1" lang="en-US" sz="1300" spc="-1" strike="noStrike">
                <a:solidFill>
                  <a:srgbClr val="003399"/>
                </a:solidFill>
                <a:latin typeface="Courier New"/>
              </a:rPr>
              <a:t>search(input, searchWord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matches + " matches."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Asks the user for their search word and returns i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String getWord(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Search word: "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searchWord = console.next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earchWord = searchWord.toLowerCase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searchWord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etter IMDb answer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Breaks apart each line, looking for lines that match the search wor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String search(Scanner input, String searchWord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lineLC = line.toLowerCase();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case-insensitive match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lineLC.indexOf(searchWord) &gt;= 0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line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"";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not foun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Displays the line in the proper format on the scree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display(String line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lineScan = new Scanner(line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rank = lineScan.nextInt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rating = lineScan.nextDouble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votes = lineScan.nextInt(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ring title = ""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while (lineScan.hasNext()) {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title += lineScan.next() + " ";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the rest of the 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rank + "\t" + votes + "\t" + rating + "\t" + title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Graphical IMDB proble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urn our IMDb code into a graphical progra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p-left 0.0 tick mark at (0, 2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cks 10px tall, 50px apa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rst blue bar top/left corner at (0, 7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rs 50px ta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rs 50px wide per rating poi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rs 100px apart vertic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5562720" y="3262320"/>
            <a:ext cx="3276360" cy="320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ixing graphics and tex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mixing text/graphics, solve the problem in piec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 the text and file I/O firs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play any welcome message and initial console inp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the input file and print some file data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Perhaps print every line, the first token of each line,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arch the input file for the proper line record(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stly, add the graphical 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aw any fixed graphics that do not depend on the file dat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aw the graphics that do depend on the search resul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Graphical IMDb answer 1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Displays IMDB's Top 250 movies that match a search str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awt.*;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for Graphic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io.*;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Movies2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searchWord = getWord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input = new Scanner(new File("imdb.txt"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line = search(input, searchWord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tches = 0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line.length() &gt; 0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Rank\tVotes\tRating\tTitle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Graphics g = createWindow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line.length() &gt; 0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ches++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play(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g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ine, matches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ine = search(input, searchWord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matches + " matches.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Asks the user for their search word and returns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String getWord(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Search word: 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searchWord = console.next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archWord = searchWord.toLowerCas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searchWord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5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Graphical IMDb answer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Breaks apart each line, looking for lines that match the search wor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String search(Scanner input, String searchWord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lineLC = line.toLowerCase();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case-insensitive matc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lineLC.indexOf(searchWord) &gt;= 0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line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"";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not foun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Displays the line in the proper format on the scree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display(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Graphics g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line, int matches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lineScan = new Scanner(line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rank = lineScan.nextInt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rating = lineScan.nextDoubl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votes = lineScan.nextInt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title = ""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lineScan.hasNext()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itle += lineScan.next() + " ";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the rest of the li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ank + "\t" + votes + "\t" + rating + "\t" + tit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drawBar(g, matches, title, rank, rating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Hours answer (flawed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solution does not work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io.*;   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for F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 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for Scann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HoursWorked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rows FileNotFoundException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input = new Scanner(new File("hours.txt")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ocess one pers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id = input.nextIn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name = input.nex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otalHours = 0.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days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800000"/>
                </a:solidFill>
                <a:latin typeface="Courier New"/>
              </a:rPr>
              <a:t>while (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input.hasNextDouble()</a:t>
            </a:r>
            <a:r>
              <a:rPr b="0" lang="en-US" sz="1600" spc="-1" strike="noStrike">
                <a:solidFill>
                  <a:srgbClr val="8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800000"/>
                </a:solidFill>
                <a:latin typeface="Courier New"/>
              </a:rPr>
              <a:t>totalHours += 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input.nextDouble()</a:t>
            </a:r>
            <a:r>
              <a:rPr b="0" lang="en-US" sz="1600" spc="-1" strike="noStrike">
                <a:solidFill>
                  <a:srgbClr val="8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800000"/>
                </a:solidFill>
                <a:latin typeface="Courier New"/>
              </a:rPr>
              <a:t>days++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name + " (ID#" + id +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) worked " + totalHours + " hours (" +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totalHours / days) + " hours/day)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Graphical IMDb answer 3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Creates a drawing panel and draws all fixed graphic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Graphics createWindow(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rawingPanel panel = new DrawingPanel(600, 500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= 10; i++) {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draw tick mark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x = i * 50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.drawLine(x, 20, x, 30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.drawString(i + ".0", x, 20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g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Draws one red bar representing a movie's votes and rank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drawBar(Graphics g, int matches, String title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rank, double rating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y = 70 + 100 * (matches - 1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w = (int) (rating * 50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h = 50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.setColor(Color.BLUE);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draw the blue bar for that movi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.fillRect(0, y, w, h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.drawString("#" + rank + ": " + title, 0, y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ixing tokens and lin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xtLin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n conjunction with the token-based methods on the sam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an cause bad resul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11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3   3.14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oe   "Hello world"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45.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9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'd think you could rea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.1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Dou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then rea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oe "Hello world"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Li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input.nextInt())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2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input.nextDouble())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3.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input.nextLine());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Li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all produces no output!  Why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ixing lines and toke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on't read both tokens and lines from the sam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3   3.14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oe   "Hello world"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45.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9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put.nextInt()                   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23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3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\t3.14\nJoe\t"Hello world"\n\t\t45.2  19\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^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input.nextDoubl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3.14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3\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.1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\nJoe\t"Hello world"\n\t\t45.2  19\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^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i="1" lang="en-US" sz="1600" spc="-1" strike="noStrike">
                <a:solidFill>
                  <a:srgbClr val="800000"/>
                </a:solidFill>
                <a:latin typeface="Courier New"/>
              </a:rPr>
              <a:t>input.nextLine()</a:t>
            </a:r>
            <a:r>
              <a:rPr b="0" lang="en-US" sz="1600" spc="-1" strike="noStrike">
                <a:solidFill>
                  <a:srgbClr val="800000"/>
                </a:solidFill>
                <a:latin typeface="Courier New"/>
              </a:rPr>
              <a:t>                  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"" (empty!)</a:t>
            </a:r>
            <a:br>
              <a:rPr sz="1600"/>
            </a:br>
            <a:r>
              <a:rPr b="0" lang="en-US" sz="1600" spc="-1" strike="noStrike">
                <a:solidFill>
                  <a:srgbClr val="800000"/>
                </a:solidFill>
                <a:latin typeface="Courier New"/>
              </a:rPr>
              <a:t>23\t3.14\nJoe\t"Hello world"\n\t\t45.2  19\n</a:t>
            </a:r>
            <a:br>
              <a:rPr sz="1600"/>
            </a:b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          ^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input.nextLin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"Joe\t\"Hello world\""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3\t3.14\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oe\t"Hello world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\n\t\t45.2  19\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^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ine-and-token examp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Enter your age: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In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Now enter your name: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console.nextLine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ame + " is " + age + " years old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og of execution (user input underlined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ter your age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w enter your name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Sideshow Bo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s 12 years ol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y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all input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2\nSideshow Bo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t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Int()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Sideshow Bob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^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t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Line()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2\nSideshow Bob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^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lawed outpu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Susan (ID#123) worked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487.4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hours (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97.48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hours/day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Exception in thread "main"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java.util.InputMismatchExcep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at java.util.Scanner.throwFor(Scanner.java:840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at java.util.Scanner.next(Scanner.java:146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at java.util.Scanner.nextInt(Scanner.java:209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at HoursWorked.main(HoursBad.java:9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n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oop is grabbing the next person's I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want to process the tokens, but we also care about the line breaks (they mark the end of a person's data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better solution is a hybrid approach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rst, break the overall input into li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n break each line into toke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ine-bas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cann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xtLin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onsumes from the input cursor to the nex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le 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put.hasNextLin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line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put.nextLin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cess this li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19240" y="1614600"/>
          <a:ext cx="8696160" cy="1665000"/>
        </p:xfrm>
        <a:graphic>
          <a:graphicData uri="http://schemas.openxmlformats.org/drawingml/2006/table">
            <a:tbl>
              <a:tblPr/>
              <a:tblGrid>
                <a:gridCol w="2165040"/>
                <a:gridCol w="6531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Lin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the next entire line of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asNextLin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f there are any more lines of input to read   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(always true for console inpu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nsuming lines of inpu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   3.14 John Smith   "Hello world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5.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reads the lines as follow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\t3.14 John Smith\t"Hello world"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\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t\t45.2  19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\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3\t3.14 John Smith\t"Hello world"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\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t\t45.2  19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\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line2 = input.nextLin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\t3.14 John Smith\t"Hello world"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\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\t\t45.2  19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\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haracter is consumed but not return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canners on String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an tokenize the contents of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Scanner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text = "15  3.2 hello   9  27.5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scan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Scanner(text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 = scan.nextIn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um);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num2 = scan.nextDoubl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um2);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3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scan.nex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word);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hell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okenizing lines of a fi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unts the words on each line of a f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new File("input.txt"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anner lineScan = new Scanner(line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ocess the contents of this l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lineScan.hasNext()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word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Scan.nex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Line has " + count + " words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08120" y="1476360"/>
          <a:ext cx="7683480" cy="1066680"/>
        </p:xfrm>
        <a:graphic>
          <a:graphicData uri="http://schemas.openxmlformats.org/drawingml/2006/table">
            <a:tbl>
              <a:tblPr/>
              <a:tblGrid>
                <a:gridCol w="5060880"/>
                <a:gridCol w="26226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put file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put.tx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utput to consol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 quick brown fox jumps o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 lazy do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ne has 6 wo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ne has 3 wo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Hours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x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ou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rogram to read the input file properly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23 Kim 12.5 8.1 7.6 3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56 Brad 4.0 11.6 6.5 2.7 1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89 Stef 8.0 8.0 8.0 8.0 7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all, it should produce the following 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im (ID#123) worked 31.4 hours (7.85 hours/da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ad (ID#456) worked 36.8 hours (7.36 hours/da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ef (ID#789) worked 39.5 hours (7.9 hours/da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Stuart Reges</cp:lastModifiedBy>
  <cp:lastPrinted>2009-04-22T19:24:48Z</cp:lastPrinted>
  <dcterms:modified xsi:type="dcterms:W3CDTF">2009-02-20T01:06:28Z</dcterms:modified>
  <cp:revision>1357</cp:revision>
  <dc:subject/>
  <dc:title>Building Java Programs</dc:title>
</cp:coreProperties>
</file>