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0058400" cy="77724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33640" y="630000"/>
            <a:ext cx="407808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D7C29C1-8A64-4A97-B4E4-2953D14039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3640" y="630360"/>
            <a:ext cx="4078080" cy="315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bugs he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not understanding the difference between a String and a Scanner.  They try to call line.nextInt() or simila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calling a method on the wrong Scanner.  e.g. They forget to change input to lineSca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387F1AD-7250-4E9C-BF6F-A08702D521F3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3640" y="630360"/>
            <a:ext cx="407808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PrintStream bu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declaring it in a method that gets called many times.  This causes the file to be re-opened and wipes the past contents.  So only the last line shows up in the fil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560" y="46213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6688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8284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56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6688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88284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1E6C-28B3-4E3F-AA02-3EEF1EED00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ACA5-3AEA-44C8-B33E-5103BD6794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CCF3-CC05-448F-BB40-3E55BA52B2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7DCB-E691-438D-95BA-959C6ABE2B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A7C0-FD11-492E-8BE2-0ACD3493B0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240"/>
            <a:ext cx="90518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F0CB-4A76-44D1-BD3A-2A56D19655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326A-F5BD-4243-A3BE-088FD9EC0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61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8519-29E6-4780-AAD8-4AABF435FC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E1C7-CC7F-497B-8EC0-E0E0C07648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560" y="46213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A983-EF7C-4EDC-B23F-B997A8D501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61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4463-C6BD-415C-AC97-51924ABD7E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6688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82840" y="15541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56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6688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882840" y="4621320"/>
            <a:ext cx="315792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32D0-9520-422D-A583-2AF0EF68B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03280" y="498240"/>
            <a:ext cx="90518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6213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6800"/>
            <a:ext cx="9051840" cy="7981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54120"/>
            <a:ext cx="478584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560" y="4621320"/>
            <a:ext cx="9807480" cy="2800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6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017720" indent="-273240">
              <a:spcBef>
                <a:spcPts val="6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322280" indent="-233280">
              <a:spcBef>
                <a:spcPts val="624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4" marL="1628640" indent="-233280">
              <a:spcBef>
                <a:spcPts val="624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5" marL="1628640" indent="-233280"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6" marL="1628640" indent="-233280"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11160" y="0"/>
            <a:ext cx="10087200" cy="604800"/>
            <a:chOff x="-11160" y="0"/>
            <a:chExt cx="10087200" cy="604800"/>
          </a:xfrm>
        </p:grpSpPr>
        <p:sp>
          <p:nvSpPr>
            <p:cNvPr id="3" name="Freeform 6"/>
            <p:cNvSpPr/>
            <p:nvPr/>
          </p:nvSpPr>
          <p:spPr>
            <a:xfrm>
              <a:off x="-11160" y="0"/>
              <a:ext cx="10080000" cy="604800"/>
            </a:xfrm>
            <a:custGeom>
              <a:avLst/>
              <a:gdLst>
                <a:gd name="textAreaLeft" fmla="*/ 0 w 10080000"/>
                <a:gd name="textAreaRight" fmla="*/ 10080360 w 100800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693320" y="0"/>
              <a:ext cx="5365080" cy="308160"/>
            </a:xfrm>
            <a:custGeom>
              <a:avLst/>
              <a:gdLst>
                <a:gd name="textAreaLeft" fmla="*/ 0 w 5365080"/>
                <a:gd name="textAreaRight" fmla="*/ 5365440 w 5365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-720" y="161640"/>
              <a:ext cx="10076760" cy="288360"/>
              <a:chOff x="-720" y="161640"/>
              <a:chExt cx="10076760" cy="2883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-720" y="161640"/>
                <a:ext cx="10076760" cy="288360"/>
                <a:chOff x="-720" y="161640"/>
                <a:chExt cx="10076760" cy="2883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61640"/>
                  <a:ext cx="10069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-360" y="3459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561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5040" y="161640"/>
                <a:ext cx="10071000" cy="272520"/>
                <a:chOff x="5040" y="161640"/>
                <a:chExt cx="10071000" cy="27252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760" y="161640"/>
                  <a:ext cx="1006128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5040" y="3463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561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969400" y="7167600"/>
            <a:ext cx="8380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3E5E-A952-4CA7-9BD9-0680CBBA59DB}" type="slidenum">
              <a:rPr b="0" lang="en-US" sz="13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11160" y="0"/>
            <a:ext cx="10087200" cy="604800"/>
            <a:chOff x="-11160" y="0"/>
            <a:chExt cx="10087200" cy="604800"/>
          </a:xfrm>
        </p:grpSpPr>
        <p:sp>
          <p:nvSpPr>
            <p:cNvPr id="50" name="Freeform 13"/>
            <p:cNvSpPr/>
            <p:nvPr/>
          </p:nvSpPr>
          <p:spPr>
            <a:xfrm>
              <a:off x="-11160" y="0"/>
              <a:ext cx="10080000" cy="604800"/>
            </a:xfrm>
            <a:custGeom>
              <a:avLst/>
              <a:gdLst>
                <a:gd name="textAreaLeft" fmla="*/ 0 w 10080000"/>
                <a:gd name="textAreaRight" fmla="*/ 10080360 w 100800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693320" y="0"/>
              <a:ext cx="5365080" cy="308160"/>
            </a:xfrm>
            <a:custGeom>
              <a:avLst/>
              <a:gdLst>
                <a:gd name="textAreaLeft" fmla="*/ 0 w 5365080"/>
                <a:gd name="textAreaRight" fmla="*/ 5365440 w 5365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-720" y="161640"/>
              <a:ext cx="10076760" cy="288360"/>
              <a:chOff x="-720" y="161640"/>
              <a:chExt cx="10076760" cy="2883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-720" y="161640"/>
                <a:ext cx="10076760" cy="288360"/>
                <a:chOff x="-720" y="161640"/>
                <a:chExt cx="10076760" cy="2883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61640"/>
                  <a:ext cx="10069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-360" y="3459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561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5040" y="161640"/>
                <a:ext cx="10071000" cy="272520"/>
                <a:chOff x="5040" y="161640"/>
                <a:chExt cx="10071000" cy="27252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760" y="161640"/>
                  <a:ext cx="1006128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5040" y="3463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561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6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017720" indent="-273240">
              <a:spcBef>
                <a:spcPts val="6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322280" indent="-233280">
              <a:spcBef>
                <a:spcPts val="624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4" marL="1628640" indent="-233280">
              <a:spcBef>
                <a:spcPts val="624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5" marL="1628640" indent="-233280"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6" marL="1628640" indent="-233280"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7375680" y="7078320"/>
            <a:ext cx="23479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DF10-5E9D-431C-A932-D49452FEFFD4}" type="slidenum">
              <a:rPr b="0" lang="en-US" sz="13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53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4200" y="3712680"/>
            <a:ext cx="8550000" cy="1986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ne-Based File In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reading: 6.3 - 6.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6844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n a fil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hours.tx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with the following content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23 Alex 12.5 8.2 7.6 4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56 Alina 4.2 11.6 6.3 2.5 12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89 Ryan 16.0 12.0 8.0 20.0 7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computing hours worked by each pers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x (ID#123) worked 32.3 hours (8.075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ina (ID#456) worked 36.6 hours (7.32 hours/d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yan (ID#789) worked 63.5 hours (12.7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3" descr="320265133v4_480x480_Front.jpg"/>
          <p:cNvPicPr/>
          <p:nvPr/>
        </p:nvPicPr>
        <p:blipFill>
          <a:blip r:embed="rId1"/>
          <a:stretch/>
        </p:blipFill>
        <p:spPr>
          <a:xfrm>
            <a:off x="3048120" y="5168880"/>
            <a:ext cx="36576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Hours answer, corrected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es an employee input file and outputs each employee's hou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ours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essEmployee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processEmployee(String lin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lineScan.next();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e.g. ”Erika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= sum + lineScan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sum / coun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name + " (ID#" + id + ") worked "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 " hours (" + average + " hours/day)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464646"/>
                </a:solidFill>
                <a:latin typeface="Verdana"/>
              </a:rPr>
              <a:t>File output</a:t>
            </a:r>
            <a:endParaRPr b="0" lang="en-US" sz="53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4280" y="3504960"/>
            <a:ext cx="8621640" cy="2097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6.4 - 6.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Output to files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&lt;name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new PrintStream(new File("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&lt;fi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Details about </a:t>
            </a:r>
            <a:r>
              <a:rPr b="0" lang="en-US" sz="49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&lt;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&lt;fi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given file does not exist, it is cre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given file already exists, it is overwritt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utput you print appears in a file, not on the consol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have to open the file with an editor to see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17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 not open the same file for both reading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writing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at the same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17720" indent="-273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will overwrite your input file with an empty file (0 byte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5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5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5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a metho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a method to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ify our previous Hours program to use a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to send its output to the fil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hours_out.tx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gram will produce no console outpu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e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_out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ll be created with the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s (ID#123) worked 32.3 hours (8.075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ika (ID#456) worked 36.6 hours (7.32 hours/d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x (ID#789) worked 63.5 hours (12.7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6045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ocesses an employee input file and outputs each employee's hou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Hours2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Stream out = new PrintStream(new File("hours_out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essEmployee(out, 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processEmploye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Stream out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lineScan.next();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e.g. ”Erika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= sum + lineScan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average = sum / coun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.printl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ame + " (ID#" + id + ") worked "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m + " hours (" + average + " hours/day)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8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Prompting for a file name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e can ask the user to tell us the file to rea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ilename might have spaces;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ompt for input file 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("Type a file name to use: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filename = console.nextLine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 have an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method to test for file-not-found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 file = new File("hours.txt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!file.exists()) 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ry a second input file as a back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hours file not found!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 = new File("hours2.txt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File Scanner Question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6844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rite a program calle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pammer.jav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that asks the user for an email domain and searches a file calle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address_book.tx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 If an email with the domain name is found, the user is prompted whether the contact should be added to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am lis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User input in bol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ail domain to spam?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@gmail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uld you like to spam therealsherlock@gmail.com?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program should output the contacts that the user selected to a file name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pam_list.txt</a:t>
            </a:r>
            <a:br>
              <a:rPr sz="2500"/>
            </a:br>
            <a:br>
              <a:rPr sz="25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hmerlock Schmolmes &lt;therealsherlock@gmail.com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creen Shot 2012-05-24 at 10.25.05 PM.png"/>
          <p:cNvPicPr/>
          <p:nvPr/>
        </p:nvPicPr>
        <p:blipFill>
          <a:blip r:embed="rId1"/>
          <a:stretch/>
        </p:blipFill>
        <p:spPr>
          <a:xfrm>
            <a:off x="84240" y="604800"/>
            <a:ext cx="4930560" cy="656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Screen Shot 2012-05-24 at 10.26.14 PM.png"/>
          <p:cNvPicPr/>
          <p:nvPr/>
        </p:nvPicPr>
        <p:blipFill>
          <a:blip r:embed="rId2"/>
          <a:stretch/>
        </p:blipFill>
        <p:spPr>
          <a:xfrm>
            <a:off x="4930920" y="2201760"/>
            <a:ext cx="50432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46844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n a fil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hours.tx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with the following content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23 Alex 12.5 8.2 7.6 4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56 Alina 4.2 11.6 6.3 2.5 12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89 Ryan 16.0 12.0 8.0 20.0 7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the task of computing hours worked by each pers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x (ID#123) worked 32.3 hours (8.075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ina (ID#456) worked 36.6 hours (7.32 hours/d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yan (ID#789) worked 63.5 hours (12.7 hours/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320265133v4_480x480_Front.jpg"/>
          <p:cNvPicPr/>
          <p:nvPr/>
        </p:nvPicPr>
        <p:blipFill>
          <a:blip r:embed="rId1"/>
          <a:stretch/>
        </p:blipFill>
        <p:spPr>
          <a:xfrm>
            <a:off x="3048120" y="5168880"/>
            <a:ext cx="36576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Hours answer (flawed)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solution does not work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cess one per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d = input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input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Hours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put.hasNextDouble()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totalHours +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put.nextDouble()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days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(ID#" + id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 worked " + totalHours + " hours ("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otalHours / days) + " hours/day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Flawed output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oss (ID#123) worke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488.3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hours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97.66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throwFor(Scanner.java:84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Scanner.java:146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Scanner.java:209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HoursWorked.main(HoursBad.java: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n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 is grabbing the next person's I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want to process the tokens, but we also care about the line breaks (they mark the end of a person's data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better solution is a hybrid approach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, break the overall input into li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11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n break each line into toke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90518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Line-based </a:t>
            </a:r>
            <a:r>
              <a:rPr b="0" lang="en-US" sz="49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243828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filenam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process this lin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0080" y="2514600"/>
          <a:ext cx="9806040" cy="2119320"/>
        </p:xfrm>
        <a:graphic>
          <a:graphicData uri="http://schemas.openxmlformats.org/drawingml/2006/table">
            <a:tbl>
              <a:tblPr/>
              <a:tblGrid>
                <a:gridCol w="2547720"/>
                <a:gridCol w="7258320"/>
              </a:tblGrid>
              <a:tr h="453960">
                <a:tc>
                  <a:txBody>
                    <a:bodyPr lIns="100440" rIns="100440" tIns="51840" bIns="518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next entire line of input  </a:t>
                      </a: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(from cursor to </a:t>
                      </a: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urier New"/>
                        </a:rPr>
                        <a:t>\n</a:t>
                      </a: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Consuming lines of input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3   3.14 John Smith   "Hello" wor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5.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-303120">
              <a:lnSpc>
                <a:spcPct val="8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reads the lines as follow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3\t3.14 John Smith\t"Hello" world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3\t3.14 John Smith\t"Hello" world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2 = input.nextLine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3\t3.14 John Smith\t"Hello" world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\t\t45.2  19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aracter is consumed but not return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Scanners on Strings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412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-303120">
              <a:lnSpc>
                <a:spcPct val="12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can tokenize the contents of a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name&gt;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 new Scanner(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xt = "15  3.2 hello   9  27.5"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sca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Scanner(tex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um = scan.nextInt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m);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2 = scan.nextDouble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m2)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scan.next(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)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"hello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240"/>
            <a:ext cx="905184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64646"/>
                </a:solidFill>
                <a:latin typeface="Verdana"/>
              </a:rPr>
              <a:t>Mixing lines and tokens</a:t>
            </a:r>
            <a:endParaRPr b="0" lang="en-US" sz="49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900080"/>
            <a:ext cx="9807480" cy="58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unts the words on each line of a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input.txt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tokens = new Scanner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cess the contents of this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tokens.hasNext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s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Line has " + count + " word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3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79400" y="1673280"/>
          <a:ext cx="8452080" cy="1600200"/>
        </p:xfrm>
        <a:graphic>
          <a:graphicData uri="http://schemas.openxmlformats.org/drawingml/2006/table">
            <a:tbl>
              <a:tblPr/>
              <a:tblGrid>
                <a:gridCol w="5567400"/>
                <a:gridCol w="2884680"/>
              </a:tblGrid>
              <a:tr h="87480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ut file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put.tx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put to console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quick brown fox jumps 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lazy do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6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3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00440" marR="10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7T09:58:50Z</dcterms:created>
  <dc:creator>Microsoft Office User</dc:creator>
  <dc:description/>
  <dc:language>en-US</dc:language>
  <cp:lastModifiedBy>Microsoft Office User</cp:lastModifiedBy>
  <cp:lastPrinted>2017-02-12T23:10:53Z</cp:lastPrinted>
  <dcterms:modified xsi:type="dcterms:W3CDTF">2017-02-12T23:11:48Z</dcterms:modified>
  <cp:revision>16</cp:revision>
  <dc:subject/>
  <dc:title>Building Java Programs</dc:title>
</cp:coreProperties>
</file>