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8E8E-4BAF-4B2F-8450-BCC4BE163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must ei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lare how our program will handle ("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) the exception,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that we choose not to handle ("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) the exce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nd we accept that the program will crash if an error occu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6236-69C1-483F-8D02-CA5E8217A4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D9BD-B937-457F-B5B8-0B4F8FF678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ADFB-9A0A-45B1-A3FB-E68032124F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F726-EE95-4106-9582-B512362523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D642-4A70-44ED-A01B-9CE6698FB8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3A27-9D02-424C-AA2D-9C53B80470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DF23-1532-4FF7-81F1-0FDF046123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9ACB-4FA3-4795-9B8C-5EAF5BCF50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514E-E7B1-4379-86B8-541A2D1EC5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2594-C996-4813-BF06-DF0EAE2D88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6833-15FB-4710-8419-25149355AB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6DC1-B292-4DEB-BF1C-9BA41CA9DF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5B0D-05CF-49B9-AB90-14FD801F87B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DF52-6F5D-431F-A995-5F8AE72AA54D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8160" algn="ctr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77760" algn="ctr"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1252440" algn="ctr">
              <a:spcBef>
                <a:spcPts val="425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6-1: File Input with Scan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6.1 - 6.2, 5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Ch. 6 #1-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Ch. 6 #5-7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6 #1-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uming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uming inp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ing input and advancing the curs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tc. moves the cursor past the current tok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x = input.nextDouble(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 = input.nex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14.9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4.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934920" y="2509920"/>
            <a:ext cx="78710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922320" y="3843360"/>
            <a:ext cx="78706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922320" y="5181480"/>
            <a:ext cx="78706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all the input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.9 7.4  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9 4.7    -15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the first 5 values from the file and prints them along with their su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14.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7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3.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337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662040" y="1776240"/>
            <a:ext cx="259092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291960" y="2157480"/>
            <a:ext cx="23749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219640" y="3732120"/>
            <a:ext cx="31464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41480" y="3456000"/>
            <a:ext cx="38829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833640" y="4514760"/>
            <a:ext cx="249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isplays the first 5 numbers in the given fil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nd displays their sum at the 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ch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s FileNotFound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File("numbers.tx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nex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nextDoubl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umber = " + n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nex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f("Sum = %.1f\n",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excep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Mismatch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read the wrong type of token (e.g. re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i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read past the end of the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ing and fixing these excep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 the exception text for line numbers in your code (the first line that mentions your file; often near the bottom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xception in thread "main" java.util.NoSuchElement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throwFor(Scanner.java:83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Scanner.java:134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t CountTokens.sillyMethod(CountTokens.java:1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CountTokens.main(CountTokens.java: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ding an entire fi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se we want our program to process the entire f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t should work no matter how many values are in the file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08.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14.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7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.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4.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-15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Sum = 329.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sting for valid inpu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s to see what the next token will b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methods do not consume inpu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just give information about the next tok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ful to see what input is coming, and to avoid crash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1924200"/>
          <a:ext cx="8534160" cy="2495520"/>
        </p:xfrm>
        <a:graphic>
          <a:graphicData uri="http://schemas.openxmlformats.org/drawingml/2006/table">
            <a:tbl>
              <a:tblPr/>
              <a:tblGrid>
                <a:gridCol w="2341800"/>
                <a:gridCol w="61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tokens of input to read   </a:t>
                      </a: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is a next toke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it can be read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is a next toke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it can be read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hasNex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avoid excep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has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ll not crash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ow, " + age + " is old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didn't type an integer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etect the end of a fi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example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hasNex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oken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nex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ll not crash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oken: " + toke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question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ch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process the entire fi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t should work no matter how many values are in the file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08.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14.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7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.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4.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-15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number = 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Sum = 329.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392120" y="5305320"/>
            <a:ext cx="192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376280" y="4243320"/>
            <a:ext cx="4297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isplays each number in the given fil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nd displays their sum at the 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ch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input.hasNextDouble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next = input.nextDoubl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umber = " + n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nex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f("Sum = %.1f\n",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question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ch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handle files that contain non-numeric tokens (by skipping them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example, it should produce the same output as before when given this input file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2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08.2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4.9 7.4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bad stuff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9 4.7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oop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-15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:-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2.8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@#*($&a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/output (I/O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to get info about a file on dis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This doesn't actually create a new file on the hard disk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 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"example.tx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.exists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 100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.delet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38200" y="4284720"/>
          <a:ext cx="6867360" cy="2344680"/>
        </p:xfrm>
        <a:graphic>
          <a:graphicData uri="http://schemas.openxmlformats.org/drawingml/2006/table">
            <a:tbl>
              <a:tblPr/>
              <a:tblGrid>
                <a:gridCol w="2414520"/>
                <a:gridCol w="44528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whether file is able to be r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moves file from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ther this file exists on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file's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number of bytes in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name of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6477120" y="3048120"/>
            <a:ext cx="19047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949400" y="4819680"/>
            <a:ext cx="23623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951200" y="5037120"/>
            <a:ext cx="1825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949400" y="4591080"/>
            <a:ext cx="11746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935000" y="3705120"/>
            <a:ext cx="38703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351160" y="3483000"/>
            <a:ext cx="20685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input answer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isplays each number in the given fil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nd displays their sum at the 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cho2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2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hasNex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nput.hasNextDouble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next = input.nextDoubl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umber = " + n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nex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.next(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row away the bad tok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f("Sum = %.1f\n",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lection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reads a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ll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poll dat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  Obama%  McCain%  ElectoralVotes  Poll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 56 31 7 Oct U. of Connectic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 37 56 5 Sep Rasmu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Z 41 49 10 Oct Northern Arizona 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gram should print how many electoral votes each candidate leads in, and who is leading overall in the poll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ama: 214 vo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cCain: 257 vo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lection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omputes leader in presidential polls, based on input file such a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K 42 53 3 Oct Ivan Moore Resear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lection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374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input = new Scanner(new File("polls.txt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bamaVotes = 0, mccainVotes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nput.hasNextInt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bama = input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ccain = input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eVotes = input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bama &gt; mccain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amaVotes = obamaVotes + eVote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mccain &gt; obama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ccainVotes = mccainVotes + eVote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.next(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kip non-integer tok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201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Obama: " + obamaVotes + " votes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McCain: " + mccainVotes + " votes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952880" y="4327560"/>
            <a:ext cx="3353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ding fi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read a file, pas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en 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mydata.tx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, better y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("mydata.txt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 path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bsolute p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specifies a drive or a top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/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l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/Documents/smith/hw6/input/data.cs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ows can also use backslashes to separate fol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lative p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does not specify any top-level fol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d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/kinglear.t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d to be relative to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urrent directo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data/readme.txt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our program is 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:/hw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look fo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:/hw6/data/readme.t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piler error w/ fi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ollowing program does not compi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canner input = new Scanner(new File("data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ext = input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tex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ollowing error occu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adFile.java:6: unreported exception java.io.FileNotFoundException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must be caught or declared to be throw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cep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representing a runtime err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viding an integer by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l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n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passing too large an inde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ying to read the wrong type of value from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ying to read a file that does not ex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say that a program with an error "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ro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xcep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lso possible to "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 (handle or fix) an excep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error that must be handled by our program (otherwise it will not compile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must specify how our program will handle file I/O failu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162920" y="60480"/>
            <a:ext cx="1904760" cy="13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row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u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cla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Keywords on a method's header that state that it may generate an excep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saying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I hereby announce that this method might throw an exception, and I accept the consequences if it happens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unit of user input, separated by whitespa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lits a file's contents into toke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an input file contains the follow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 3.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ohn Smith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interpret the tokens as the following typ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ok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ype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oh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mith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974880" y="2971800"/>
            <a:ext cx="2301840" cy="70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s and input curs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a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contains this tex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.9 7.4  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9 4.7    -15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iews all input as a stream of charact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put curs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urrent position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905120"/>
            <a:ext cx="259092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330800"/>
            <a:ext cx="78706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8-10-29T18:10:47Z</dcterms:modified>
  <cp:revision>1345</cp:revision>
  <dc:subject/>
  <dc:title>Building Java Programs</dc:title>
</cp:coreProperties>
</file>