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D047-6AB9-459C-90CC-97A81ED68F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0D1E-3A84-46CC-9DC9-39ED7C9155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ACEB-10AC-4220-99E2-0DE8A1EF62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68E9-4E5E-459E-8D77-0CEE70C78A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1470-4754-46D4-A17E-7C6B5E3F6A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C511-43F3-43EC-9DFF-9CF5AEFB79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C8FD-0167-4EA2-95A1-0D1E8059C1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6E36-E6CF-49B0-B2AC-BF948998BE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66B1-6634-4BD0-8A06-7BBE82E830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2509-71F2-44D4-B63A-0EE798BE4E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662D-7BCA-4B0A-94E9-605D03DD62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80AF-E43C-4563-AB37-10FAA1DD26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FF42-4088-4F82-9364-4F70E8628BE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04FB-33C8-4C0A-9110-48E8DAE576E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5-3: Boolean Log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5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check: #11 - 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s: #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deos: Ch. 5 #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olution w/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ariab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could store the result of the logical te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ice: Whatev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, we want to return th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we want to 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we want to 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olution w/ "Boolean Zen"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servation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unnecessa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ri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ore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s value is exactly what you want to return.  So return that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even shorter vers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don't even need the vari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just perform the test and return its result in one ste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 templat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la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prompts the user for two words and reports whether they "rhyme" (end with the same last two letters) and/or "alliterate" (start with the same letter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un #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car ST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un #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un #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booyah so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y have nothing in comm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word1 = console.next();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ype two words: </a:t>
            </a:r>
            <a:r>
              <a:rPr b="1" lang="en-US" sz="1500" spc="-1" strike="noStrike" u="sng">
                <a:solidFill>
                  <a:srgbClr val="008080"/>
                </a:solidFill>
                <a:uFillTx/>
                <a:latin typeface="Courier New"/>
              </a:rPr>
              <a:t>car STA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word2 = console.next();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ey rhyme!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ey alliterate (start with the same letter)!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olean rhym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practice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whethe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vowel (a, e, i, o, or u), case-insensitivel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 the above method into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whethe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ny character EXCEPT a vowel (a, e, i, o, or u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method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Vowe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Vow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practice answ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practice answers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en to return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methods that involve a loop an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tur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you figure out whether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should the method return its resul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problem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t accept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meter and uses it to pick up to 10 lotto numbers between 1 and 3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thod should print each number as it is draw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 output from 2 call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9 5 29 16 4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ny of the numbers is a lucky 7, the method should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 Otherwise, it should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lawed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on incorrect sol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random lotto numb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one of them is a lucky 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thod tries to return immediately after the first ro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bad, if that roll isn't a 7; we need to roll all 10 times to see if any of them is a 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accepts an integer as a parameter and returns the sum of the digits of that numb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2+9+1+0+7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 that the number is non-nega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nt: Us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perator to extract a digit from a numb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ing at the right tim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rected co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random lotto numb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one of them is a lucky 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we know there was no 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s immediately if 7 is found, because the answer must b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 If 7 isn't found, we draw the next lotto numbe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ll 10 aren't 7, the loop ends and we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return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whethe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igit of a positive integer is od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whethe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igit of a positive integer is od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DigitsOdd(917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3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haracter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vowel, el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AllVowels("oink"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oolean return answ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ollowing code implements the metho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(n % 10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d last digit to s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logical type whose values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pres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cre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s, p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meter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s from methods,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minor = (age &lt; 2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expensive = iPhonePrice &gt; 200.0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iLoveCS =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Can't purchase alcohol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LoveCS || !expensi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uying an iPhon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ethods that return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can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all to such a method can be a loop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your name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console.nextLin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endsWith(", Esq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nd I am Ted 'Theodore' Logan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 Morgan's Law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 Morgan's Law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ules used to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eg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ver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oolean express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when you want the opposite of a known boolean t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2666880"/>
          <a:ext cx="7756560" cy="137160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200" y="4800600"/>
          <a:ext cx="8229600" cy="1584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!= 7 || y &lt;=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rit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othOdd(int n1, int n2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1 % 2 != 0 &amp;&amp; n2 % 2 !=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s to this methods can now be used as tes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, part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ents ne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ten test if a resul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othOdd(7, 13) == 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this is unnecessary and redundant.  Preferre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imilar pattern can be used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es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othOdd(7, 13) == 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!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, part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that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ten have 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e code above is unnecessarily verbo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2-09T18:34:41Z</dcterms:modified>
  <cp:revision>1330</cp:revision>
  <dc:subject/>
  <dc:title>Building Java Programs</dc:title>
</cp:coreProperties>
</file>