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BBDDE3A-0A37-440E-8C11-EB3D6592121B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B82A149-F03E-46EC-97B1-6471AE560FA9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BD3B375-34BB-4327-8081-426B99FF409E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73160" y="630360"/>
            <a:ext cx="4200480" cy="3151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B48FB63-DF4E-4FC6-B879-E0168E1B93B2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860D-9AFA-49AA-90BF-557A16D8F0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ED84-E722-49AD-9B03-537743DFD6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B241-0D1A-4C98-8EAA-3FC7CD5BFA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2FEA-D97D-42AF-977E-E682D1FC65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9E5B-E1C1-4010-BA9E-DE31D84BF2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3F84-6A6E-4ADD-A4F5-FE68659377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893A-97B3-4049-820E-B5248CFF4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9728-9BE8-461C-90A5-8BF22F054A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EB9F-FC13-4D49-82F4-68BC7CF8DE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F1D3-6573-4B02-A14E-BCD014D4E5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C305-D4A1-4396-8967-6132327E21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FFDC-65E7-47F1-9685-8E6263E54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8524-1E38-4C96-BDC8-31AFA4F0B14C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D36-1D0B-4377-9EC1-58FB6E7EF5C7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docs.oracle.com/javase/7/docs/api/java/lang/String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3: Strings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3, 4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ame bord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mpt the user for full 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out the pattern to the lef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hould be resizable.  Size 1 is shown and size 2 would have the first name twice followed by last name tw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28600" y="1368360"/>
            <a:ext cx="243828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N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LEN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I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TI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outputs “The Name Game” with a person’s first and last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mes Joy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mes, James, bo-ba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ana-fana fo-fa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e-fi-mo-ma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ME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yce, Joyce, bo-boy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ana-fana fo-foy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e-fi-mo-moy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Y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"The Name Game"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heNameGam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paceIndex = name.indexOf("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Name = name.substring(0, spaceInde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Name = name.substring(spaceIndex + 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Song(firstNam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Song(lastNam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(cont.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ingSong(String nam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allButLast = name.substring(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, " + name + ", bo-b" + allButLa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Banana-fana fo-f" + allButLa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Fee-fi-mo-m" + allButLa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.toUpperCase() + "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aring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onal operators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ail on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’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de will compile, but it will not print the so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ares objects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en later), so it often giv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en when tw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have the same let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8960" y="2711520"/>
            <a:ext cx="2867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are compared using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’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ly this is a method that returns a value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ype used in logical te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test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4267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name = console.nextLine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ame.equalsIgnoreCase("buTteRs"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System.out.println("You're grounded, young man!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ing documentation: 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ourier New"/>
                <a:hlinkClick r:id="rId1"/>
              </a:rPr>
              <a:t>http://docs.oracle.com/javase/7/docs/api/java/lang/String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two people's first names and suggests a name for their chil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uggestion is the concatentation of the first halves of both n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ent 1 first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nie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ent 2 first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ld gender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ggested baby name: JODA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ent 1 first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nie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ent 2 first name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ld gender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ggested baby name: DANIJ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uggests a baby name based on parents' nam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BabyNam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s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Parent 1 first name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1 = s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Parent 2 first name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2 = s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Child gender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gender = s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Suggested name: "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ggestChildName(gender, name1, name2).toUpperCase()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(cont.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turn the first half of the given nam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getHalfName(String name)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halfIndex = name.length() / 2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name.substring(0, halfIndex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uggests a child's name (for a given gender) for parents with the given nam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uggestChildName(String gender, String name1, String name2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halfName1 = getHalfName(name1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halfName2 = getHalfName(name2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gender.toLowerCase().startsWith("f"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ame = halfName1 + halfName2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ame = halfName2 + halfName1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nam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ding: 3.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String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mpt the user for two words and report whether the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"rhyme"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nd with the same last two letter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lliter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egin with the same let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 output: (run #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ar S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un #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bare b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un #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ell sh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un #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extra strawber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other Strings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80"/>
                </a:solidFill>
                <a:latin typeface="Courier New"/>
              </a:rPr>
              <a:t>// Determines whether two words rhyme and/or alliterat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class Rhyme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tring word2 = console.next().toLowerCase();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rintIfRhyme(word1, word2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rintIfAlliterate(word1, word2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8080"/>
                </a:solidFill>
                <a:latin typeface="Courier New"/>
              </a:rPr>
              <a:t>// print if two words "rhyme" (i.e., end with the same two letters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static void printIfRhyme(String word1, String word2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f (word2.length() &gt;= 2 &amp;&amp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word1.endsWith(word2.substring(word2.length() - 2))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tem.out.println("They rhyme!");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8080"/>
                </a:solidFill>
                <a:latin typeface="Courier New"/>
              </a:rPr>
              <a:t>// print if two alliterat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static void printIfAlliterate(String word1, String word2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f (word1.startsWith(word2.substring(0, 1))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primitive type representing single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tored internally as an array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nacho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rrounded with apostrophes: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or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initial 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'J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itial);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J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itial + " Joyce")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J Joy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191120" y="2562120"/>
          <a:ext cx="4722840" cy="94320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n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c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o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s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2706840" y="4792680"/>
            <a:ext cx="20620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549600" y="2494080"/>
            <a:ext cx="18925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A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accessed us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pt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dex parameter and return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 that ind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 to print or examine each charac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a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with relational operato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&lt; 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and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X' == 'X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and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Q' != 'q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xample that prints the alphab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test the value of a string's charact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.charAt(word.length() - 1) == 's'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y are differen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 object; it contains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primitive; you can't call methods on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mapped to an integer value interna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CII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6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6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9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9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ing "math"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ses automatic conversion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107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1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onvert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the equival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ype-cast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/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esar ciph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simple encryption where a message is encoded by shifting each letter by a given amou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with a shift of 3,  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,  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,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,  and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message from the user and performs a Caesar cipher on its let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secret messag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Computer science is awes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secret key: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encoded message: frpsxwhu vflhqfh lv dzhvrp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reads a message and a secret key from the user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crypts the message using a Caesar cipher, shifting each le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Messag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our secret messag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messag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 = message.toLowerCas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Your secret key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key = 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code(message, ke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ntity that contains data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interact with the method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ata is hidden in the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ob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(creating) an objec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 an object's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object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method encodes the given text string using a Cae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ipher, shifting each letter by the given number of plac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ncode(String text, int shif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he encoded message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text.length()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letter = text.charAt(i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hift only letters (leave other characters alon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tter &gt;= 'a' &amp;&amp; letter &lt;= 'z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+ shif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ay need to wrap ar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tter &gt; 'z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- 2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letter &lt; 'a'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tter = (char) (letter + 2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lette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(Optional)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  <a:ea typeface="Courier New"/>
              </a:rPr>
              <a:t> printf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ormatting text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mat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ormat string can conta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sert parame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-2260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-2260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-2260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16452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placeholders are used instead of + concate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-2260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9600" indent="0"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16452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oes not drop to the next line unless you wri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width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s wide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precis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, rounded t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git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s wide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git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numbe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de (left-align)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3392640" y="5105520"/>
            <a:ext cx="1218960" cy="682560"/>
            <a:chOff x="3392640" y="5105520"/>
            <a:chExt cx="1218960" cy="682560"/>
          </a:xfrm>
        </p:grpSpPr>
        <p:sp>
          <p:nvSpPr>
            <p:cNvPr id="185" name="Text Box 6"/>
            <p:cNvSpPr/>
            <p:nvPr/>
          </p:nvSpPr>
          <p:spPr>
            <a:xfrm>
              <a:off x="3552480" y="5419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 rot="16200000">
              <a:off x="3849840" y="4648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3952800" y="4056120"/>
            <a:ext cx="876960" cy="582480"/>
            <a:chOff x="3952800" y="4056120"/>
            <a:chExt cx="876960" cy="582480"/>
          </a:xfrm>
        </p:grpSpPr>
        <p:sp>
          <p:nvSpPr>
            <p:cNvPr id="188" name="AutoShape 10"/>
            <p:cNvSpPr/>
            <p:nvPr/>
          </p:nvSpPr>
          <p:spPr>
            <a:xfrm rot="5400000">
              <a:off x="4281480" y="429552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3952800" y="405612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ceip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to better format its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results in the format below, with 2 digits 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(partial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storing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like most other objects,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not created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 (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valu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s = "Alice and Bob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dex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acters of a string are numbered with 0-bas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dex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"M. Mous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character's index :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t character's index : 1 less than the string's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vidual characters are value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methods are called using the dot not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arz = "Prince vs. Michael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z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371600"/>
          <a:ext cx="8845560" cy="3073320"/>
        </p:xfrm>
        <a:graphic>
          <a:graphicData uri="http://schemas.openxmlformats.org/drawingml/2006/table">
            <a:tbl>
              <a:tblPr/>
              <a:tblGrid>
                <a:gridCol w="3702240"/>
                <a:gridCol w="5143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the following str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ould you extract the 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ing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ild and return a new string, rather than modifying the current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Mumford &amp; Son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umford &amp; 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modify a variable's value, you must reassign i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"Mumford &amp; Sons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UMFORD &amp; 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3241800" y="5678640"/>
            <a:ext cx="27018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960480" y="2390760"/>
            <a:ext cx="3814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s user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ads a word of input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Bo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NO has 4 letters and starts with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ads a line of input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6:05:31Z</dcterms:created>
  <dc:creator>Marty Stepp</dc:creator>
  <dc:description/>
  <dc:language>en-US</dc:language>
  <cp:lastModifiedBy>Benson Limketkai</cp:lastModifiedBy>
  <cp:lastPrinted>2009-04-22T19:24:48Z</cp:lastPrinted>
  <dcterms:modified xsi:type="dcterms:W3CDTF">2014-04-22T23:56:53Z</dcterms:modified>
  <cp:revision>1426</cp:revision>
  <dc:subject/>
  <dc:title>Building Java Programs</dc:title>
</cp:coreProperties>
</file>