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3593880" y="-360"/>
            <a:ext cx="274932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3"/>
          </p:nvPr>
        </p:nvSpPr>
        <p:spPr>
          <a:xfrm>
            <a:off x="0" y="79815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4"/>
          </p:nvPr>
        </p:nvSpPr>
        <p:spPr>
          <a:xfrm>
            <a:off x="3593880" y="7981560"/>
            <a:ext cx="274932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A794C28-397E-4726-9B32-F18E893727EC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594240" y="7981920"/>
            <a:ext cx="2749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EF41707-D568-4B59-8547-87A8FB0AC0D8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594240" y="7981920"/>
            <a:ext cx="2749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EF995CC-EFDA-4096-82E9-08A12C118D9C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This program computes two people's body mass index (BMI)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compares them.  The code uses parameters, returns, and Sc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.util.*;  // so that I can use Sc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class BMI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This program reads in data for two people and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computes their body mass index (BMI)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finish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68386-49CD-4BF2-9527-18CFB96BAB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0C4BA-C4AD-45D4-9DF8-D720120EB1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92CE-8154-443C-B09C-352958DB39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97224-A796-488B-9EA5-305EEC8B24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6917C-3225-45FD-86BD-D0A1C674CD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5F358-9242-4EED-BA8F-558CC63613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6338C-40EE-465E-9D08-FE564C8DBB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BDEC-244F-41CE-A327-32A2F45D48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8EEE5-D710-4CFB-9EC1-A53E96ABCB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E5FAC-FB2D-4362-9D99-CD1D5FD418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07CF3-4349-4C89-A35C-28E5DFFBC7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25F8-5A6C-4835-A95F-A0712B713B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9D16-1CE7-4A4E-BF42-6C98B1E117A5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0" name="Freeform 13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53" name="Freeform 16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54" name="Freeform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" name="Freeform 17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57" name="Freeform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A8D0-F26D-4276-A177-9BE95DD05251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xkcd.com/221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5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5-2: Random Numbers; procedural desig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5.1, 5.6, 4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Asks the user to do adding problems and scores them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AddingGame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lay until user gets 3 wro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points = 0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wrong = 0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wrong &lt; 3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result = play(console, rand);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lay one gam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result == 0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rong++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s++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You earned " + points + " total points.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Builds one addition problem and presents it to the user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1 point if you get it right, 0 if wrong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 play(Scanner console, Random rand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 the operands being added, and sum the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operands = rand.nextInt(4) + 2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um = rand.nextInt(10) + 1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sum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2; i &lt;= operands; i++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n = rand.nextInt(10) + 1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um += n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 + " + n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 = 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 user's guess and report whether it was correc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guess = console.nextInt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guess == sum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Wrong! The answer was " + total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Procedural design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ading: 4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call: BMI progra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mula for body mass index (BMI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produces output like the follow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 program reads data for two people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utes their body mass index (BMI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70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94.2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62.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30.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1 BMI = 27.86892857142857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verweigh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2 BMI = 23.48582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fference = 4.383104571428571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2"/>
              <p:cNvSpPr txBox="1"/>
              <p:nvPr/>
            </p:nvSpPr>
            <p:spPr>
              <a:xfrm>
                <a:off x="888840" y="1884240"/>
                <a:ext cx="24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M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eigh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0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4" name=""/>
          <p:cNvGraphicFramePr/>
          <p:nvPr/>
        </p:nvGraphicFramePr>
        <p:xfrm>
          <a:off x="5867280" y="1295280"/>
          <a:ext cx="3054600" cy="1505160"/>
        </p:xfrm>
        <a:graphic>
          <a:graphicData uri="http://schemas.openxmlformats.org/drawingml/2006/table">
            <a:tbl>
              <a:tblPr/>
              <a:tblGrid>
                <a:gridCol w="1420920"/>
                <a:gridCol w="1633680"/>
              </a:tblGrid>
              <a:tr h="311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ight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29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low 1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d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29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.5 - 2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29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.0 - 2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29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.0 and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Chaining"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hould be a concise summary of your progra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bad if each method calls the next without ever returning (we call th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ain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better structure h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ake most of the call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hods must return values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be passed on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392040" y="2666880"/>
            <a:ext cx="8277120" cy="1002240"/>
            <a:chOff x="392040" y="2666880"/>
            <a:chExt cx="8277120" cy="1002240"/>
          </a:xfrm>
        </p:grpSpPr>
        <p:sp>
          <p:nvSpPr>
            <p:cNvPr id="138" name="Text Box 5"/>
            <p:cNvSpPr/>
            <p:nvPr/>
          </p:nvSpPr>
          <p:spPr>
            <a:xfrm>
              <a:off x="392040" y="2666880"/>
              <a:ext cx="79020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9" name="Group 6"/>
            <p:cNvGrpSpPr/>
            <p:nvPr/>
          </p:nvGrpSpPr>
          <p:grpSpPr>
            <a:xfrm>
              <a:off x="1219320" y="2813040"/>
              <a:ext cx="1792080" cy="398880"/>
              <a:chOff x="1219320" y="2813040"/>
              <a:chExt cx="1792080" cy="398880"/>
            </a:xfrm>
          </p:grpSpPr>
          <p:sp>
            <p:nvSpPr>
              <p:cNvPr id="140" name="Line 7"/>
              <p:cNvSpPr/>
              <p:nvPr/>
            </p:nvSpPr>
            <p:spPr>
              <a:xfrm>
                <a:off x="1219320" y="286056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Text Box 8"/>
              <p:cNvSpPr/>
              <p:nvPr/>
            </p:nvSpPr>
            <p:spPr>
              <a:xfrm>
                <a:off x="1764000" y="281304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A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2" name="Group 9"/>
            <p:cNvGrpSpPr/>
            <p:nvPr/>
          </p:nvGrpSpPr>
          <p:grpSpPr>
            <a:xfrm>
              <a:off x="3108240" y="2965320"/>
              <a:ext cx="1792080" cy="398880"/>
              <a:chOff x="3108240" y="2965320"/>
              <a:chExt cx="1792080" cy="398880"/>
            </a:xfrm>
          </p:grpSpPr>
          <p:sp>
            <p:nvSpPr>
              <p:cNvPr id="143" name="Line 10"/>
              <p:cNvSpPr/>
              <p:nvPr/>
            </p:nvSpPr>
            <p:spPr>
              <a:xfrm>
                <a:off x="3108240" y="301284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Text Box 11"/>
              <p:cNvSpPr/>
              <p:nvPr/>
            </p:nvSpPr>
            <p:spPr>
              <a:xfrm>
                <a:off x="3652920" y="296532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B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5" name="Group 12"/>
            <p:cNvGrpSpPr/>
            <p:nvPr/>
          </p:nvGrpSpPr>
          <p:grpSpPr>
            <a:xfrm>
              <a:off x="4992840" y="3117960"/>
              <a:ext cx="1792080" cy="398880"/>
              <a:chOff x="4992840" y="3117960"/>
              <a:chExt cx="1792080" cy="398880"/>
            </a:xfrm>
          </p:grpSpPr>
          <p:sp>
            <p:nvSpPr>
              <p:cNvPr id="146" name="Line 13"/>
              <p:cNvSpPr/>
              <p:nvPr/>
            </p:nvSpPr>
            <p:spPr>
              <a:xfrm>
                <a:off x="4992840" y="316548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Text Box 14"/>
              <p:cNvSpPr/>
              <p:nvPr/>
            </p:nvSpPr>
            <p:spPr>
              <a:xfrm>
                <a:off x="5537520" y="311796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C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15"/>
            <p:cNvGrpSpPr/>
            <p:nvPr/>
          </p:nvGrpSpPr>
          <p:grpSpPr>
            <a:xfrm>
              <a:off x="6877080" y="3270240"/>
              <a:ext cx="1792080" cy="398880"/>
              <a:chOff x="6877080" y="3270240"/>
              <a:chExt cx="1792080" cy="398880"/>
            </a:xfrm>
          </p:grpSpPr>
          <p:sp>
            <p:nvSpPr>
              <p:cNvPr id="149" name="Line 16"/>
              <p:cNvSpPr/>
              <p:nvPr/>
            </p:nvSpPr>
            <p:spPr>
              <a:xfrm>
                <a:off x="6877080" y="331776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17"/>
              <p:cNvSpPr/>
              <p:nvPr/>
            </p:nvSpPr>
            <p:spPr>
              <a:xfrm>
                <a:off x="7421760" y="327024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D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51" name="Group 18"/>
          <p:cNvGrpSpPr/>
          <p:nvPr/>
        </p:nvGrpSpPr>
        <p:grpSpPr>
          <a:xfrm>
            <a:off x="392040" y="4676760"/>
            <a:ext cx="4503600" cy="1617840"/>
            <a:chOff x="392040" y="4676760"/>
            <a:chExt cx="4503600" cy="1617840"/>
          </a:xfrm>
        </p:grpSpPr>
        <p:sp>
          <p:nvSpPr>
            <p:cNvPr id="152" name="Text Box 19"/>
            <p:cNvSpPr/>
            <p:nvPr/>
          </p:nvSpPr>
          <p:spPr>
            <a:xfrm>
              <a:off x="392040" y="4676760"/>
              <a:ext cx="79020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3" name="Group 20"/>
            <p:cNvGrpSpPr/>
            <p:nvPr/>
          </p:nvGrpSpPr>
          <p:grpSpPr>
            <a:xfrm>
              <a:off x="1219320" y="4822920"/>
              <a:ext cx="1791720" cy="398880"/>
              <a:chOff x="1219320" y="4822920"/>
              <a:chExt cx="1791720" cy="398880"/>
            </a:xfrm>
          </p:grpSpPr>
          <p:sp>
            <p:nvSpPr>
              <p:cNvPr id="154" name="Line 21"/>
              <p:cNvSpPr/>
              <p:nvPr/>
            </p:nvSpPr>
            <p:spPr>
              <a:xfrm>
                <a:off x="1219320" y="4870440"/>
                <a:ext cx="533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Text Box 22"/>
              <p:cNvSpPr/>
              <p:nvPr/>
            </p:nvSpPr>
            <p:spPr>
              <a:xfrm>
                <a:off x="1763640" y="482292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A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6" name="Group 23"/>
            <p:cNvGrpSpPr/>
            <p:nvPr/>
          </p:nvGrpSpPr>
          <p:grpSpPr>
            <a:xfrm>
              <a:off x="1219320" y="5029200"/>
              <a:ext cx="1791720" cy="732240"/>
              <a:chOff x="1219320" y="5029200"/>
              <a:chExt cx="1791720" cy="732240"/>
            </a:xfrm>
          </p:grpSpPr>
          <p:sp>
            <p:nvSpPr>
              <p:cNvPr id="157" name="Line 24"/>
              <p:cNvSpPr/>
              <p:nvPr/>
            </p:nvSpPr>
            <p:spPr>
              <a:xfrm>
                <a:off x="1219320" y="5029200"/>
                <a:ext cx="53316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25"/>
              <p:cNvSpPr/>
              <p:nvPr/>
            </p:nvSpPr>
            <p:spPr>
              <a:xfrm>
                <a:off x="1763640" y="536256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B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9" name="Group 26"/>
            <p:cNvGrpSpPr/>
            <p:nvPr/>
          </p:nvGrpSpPr>
          <p:grpSpPr>
            <a:xfrm>
              <a:off x="3103560" y="5514840"/>
              <a:ext cx="1792080" cy="398880"/>
              <a:chOff x="3103560" y="5514840"/>
              <a:chExt cx="1792080" cy="398880"/>
            </a:xfrm>
          </p:grpSpPr>
          <p:sp>
            <p:nvSpPr>
              <p:cNvPr id="160" name="Line 27"/>
              <p:cNvSpPr/>
              <p:nvPr/>
            </p:nvSpPr>
            <p:spPr>
              <a:xfrm>
                <a:off x="3103560" y="556236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Text Box 28"/>
              <p:cNvSpPr/>
              <p:nvPr/>
            </p:nvSpPr>
            <p:spPr>
              <a:xfrm>
                <a:off x="3648240" y="551484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C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2" name="Group 29"/>
            <p:cNvGrpSpPr/>
            <p:nvPr/>
          </p:nvGrpSpPr>
          <p:grpSpPr>
            <a:xfrm>
              <a:off x="1066680" y="5105520"/>
              <a:ext cx="1944360" cy="1189080"/>
              <a:chOff x="1066680" y="5105520"/>
              <a:chExt cx="1944360" cy="1189080"/>
            </a:xfrm>
          </p:grpSpPr>
          <p:sp>
            <p:nvSpPr>
              <p:cNvPr id="163" name="Line 30"/>
              <p:cNvSpPr/>
              <p:nvPr/>
            </p:nvSpPr>
            <p:spPr>
              <a:xfrm>
                <a:off x="1066680" y="5105520"/>
                <a:ext cx="685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31"/>
              <p:cNvSpPr/>
              <p:nvPr/>
            </p:nvSpPr>
            <p:spPr>
              <a:xfrm>
                <a:off x="1763640" y="589572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ethodD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ad "chain" 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BMI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his program reads ... (etc.)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rson(consol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erson(Scanner console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Enter next person's information: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eight (in inches)?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height = console.nextDoubl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getWeight(console, heigh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getWeight(Scanner console, double height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weight (in pounds)?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weight = console.nextDoubl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computeBMI(console, height, weigh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computeBMI(Scanner s, double h, double w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cedural heuristic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1375"/>
              </a:spcBef>
              <a:spcAft>
                <a:spcPts val="1375"/>
              </a:spcAft>
              <a:buClr>
                <a:srgbClr val="eb641b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method should have a clear set of responsibi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19040" indent="-419040">
              <a:spcBef>
                <a:spcPts val="1375"/>
              </a:spcBef>
              <a:spcAft>
                <a:spcPts val="1375"/>
              </a:spcAft>
              <a:buClr>
                <a:srgbClr val="eb641b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 method should do too large a share of the overall tas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19040" indent="-419040">
              <a:spcBef>
                <a:spcPts val="1375"/>
              </a:spcBef>
              <a:spcAft>
                <a:spcPts val="1375"/>
              </a:spcAft>
              <a:buClr>
                <a:srgbClr val="eb641b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inimize coupling and dependencies between metho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19040" indent="-419040">
              <a:spcBef>
                <a:spcPts val="1375"/>
              </a:spcBef>
              <a:spcAft>
                <a:spcPts val="1375"/>
              </a:spcAft>
              <a:buClr>
                <a:srgbClr val="eb641b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main method should read as a concise summary of the overall set of tasks performed by the progra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19040" indent="-419040">
              <a:spcBef>
                <a:spcPts val="1375"/>
              </a:spcBef>
              <a:spcAft>
                <a:spcPts val="1375"/>
              </a:spcAft>
              <a:buClr>
                <a:srgbClr val="eb641b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ata should be declared/used at the lowest level possi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dilberttourofaccounting.png"/>
          <p:cNvPicPr/>
          <p:nvPr/>
        </p:nvPicPr>
        <p:blipFill>
          <a:blip r:embed="rId1"/>
          <a:stretch/>
        </p:blipFill>
        <p:spPr>
          <a:xfrm>
            <a:off x="507960" y="952560"/>
            <a:ext cx="8128080" cy="2400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random_number.png"/>
          <p:cNvPicPr/>
          <p:nvPr/>
        </p:nvPicPr>
        <p:blipFill>
          <a:blip r:embed="rId2"/>
          <a:stretch/>
        </p:blipFill>
        <p:spPr>
          <a:xfrm>
            <a:off x="2031840" y="4191120"/>
            <a:ext cx="5080320" cy="18288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0"/>
          <p:cNvSpPr/>
          <p:nvPr/>
        </p:nvSpPr>
        <p:spPr>
          <a:xfrm>
            <a:off x="3708720" y="6019920"/>
            <a:ext cx="1726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8119"/>
                </a:solidFill>
                <a:uFillTx/>
                <a:latin typeface="Verdana"/>
                <a:hlinkClick r:id="rId3"/>
              </a:rPr>
              <a:t>http://xkcd.com/221/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generate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seud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random numb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found in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ck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domNumber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Int(1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0-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280" y="2666880"/>
          <a:ext cx="8809200" cy="1793880"/>
        </p:xfrm>
        <a:graphic>
          <a:graphicData uri="http://schemas.openxmlformats.org/drawingml/2006/table">
            <a:tbl>
              <a:tblPr/>
              <a:tblGrid>
                <a:gridCol w="2362320"/>
                <a:gridCol w="64468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a random 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a random integer in the range [0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 other words, 0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 inclu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Doubl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a random real number in the range [0.0, 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Generating random numb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mon usage: to get a random number from 1 to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Int(20) +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-20 inclus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get a number in arbitrary range [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] inclusiv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nextInt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ze of 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+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r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ize of ran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A random integer between 4 and 10 inclusiv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Int(7) + 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iven the following declaration, how would you ge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andom number between 1 and 47 inclusiv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dom1 = rand.nextInt(47) +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andom number between 23 and 30 inclusiv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dom2 = rand.nextInt(8) + 2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andom even number between 4 and 12 inclusiv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dom3 = rand.nextInt(5) * 2 + 4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d other ty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 return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tween [0.0, 1.0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Get a random GPA value between [1.5,  4.0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andomGpa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Doubl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2.5 + 1.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y set of possible values can be mapped to integ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de to randomly play Rock-Paper-Scisso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 = rand.nextInt(3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 ==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Rock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 == 1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aper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 ==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cissors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simulates rolling two 6-sided dice until their combined result comes up as 7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nything but 7 to start the loo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sum != 7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oll the dice o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oll1 = rand.nextInt(6) + 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plays an adding ga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k user to solve random adding problems with 2-5 numbers in the range from 1 - 1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user gets 1 point for a correct answer, 0 for incorre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ogram stops after 3 incorrect answ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 + 10 + 3 + 10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 + 2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8 + 6 + 7 + 9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ong! The answer was 3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 + 9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ong! The answer was 1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 + 9 + 9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 + 1 + 7 + 2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 + 2 + 10 + 9 + 7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ong! The answer was 3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ou earned 4 total poi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04:34:23Z</dcterms:created>
  <dc:creator>Marty Stepp</dc:creator>
  <dc:description/>
  <dc:language>en-US</dc:language>
  <cp:lastModifiedBy>Benson Limketkai</cp:lastModifiedBy>
  <cp:lastPrinted>2010-04-30T19:29:54Z</cp:lastPrinted>
  <dcterms:modified xsi:type="dcterms:W3CDTF">2014-04-28T17:57:59Z</dcterms:modified>
  <cp:revision>1397</cp:revision>
  <dc:subject/>
  <dc:title>Building Java Programs</dc:title>
</cp:coreProperties>
</file>