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8FDC669-702A-40CC-B17D-57A42A648F6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DF4B31A-8457-45AC-BCB6-740F134D0C85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1748-C4F6-4D2C-A379-6E63FFAED6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28CF-4A40-4DC0-A8DE-9F427D9C60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F04E-EB97-4A0E-9893-CB9A9D203B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41A9-9983-4D82-AF5C-D546811FF2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1830-6820-42FD-99CD-771AFE963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338B-9D2A-4973-A948-D24531C37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E787-DE99-43DE-B874-2098A539D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6D17-4821-4D75-8260-2B313C229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3B97-7DC0-47DD-BCAD-973663BC6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9156-463E-425A-88EC-96A8201B6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8062-860C-41DF-A9A3-FCD79E2EA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B831-B1AC-4D22-BC4D-1BB0F7B77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9714-FCFC-4DE7-97A8-2905143A409B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3D65-118F-4183-902C-0837868DDB68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5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oop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encepost Loops, and Sentinel Lo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 – 5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loop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12360" y="3092400"/>
            <a:ext cx="7839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5.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ategories of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ecutes a known number of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s we have seen are definite loo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"hello" 10 ti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all the prime numbers up to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each odd number between 5 and 12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finite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where the number of times its body repeats is not known in adva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pt the user until they type a non-negative nu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random numbers until a prime number is pri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eat until the user has typed "q" to qu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ampl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bet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we don't know how many times we will need to increment to find the fa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nti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alue that signals the end of user inpu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tinel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peats until a sentinel value is se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Write a program that prompts the user for text until the user types nothing, then output the total number of characters typ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 this case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t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ng is the sentinel value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nothing to exit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valu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olution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nothing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hanging the sentinel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your program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the sentinel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log of exec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hel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his is a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a line (or "quit" to exit)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qu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19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hanging the sentinel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ing the sentinel's value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oes not work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"dummy";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dummy" value, anything but "qui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olution produces the wrong output.  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typed a total of 23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problem with our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de uses a pattern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m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d input length to th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last pass, the sentinel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length (4) is added to the sum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quit"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a50021"/>
                </a:solidFill>
                <a:latin typeface="Verdana"/>
              </a:rPr>
              <a:t>add input length (4) to the 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a fencepost probl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rea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nes, but only sum the lengths of the firs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fencepost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m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ile (input is not the senti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add input length to the sum.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wir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mpt for input; read input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// place a "pos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tinel loops often utilize a fencepost "loop-and-a-half" style solution by pulling some code out of the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sheepless_in_seattle_groan.png"/>
          <p:cNvPicPr/>
          <p:nvPr/>
        </p:nvPicPr>
        <p:blipFill>
          <a:blip r:embed="rId1"/>
          <a:stretch/>
        </p:blipFill>
        <p:spPr>
          <a:xfrm>
            <a:off x="838080" y="584280"/>
            <a:ext cx="74678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rrec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"quit"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m += response.length()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quit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ntinel as a consta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NTI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d with some cleanup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final String SENTINEL = "quit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pons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response.equals(SENTINEL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response.length();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// moved to top of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pons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ine(consol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typed a total of " + sum + " characters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String getLine(Scanner consol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Type a line (or \"" + SENTINE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\" to exit): 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onsole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deceptive problem..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ett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letter from a word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etters("Atmosphere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solu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for(int i = 0; i &lt; word.length()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.charAt(i)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for(int i = 0; i &lt; word.length()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word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, t, m, o, s, p, h, e, r, 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 post analogy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ri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etters but need onl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1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building a fence with wires separated by pos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use a flawed algorithm that repeatedly places a post + wire, the last post will have an extra dangling w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for (length of fenc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11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1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2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2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2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2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3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3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3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4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4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4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5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5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5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6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word.charAt(0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 word.length()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word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e solution: Either first or last "post" can be taken 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tters(String wor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 word.length() - 1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word.charAt(i) + ",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last = word.length() –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ln(word.charAt(last)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all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s up to a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aximum is less than 2, print no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help you, 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returns the number of factors of a give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ue to factors 1, 2, 4, 5, 10,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45Z</dcterms:created>
  <dc:creator>Marty Stepp</dc:creator>
  <dc:description/>
  <dc:language>en-US</dc:language>
  <cp:lastModifiedBy>Benson Limketkai</cp:lastModifiedBy>
  <cp:lastPrinted>2010-04-25T22:48:27Z</cp:lastPrinted>
  <dcterms:modified xsi:type="dcterms:W3CDTF">2014-04-26T20:39:06Z</dcterms:modified>
  <cp:revision>1387</cp:revision>
  <dc:subject/>
  <dc:title>Building Java Programs</dc:title>
</cp:coreProperties>
</file>