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19E0-E597-49BB-B8A6-D14AB82B92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BE65-38C9-41D5-B55F-C02EE9D8B0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9293-C1B4-4E4B-92EC-AD160329A3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1D37-27CD-4E78-9BB3-3CF5F4300A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ED88-6392-4C19-BA5B-3D382F5547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36FE-099B-43AA-9ABA-79505CAF43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AACA-5CCC-40AB-B443-2267D97803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0A62-73D5-4858-B02E-493F51D18F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0FD4-24F5-47B5-A273-C3FFA0488E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7AA0-39A8-4054-94BE-B755F10DB8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6C1E-DE47-4B76-9C42-F83297E73E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83EF-0CEB-4F21-9D67-5A020F1886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A187-0EBA-4F81-99F6-09BC9C63C07D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E09B-894F-426B-99AE-D2F18392EEE0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4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4-2: Advanc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Cumulative s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ding: 4.2, 4.4 - 4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can return different values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ing a value causes a method to immediately ex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paths through the code must reach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t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ll paths must 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ollowing also does not compile.  Why no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iler think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 can skip all paths, even though mathematically it must choose one or the ot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lution here is to chang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 jus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adr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a pair of real number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returns the quadrant for that point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drant(-4.2, 17.3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point falls directly on either axis, 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4510080" y="2617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3048120" y="371484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698080" y="3524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268720" y="3519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072680" y="2236680"/>
            <a:ext cx="9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024440" y="4765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636440" y="28670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2501280" y="2881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501280" y="41004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4636440" y="4086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quadrant(double x, double y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x &gt; 0 &amp;&amp; y &gt; 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gt; 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lt; 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gt; 0 &amp;&amp; y &lt; 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4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at least one coordinate equals 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umulative algorith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dding many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 would you find the sum of all integers from 1-5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1 + 2 + 3 + 4 +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f we want the sum from 1 - 1,000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ttempt at cumulative su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wrong with the following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+= 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+= 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umulative su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riable that keeps a sum in progress and is updated repeatedly until summing is finish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the above code represents a cumulative s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mulative sum variables must be declar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oops that update them, so that they will still exist after the lo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produc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cumulative idea can be used with other operato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ould we make the base and exponent adjustab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1560600" y="3260880"/>
            <a:ext cx="46116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d cumulative su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do a cumulative sum of user in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oper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 can be combined using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logic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"Truth tables" for each, used with logical value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1905120"/>
          <a:ext cx="8001000" cy="1463400"/>
        </p:xfrm>
        <a:graphic>
          <a:graphicData uri="http://schemas.openxmlformats.org/drawingml/2006/table">
            <a:tbl>
              <a:tblPr/>
              <a:tblGrid>
                <a:gridCol w="1933560"/>
                <a:gridCol w="1825560"/>
                <a:gridCol w="3218040"/>
                <a:gridCol w="10238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104840" y="4270320"/>
          <a:ext cx="3721320" cy="182880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226200" y="4270320"/>
          <a:ext cx="1774800" cy="109692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from Ch. 2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pt for how many people, and each person's dinner c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static methods to structure the solu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$75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$6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$11.2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$92.2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answer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ubtotal: $" + subtot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x: $" + ta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ip: $" + tip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otal: $" + tota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utting it all together…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umber of factors of a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2, 3, 4, 6, 8, 12, and 24 are factors of 2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l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3956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valuating logical 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der of opera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42400" indent="-45252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2400" indent="-45252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onal ope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2400" indent="-45252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ical ope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2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7 –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7 &lt;= 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*    6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&amp; 7 &lt;= 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5   &g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+    30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&amp; 7 &lt;= 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5   &gt;=    33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&amp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 &lt;= 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                &amp;&amp; tr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42400" indent="-4525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an be hard to read.  If you ever have an expression like this, consider adding more parentheses and storing intermediate results in variab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3956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valuating logical 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ational operators cannot be "chained" as in algeb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lt;= 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true  &lt;= 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ssume tha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ead, combine multiple test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  &amp;&amp;  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boolean-hair-logic.gif"/>
          <p:cNvPicPr/>
          <p:nvPr/>
        </p:nvPicPr>
        <p:blipFill>
          <a:blip r:embed="rId1"/>
          <a:stretch/>
        </p:blipFill>
        <p:spPr>
          <a:xfrm>
            <a:off x="2054160" y="1371600"/>
            <a:ext cx="503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result of each of the following expression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wers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: Write a program that prompts for information about an apartment and uses it to decide whether to rent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Advanced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if/els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4 - 4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actor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acto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Extracting common/redundant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reduce or eliminate redundancy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+ 1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Group 10"/>
          <p:cNvGrpSpPr/>
          <p:nvPr/>
        </p:nvGrpSpPr>
        <p:grpSpPr>
          <a:xfrm>
            <a:off x="4267080" y="2895480"/>
            <a:ext cx="4648320" cy="3276720"/>
            <a:chOff x="4267080" y="2895480"/>
            <a:chExt cx="4648320" cy="3276720"/>
          </a:xfrm>
        </p:grpSpPr>
        <p:sp>
          <p:nvSpPr>
            <p:cNvPr id="117" name="Text Box 5"/>
            <p:cNvSpPr/>
            <p:nvPr/>
          </p:nvSpPr>
          <p:spPr>
            <a:xfrm>
              <a:off x="5638680" y="3657600"/>
              <a:ext cx="3276720" cy="17398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a);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 = 3 * a;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 (a == 2) {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 = y + 10;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b + x;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8" name="Group 8"/>
            <p:cNvGrpSpPr/>
            <p:nvPr/>
          </p:nvGrpSpPr>
          <p:grpSpPr>
            <a:xfrm>
              <a:off x="4267080" y="2895480"/>
              <a:ext cx="1301760" cy="3276720"/>
              <a:chOff x="4267080" y="2895480"/>
              <a:chExt cx="1301760" cy="3276720"/>
            </a:xfrm>
          </p:grpSpPr>
          <p:sp>
            <p:nvSpPr>
              <p:cNvPr id="119" name="Line 6"/>
              <p:cNvSpPr/>
              <p:nvPr/>
            </p:nvSpPr>
            <p:spPr>
              <a:xfrm>
                <a:off x="4881600" y="4535640"/>
                <a:ext cx="68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AutoShape 7"/>
              <p:cNvSpPr/>
              <p:nvPr/>
            </p:nvSpPr>
            <p:spPr>
              <a:xfrm>
                <a:off x="4267080" y="2895480"/>
                <a:ext cx="609840" cy="3276720"/>
              </a:xfrm>
              <a:custGeom>
                <a:avLst/>
                <a:gdLst>
                  <a:gd name="textAreaLeft" fmla="*/ 0 w 609840"/>
                  <a:gd name="textAreaRight" fmla="*/ 220320 w 609840"/>
                  <a:gd name="textAreaTop" fmla="*/ 85320 h 3276720"/>
                  <a:gd name="textAreaBottom" fmla="*/ 319140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"dangling if"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can be improved about the following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x &gt;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on-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econd if test is unnecessary and can be remov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on-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4:44:50Z</dcterms:created>
  <dc:creator>Marty Stepp</dc:creator>
  <dc:description/>
  <dc:language>en-US</dc:language>
  <cp:lastModifiedBy>Benson Limketkai</cp:lastModifiedBy>
  <cp:lastPrinted>2011-10-18T21:07:16Z</cp:lastPrinted>
  <dcterms:modified xsi:type="dcterms:W3CDTF">2014-04-21T00:01:24Z</dcterms:modified>
  <cp:revision>1354</cp:revision>
  <dc:subject/>
  <dc:title>Building Java Programs</dc:title>
</cp:coreProperties>
</file>