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C30E-7280-46B3-9E4B-337A6FDC0B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69CB-EF03-4D00-AEEC-64FEA58B1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3DF6-25CF-459E-9EF2-8A10E97538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9A6F-2877-4214-BD95-02C10A2646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8E68-C9A8-4ED1-BD2A-8E18C0C42F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651A-D6E8-49B1-9AA4-C8539263D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72E5-86BB-48DF-878E-F0202B92B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923F-52DF-4CE9-9358-BAD282A670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65F3-29A4-45C6-ADE3-F3834A9214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F510-8D11-4A8C-B8B4-1FEE857BB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C403-7AAF-4A7E-A0FB-FD1CD3F228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2236-E767-4AE1-8185-7154778EA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4C3-5332-4976-9CFD-602F580090B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B93-2B7F-41FB-A77F-29C3FB9792F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4-1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check: #4-5, 7, 10,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: #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s: Ch. 4 #2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in need of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de after fac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ln("You have, $" + money + " lef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oney &lt; 5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aution!  Bet carefu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money &lt; 100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Consider betting moderate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ou may bet liberally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ystem.out.print("How much do you want to bet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start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end of each branch is the same, move i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imilar but code exists in each branch, look for patter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"dangl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 proble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can be improved about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x &gt;=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 is unnecessary and can be remov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is non-negativ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relevant in methods that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can return different value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largest of the three given inte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ever path the code enters, it will return the appropriate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ing a value causes a method to immediately ex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de paths must reach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paths must also return a value of the same typ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ll paths must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ollowing also does not compi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ax3(int a, int b, int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b &amp;&amp; a &gt;= c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b &gt;= c &amp;&amp; b &gt;= a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if (c &gt;= a &amp;&amp; c &gt;=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think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might skip all pat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erson's body mass index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MI) is defined to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duces the following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 compu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ir body mass index (BMI) and weight stat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1 body mass index = 27.8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#2 body mass index = 23.4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57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95400" y="219708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5200560" y="1184400"/>
          <a:ext cx="3727440" cy="1828800"/>
        </p:xfrm>
        <a:graphic>
          <a:graphicData uri="http://schemas.openxmlformats.org/drawingml/2006/table">
            <a:tbl>
              <a:tblPr/>
              <a:tblGrid>
                <a:gridCol w="1730520"/>
                <a:gridCol w="199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5 - 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 - 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0 an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nd compares them.  The code uses parameters and retu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Difference = %.2f\n", Math.abs(bmi1 - bmi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is program reads in data for two peopl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computes their body mass index (BMI)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and weight status.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canner BMI solution, cont.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Computes/returns a person's BMIbased on their height and wei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f("Person #%d body mass index = %.2f\n", number, bmi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76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mber of factors of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2, 3, 4, 6, 8, 12, and 24 are factors of 2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prompts the user for a maximum integer and prints all prime numbers up to that m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imum number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3 5 7 11 13 17 19 23 29 31 37 41 43 4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primes (28.8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1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mpts for a maximum number and prints each prime up to that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max from us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imum number?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ntPrimes(max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ll prime numbers up to the given maximum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primes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countFactors(i) == 2) {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prim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mes++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percent = 100.0 * primes / max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f("%d primes (%.2f%%)\n", primes, percen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ops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s can be used with loops or method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even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dd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% 2 == 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Sum = even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ddSum = odd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Even sum: " + even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dd sum: " + odd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answer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4.2, 4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: #6, 8, 9, 24-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10-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s: Ch. 4 #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sted_if_1"/>
          <p:cNvPicPr/>
          <p:nvPr/>
        </p:nvPicPr>
        <p:blipFill>
          <a:blip r:embed="rId1"/>
          <a:stretch/>
        </p:blipFill>
        <p:spPr>
          <a:xfrm>
            <a:off x="7391520" y="2057400"/>
            <a:ext cx="15634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equential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bu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's wrong with the following co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hooses between outcomes using many t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number &g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number &lt; 0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nested_if_3"/>
          <p:cNvPicPr/>
          <p:nvPr/>
        </p:nvPicPr>
        <p:blipFill>
          <a:blip r:embed="rId1"/>
          <a:stretch/>
        </p:blipFill>
        <p:spPr>
          <a:xfrm>
            <a:off x="5638680" y="1969920"/>
            <a:ext cx="3429000" cy="26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/if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9" name="Picture 3" descr="nested_if_2"/>
          <p:cNvPicPr/>
          <p:nvPr/>
        </p:nvPicPr>
        <p:blipFill>
          <a:blip r:embed="rId1"/>
          <a:stretch/>
        </p:blipFill>
        <p:spPr>
          <a:xfrm>
            <a:off x="5791320" y="1936800"/>
            <a:ext cx="3276360" cy="2863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ne code path must b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t ends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program might not execute any p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the gold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win a silver medal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ystem.out.println("You earned a bronze medal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22" name="Picture 3" descr="nested_if_1"/>
          <p:cNvPicPr/>
          <p:nvPr/>
        </p:nvPicPr>
        <p:blipFill>
          <a:blip r:embed="rId1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1295280"/>
          <a:ext cx="9144000" cy="491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5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7" descr="nested_if_3"/>
          <p:cNvPicPr/>
          <p:nvPr/>
        </p:nvPicPr>
        <p:blipFill>
          <a:blip r:embed="rId2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nested_if_2"/>
          <p:cNvPicPr/>
          <p:nvPr/>
        </p:nvPicPr>
        <p:blipFill>
          <a:blip r:embed="rId3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ich neste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860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1) if/if/if   (2) nested if/else   (3) nested if/else/i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the user's GPA and printing whether the student is on the dean's list (3.8 to 4.0) or honor roll (3.5 to 3.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3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number is even or od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N/A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whether a user is lower-class, middle-class, or upper-class based on their in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ading a number from the user and printing whether it is divisible by 2, 3, and/or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quenti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if /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5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00000"/>
              </a:lnSpc>
              <a:spcBef>
                <a:spcPts val="451"/>
              </a:spcBef>
              <a:buClr>
                <a:srgbClr val="da1f28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2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s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/ else if / else if / else if / 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actoring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acto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xtracting common/redundant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can reduce the siz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ements or eliminate the need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toge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4114800" y="3276720"/>
            <a:ext cx="4647960" cy="1828800"/>
            <a:chOff x="4114800" y="3276720"/>
            <a:chExt cx="4647960" cy="1828800"/>
          </a:xfrm>
        </p:grpSpPr>
        <p:sp>
          <p:nvSpPr>
            <p:cNvPr id="132" name="Text Box 5"/>
            <p:cNvSpPr/>
            <p:nvPr/>
          </p:nvSpPr>
          <p:spPr>
            <a:xfrm>
              <a:off x="6216480" y="3565440"/>
              <a:ext cx="2546280" cy="131364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3 * a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f (a == 2) {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++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711680" y="4197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4114800" y="32767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09-01-26T19:09:06Z</dcterms:modified>
  <cp:revision>1268</cp:revision>
  <dc:subject/>
  <dc:title>Building Java Programs</dc:title>
</cp:coreProperties>
</file>