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593880" y="-3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0" y="79815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593880" y="79815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3E4494F-ABDD-44BA-896D-84D248472C40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This program computes two people's body mass index (BMI)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mpares them.  The code uses parameters, returns, and Sc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.util.*;  // so that I can use Sc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BMI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This program reads in data for two people and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computes their body mass index (BMI)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finish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we round the BMI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BC6C-3F88-4C7C-895A-D64F45A1DD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44393-B505-47A9-9E0B-C38645DF5D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334E5-A13A-4F8B-834F-12B5F3AB3A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B8F2-1F26-469A-8F2C-0989DE6395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D8C8-DB90-4160-AC6A-F2B622FD21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97C1-F9FC-4B28-95FB-D32F3EA00C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B0334-A055-4CAE-9FA0-848CD308B7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6E2C-7B71-46DD-8897-BFAC6B7195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FCCA-2735-4019-BCB7-3893737D24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6610-7CFF-4A7B-96DB-F2F791FC09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7527-5C9C-4E4D-A89B-C8A130DC97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3638-369D-4706-BDD5-D226443E10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2F2F-6DC7-43BB-B67E-6BD0DCBA09F6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4E3A-BEFB-40EE-8C0A-7545E551E33F}" type="slidenum">
              <a: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4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4-1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ding: 3.3 – 3.4, 4.1, 4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put toke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unit of user input, as read b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kens are separated b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hitespa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paces, tabs, new lin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tokens appear on the following line of inpu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John Smith   42.0  "Hello world"  $2.50  "  19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a token is not the type you ask for, it crash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age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onsole.nextIn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ag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Timm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java.util.InputMismatchExcep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(Unknown Sour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Int(Unknown Sour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3849840" y="2782800"/>
            <a:ext cx="9856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386240" y="4000680"/>
            <a:ext cx="20937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canners as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many methods need to read input, declar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pass it to the other methods as a parame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readSum3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ompts for 3 numbers and returns their su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readSum3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canner conso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m1 + num2 + num3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puzz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changing the output to include the minimum valu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3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ype 3 numbers: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Courier New"/>
              </a:rPr>
              <a:t>8 6 13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e average is 9.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e minimum value is 6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3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would we change the previous program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um = readSum3(console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average = sum / 3.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e average is " + average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/ What goes here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readSum3(Scanner console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num1 + num2 + num3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100000"/>
              </a:lnSpc>
              <a:spcBef>
                <a:spcPts val="37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an’t return multiple values!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// so that I can use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verag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average = (num1 + num2 + num3) / 3.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average is " + averag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minimum value is "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th.min(num1, Math.min(num2, num3)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8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 statemen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1, 4.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ditional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you eat your vegetables, then you can have dessert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you do your homework, then you may go outside to play, or else you’ll be grounded for life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state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ecutes a block of statements only if a test is tru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3.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Good job! Here’s a cookie.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4" descr="if_statement"/>
          <p:cNvPicPr/>
          <p:nvPr/>
        </p:nvPicPr>
        <p:blipFill>
          <a:blip r:embed="rId1"/>
          <a:stretch/>
        </p:blipFill>
        <p:spPr>
          <a:xfrm>
            <a:off x="6095880" y="2019240"/>
            <a:ext cx="2773440" cy="259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state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ecutes one block if a test is true, another if fa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3.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Good job! Here’s a cookie.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No cookie for you!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3" descr="if_else"/>
          <p:cNvPicPr/>
          <p:nvPr/>
        </p:nvPicPr>
        <p:blipFill>
          <a:blip r:embed="rId1"/>
          <a:stretch/>
        </p:blipFill>
        <p:spPr>
          <a:xfrm>
            <a:off x="4876920" y="1905120"/>
            <a:ext cx="4016160" cy="26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lational 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statements and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loops both use logical test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are Boolean expressions, seen in Ch. 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sts us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lational opera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62120" y="3840120"/>
          <a:ext cx="7924680" cy="2560680"/>
        </p:xfrm>
        <a:graphic>
          <a:graphicData uri="http://schemas.openxmlformats.org/drawingml/2006/table">
            <a:tbl>
              <a:tblPr/>
              <a:tblGrid>
                <a:gridCol w="1568160"/>
                <a:gridCol w="3468960"/>
                <a:gridCol w="1822320"/>
                <a:gridCol w="1065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nested_if_1"/>
          <p:cNvPicPr/>
          <p:nvPr/>
        </p:nvPicPr>
        <p:blipFill>
          <a:blip r:embed="rId1"/>
          <a:stretch/>
        </p:blipFill>
        <p:spPr>
          <a:xfrm>
            <a:off x="7470720" y="1969920"/>
            <a:ext cx="1563840" cy="457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isuse of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's wrong with the following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percentage did you earn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cen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9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A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8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B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7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C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6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D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lt; 6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F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90s_flowchart.png"/>
          <p:cNvPicPr/>
          <p:nvPr/>
        </p:nvPicPr>
        <p:blipFill>
          <a:blip r:embed="rId1"/>
          <a:stretch/>
        </p:blipFill>
        <p:spPr>
          <a:xfrm>
            <a:off x="2031840" y="907920"/>
            <a:ext cx="508032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nested_if_3"/>
          <p:cNvPicPr/>
          <p:nvPr/>
        </p:nvPicPr>
        <p:blipFill>
          <a:blip r:embed="rId1"/>
          <a:stretch/>
        </p:blipFill>
        <p:spPr>
          <a:xfrm>
            <a:off x="5257800" y="1969920"/>
            <a:ext cx="3809880" cy="29768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Chooses between outcomes using many te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(x &gt; 0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Positive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if (x &lt; 0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Negative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Zero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nested_if_2"/>
          <p:cNvPicPr/>
          <p:nvPr/>
        </p:nvPicPr>
        <p:blipFill>
          <a:blip r:embed="rId1"/>
          <a:stretch/>
        </p:blipFill>
        <p:spPr>
          <a:xfrm>
            <a:off x="5562720" y="2013120"/>
            <a:ext cx="3504960" cy="30636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/if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t ends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exactly one path must be tak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t ends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the code might not execute any pat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(place == 1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Gold medal!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if (place == 2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If you're not first, you're last!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if (place == 3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What comes after last place?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ummary: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struct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1295280"/>
          <a:ext cx="9144000" cy="51148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450160">
                <a:tc>
                  <a:txBody>
                    <a:bodyPr lIns="90000" rIns="90000" anchor="t">
                      <a:noAutofit/>
                    </a:bodyPr>
                    <a:p>
                      <a:pPr marL="289080" indent="-289080"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actly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808080"/>
                      </a:solidFill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9080" indent="-289080"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or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06920">
                <a:tc gridSpan="2">
                  <a:txBody>
                    <a:bodyPr lIns="90000" rIns="90000" anchor="t">
                      <a:noAutofit/>
                    </a:bodyPr>
                    <a:p>
                      <a:pPr marL="2117880" indent="-289080">
                        <a:spcBef>
                          <a:spcPts val="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117880" indent="-289080"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, 1, or many paths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independent tests;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2743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ich 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(1) if/if/if   (2) nested if/else   (3) nested if/else/if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ther a user is lower, middle, or upper-class based on incom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2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st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/ else if / el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ther you made the dean's list (GPA ≥ 3.8) or honor roll (3.5-3.8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3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st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/ else i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ther a number is divisible by 2, 3, and/or 5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1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quenti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/ if / i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ing a grade of A, B, C, D, or F based on a percenta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2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st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/ else if / else if / else if / 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mula for body mass index (BMI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produces output like the follow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utes their body mass index (BMI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94.2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2.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30.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1 BMI = 27.86892857142857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2 BMI = 23.48582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4.383104571428571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888840" y="1884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0" name=""/>
          <p:cNvGraphicFramePr/>
          <p:nvPr/>
        </p:nvGraphicFramePr>
        <p:xfrm>
          <a:off x="5867280" y="1295280"/>
          <a:ext cx="3054600" cy="1505160"/>
        </p:xfrm>
        <a:graphic>
          <a:graphicData uri="http://schemas.openxmlformats.org/drawingml/2006/table">
            <a:tbl>
              <a:tblPr/>
              <a:tblGrid>
                <a:gridCol w="1420920"/>
                <a:gridCol w="1633680"/>
              </a:tblGrid>
              <a:tr h="311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ight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ow 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.5 - 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0 - 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.0 and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is program computes two people's body mass index (BMI) 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mpares them.  The code uses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Scanner for input, and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parameters/retur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roductio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bmi1 = person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bmi2 = person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port overall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ort(1, bmi1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ort(2, bmi2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Difference = " + Math.abs(bmi1 - bmi2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ints a welcome message explaining the progr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introduction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is program reads data for two people and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computes their body mass index (BMI).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s information for one person, computes their BMI, and returns 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double person(Scanner console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bodyMass = bmi(height, weigh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bodyMas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mputes/returns a person's BMI based on their height and weigh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double bmi(double height, double weight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(weight * 703 / height / heigh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Outputs information about a person's BMI and weight statu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report(int number, double bmi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Person " + number + " BMI = " + bmi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hamm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ust because you learned a new construct does not mean that every new problem has to be solved using that construct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457200" y="2514600"/>
            <a:ext cx="4572000" cy="42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z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x &gt; y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z = x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els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z = y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d = a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b &lt; d) {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d = b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c &lt; d) {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d = c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666880" y="2514600"/>
            <a:ext cx="6324840" cy="40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z = Math.max(x, 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d = Math.min(a, Math.min(b, c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581040" y="4495680"/>
            <a:ext cx="8077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Interactive Programs with </a:t>
            </a:r>
            <a:r>
              <a:rPr b="0" lang="en-US" sz="4800" spc="-1" strike="noStrike">
                <a:solidFill>
                  <a:srgbClr val="464646"/>
                </a:solidFill>
                <a:latin typeface="Courier New"/>
              </a:rPr>
              <a:t>Scanner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ding: 3.3 - 3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ractive progra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have written programs that print console outp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t is also possible to rea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from the conso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user types the input into the consol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program uses the input to do something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uch a program is called an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interactive program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ractive progra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active programs can be challeng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mputers and users think in very different way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ers tend to “misbehave”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Object 2"/>
          <p:cNvGraphicFramePr/>
          <p:nvPr/>
        </p:nvGraphicFramePr>
        <p:xfrm>
          <a:off x="533520" y="3200400"/>
          <a:ext cx="8084880" cy="26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00400"/>
                    <a:ext cx="808488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object that can read input from many sour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e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also read from files (Ch. 6), web sites, databases, etc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lass is found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ack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you can use Scan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ing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to read console in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2732040" y="4938840"/>
            <a:ext cx="25891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lue typed by the user is return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 typed " + ag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mp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message telling the user what input to typ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69880" y="1339920"/>
          <a:ext cx="8001000" cy="1981080"/>
        </p:xfrm>
        <a:graphic>
          <a:graphicData uri="http://schemas.openxmlformats.org/drawingml/2006/table">
            <a:tbl>
              <a:tblPr/>
              <a:tblGrid>
                <a:gridCol w="2133720"/>
                <a:gridCol w="5867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rom the user and returns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one-wor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reads a one-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UserInputExampl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years = 65 - ag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years + " years until retirement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ole (user input underlined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w old are you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3 years until retiremen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609480" y="2847960"/>
            <a:ext cx="102708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609480" y="3100320"/>
            <a:ext cx="102708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609480" y="3710160"/>
            <a:ext cx="102708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2387880" y="5357880"/>
            <a:ext cx="10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Group 19"/>
          <p:cNvGrpSpPr/>
          <p:nvPr/>
        </p:nvGrpSpPr>
        <p:grpSpPr>
          <a:xfrm>
            <a:off x="3139920" y="5470560"/>
            <a:ext cx="2367000" cy="961920"/>
            <a:chOff x="3139920" y="5470560"/>
            <a:chExt cx="2367000" cy="961920"/>
          </a:xfrm>
        </p:grpSpPr>
        <p:pic>
          <p:nvPicPr>
            <p:cNvPr id="129" name="Picture 11" descr=""/>
            <p:cNvPicPr/>
            <p:nvPr/>
          </p:nvPicPr>
          <p:blipFill>
            <a:blip r:embed="rId1"/>
            <a:srcRect l="0" t="0" r="5017" b="0"/>
            <a:stretch/>
          </p:blipFill>
          <p:spPr>
            <a:xfrm>
              <a:off x="4511520" y="5470560"/>
              <a:ext cx="9954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Line 12"/>
            <p:cNvSpPr/>
            <p:nvPr/>
          </p:nvSpPr>
          <p:spPr>
            <a:xfrm flipH="1" flipV="1">
              <a:off x="3139920" y="5530320"/>
              <a:ext cx="13716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1" name="Line 13"/>
          <p:cNvSpPr/>
          <p:nvPr/>
        </p:nvSpPr>
        <p:spPr>
          <a:xfrm flipV="1">
            <a:off x="2971800" y="3208320"/>
            <a:ext cx="809640" cy="219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Group 18"/>
          <p:cNvGrpSpPr/>
          <p:nvPr/>
        </p:nvGrpSpPr>
        <p:grpSpPr>
          <a:xfrm>
            <a:off x="5105520" y="3030480"/>
            <a:ext cx="575640" cy="474840"/>
            <a:chOff x="5105520" y="3030480"/>
            <a:chExt cx="575640" cy="474840"/>
          </a:xfrm>
        </p:grpSpPr>
        <p:pic>
          <p:nvPicPr>
            <p:cNvPr id="133" name="Picture 16" descr=""/>
            <p:cNvPicPr/>
            <p:nvPr/>
          </p:nvPicPr>
          <p:blipFill>
            <a:blip r:embed="rId2"/>
            <a:stretch/>
          </p:blipFill>
          <p:spPr>
            <a:xfrm>
              <a:off x="5105520" y="3030480"/>
              <a:ext cx="39240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7"/>
            <p:cNvSpPr/>
            <p:nvPr/>
          </p:nvSpPr>
          <p:spPr>
            <a:xfrm>
              <a:off x="5497920" y="3168360"/>
              <a:ext cx="183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135" name=""/>
          <p:cNvGraphicFramePr/>
          <p:nvPr/>
        </p:nvGraphicFramePr>
        <p:xfrm>
          <a:off x="7162920" y="2766960"/>
          <a:ext cx="1295280" cy="39708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858000" y="3286080"/>
          <a:ext cx="1593720" cy="397080"/>
        </p:xfrm>
        <a:graphic>
          <a:graphicData uri="http://schemas.openxmlformats.org/drawingml/2006/table">
            <a:tbl>
              <a:tblPr/>
              <a:tblGrid>
                <a:gridCol w="946080"/>
                <a:gridCol w="64764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Line 9"/>
          <p:cNvSpPr/>
          <p:nvPr/>
        </p:nvSpPr>
        <p:spPr>
          <a:xfrm>
            <a:off x="609480" y="3962520"/>
            <a:ext cx="102708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2982960" y="2851200"/>
            <a:ext cx="2260440" cy="463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example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cannerMultipl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lease type two numbers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um1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um2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oduct = num1 * num2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he product is " + produc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(user input underlined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type two numbers: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8 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product is 4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n read multiple values from one li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00:18:07Z</dcterms:created>
  <dc:creator>Marty Stepp</dc:creator>
  <dc:description/>
  <dc:language>en-US</dc:language>
  <cp:lastModifiedBy>Benson Limketkai</cp:lastModifiedBy>
  <cp:lastPrinted>2009-04-22T19:24:48Z</cp:lastPrinted>
  <dcterms:modified xsi:type="dcterms:W3CDTF">2014-04-06T20:28:10Z</dcterms:modified>
  <cp:revision>1344</cp:revision>
  <dc:subject/>
  <dc:title>Building Java Programs</dc:title>
</cp:coreProperties>
</file>