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45CB-6870-43A3-A000-4FB7A645B7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152B-0856-4B2C-9F61-CE3B3B3882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E181-B01A-4263-A0AA-3937897571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E032-DD21-471E-A3E1-A272B0B835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1819-818A-44FE-860E-9720084B09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7592-844A-42F7-A2DD-558C6ABF5E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286B-5D7E-433D-A28A-C15AE1876E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CF4E-036D-4A86-9B68-AA1B62913A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D31F-0021-4BE5-B2E4-117A7BAFB0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F197-10B7-4239-8277-02A28E462C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2052-C056-4994-BA74-486A292D39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56B9-2B8F-496A-83B8-609B58763D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EBBF-F14C-4A05-AE05-69876940D2E0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B4AD-A88B-4F33-A2FD-B855E977F0C7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3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3-2: Return value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3.2, 2.1 - 2.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re about 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casting has high precedence and only casts the item immediately next to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 / 2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 2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use parentheses to force evaluation ord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 + b + c) /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n be achieved in other way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Java reaches a return stateme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evaluates the 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substitutes the return value in place of the 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goes back to the caller and continues after the method 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 exampl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shorten the examples by returning the express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: Not sto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students incorrectly think tha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 sends a variable's name back to the calling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// ERROR: cannot find symbol: resu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xing the common err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ead, returning sends the variable'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c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turned value must be stored into a variable or used in an expression to be useful to the c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error vari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ularly confusing is conflating the return variable with a variable in the calling meth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r program will compile, but you won’t get the right result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ReturnExamp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One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x = " + 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addOne(int 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Verdana"/>
              </a:rPr>
              <a:t>Don’t ignore the return value!</a:t>
            </a:r>
            <a:endParaRPr b="0" lang="en-US" sz="4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 because the return variable in the called method has the same name as the variable in the calling method, they a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same.  Think scop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666880"/>
            <a:ext cx="4038480" cy="30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ReturnExample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 = 1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One(x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x = " + x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int addOne(int x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x + 1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48320" y="2666880"/>
            <a:ext cx="4038480" cy="30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ReturnExample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 = 1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One(x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x = " + x)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int addOne(int x) {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x + 1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886200" y="304812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3733920" y="390852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physics, 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splacemen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a moving body represents its change in position over time while accelera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initial velocit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m/s, acceleratio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elapsed tim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s, the displacement of the body 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cement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½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place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accept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computes and returns the change in posi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placement(3.0, 4.0, 5.0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5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displacement(double v0, double a, double 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d = v0 * t + 0.5 * a * Math.pow(t, 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erci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 drop two balls, which will hit the ground firs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1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ight of 600m, initial velocity = 25 m/sec downw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l 2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ight of 500m, initial velocity = 15 m/sec downw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program that determines how long each ball takes to hit the ground (and draws each ball falling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tal time is based on the force of gravity on each bal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leration due to gravity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9.81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downw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cement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½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219320"/>
          <a:ext cx="6643800" cy="4911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72200" y="4952880"/>
          <a:ext cx="2771640" cy="100656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all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imulates the dropping of two balls from various height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alls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final static int PANEL_HEIGHT = 60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final static int PANEL_WIDTH = 600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PANEL_WIDTH, PANEL_HEIGH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ball1x = 100,  initialBall1y = 600,  v01 = 25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ball2x = 200,  initialBall2y = 500,  v02 = 15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/ draw the balls at each time increme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double t = 0; t &lt;= 10.0; t = t + 0.1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height1 = initialBall1y - displacement(v01, 9.81, 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.fillOval(ball1x, PANEL_HEIGHT - (int)height1, 10, 10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height2 = initialBall2y - displacement(v02, 9.81, t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.fillOval(ball2x, PANEL_HEIGHT - (int)height2, 10, 10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anel.sleep(50)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ause for 50 m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anel.clear(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o output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ply calling these methods produces no visible resul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Math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th.pow(3, 4);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Courier New"/>
              </a:rPr>
              <a:t>// no outpu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o output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h method calls use a feature call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turn valu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cause them to be treated as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gram runs the method, computes the answer, and then "replaces" the call with its computed result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3, 4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 outpu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1.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o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see the result, we must print it or store it in a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uble result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ath.pow(3, 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914400" y="344016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send out a value as the result of a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posite of a para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eter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the caller to the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value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a method to its call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lnSpc>
                <a:spcPct val="110000"/>
              </a:lnSpc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call to the method can be used as part of an express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11" name="Text Box 5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Line 6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y return and not print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might seem more useful f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to print their results rather than returning them.  Why don't the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: Returning is more flexible than prin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compute several things before print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pow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pow(3, 4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pow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pow(10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owers are " + pow1 + " and " + pow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combine the results of many comput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k = 13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pow(3, 4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5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sqrt(17.8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e the following express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be used to bound nu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would replace negative ages with 0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atement would cap the maximum age to 40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compatible typ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other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yp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ible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f you wanted to stor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riable? (maybe you don’t care about the decimal par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 ca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onversion from one type to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romot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get exact division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unc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a real number to 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9 / 5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.pow(10, 3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Benson Limketkai</cp:lastModifiedBy>
  <cp:lastPrinted>2011-10-13T16:27:35Z</cp:lastPrinted>
  <dcterms:modified xsi:type="dcterms:W3CDTF">2014-04-21T15:13:49Z</dcterms:modified>
  <cp:revision>1331</cp:revision>
  <dc:subject/>
  <dc:title>Building Java Programs</dc:title>
</cp:coreProperties>
</file>