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A1B8-B56C-4DC3-8A48-FD6A4A566A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2BBE-54A9-4A18-9689-BB6F9343E2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and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39FAC-2388-41A2-9AA6-9431E20FA7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3FC7E-6306-44A8-BB10-1D703624F8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B2781-B63F-49AC-AB45-10604E11AA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C22BD-F39A-4D42-8FB9-D033850C32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42B8D-4815-4AEB-B3CE-E417B38E3E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96486-D3BA-4245-908C-A45D8FF7AB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3747B-3FDE-4528-99F9-ECECD2295C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F7430-9B3A-4A6D-B899-D5D0506226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121A9-2657-4DEF-B7EC-7D0686A2FE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4C142-B2CD-40F6-AAA2-5E7BA6CF69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2A1D1-E509-4DA5-851B-7EE50E07C9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21A23-3C60-4FF3-ADA7-F643DF3C10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CEA4-646E-4BF1-8D18-BB437D55C1CD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0" name="Freeform 13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53" name="Freeform 16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54" name="Freeform 1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6" name="Freeform 17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57" name="Freeform 1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CF7E-1DDC-4A80-A9B4-76D6EC220473}" type="slidenum">
              <a:rPr b="0" lang="en-US" sz="1200" spc="-1" strike="noStrike">
                <a:solidFill>
                  <a:srgbClr val="424242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3-1: Parame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3.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ow parameters are passe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the method is called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value is stored into the parameter variab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ethod's code executes using that val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nt(3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nt(7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chant(int time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times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 think I can!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6" name="Group 4"/>
          <p:cNvGrpSpPr/>
          <p:nvPr/>
        </p:nvGrpSpPr>
        <p:grpSpPr>
          <a:xfrm>
            <a:off x="2651040" y="3328920"/>
            <a:ext cx="3200040" cy="1066680"/>
            <a:chOff x="2651040" y="3328920"/>
            <a:chExt cx="3200040" cy="1066680"/>
          </a:xfrm>
        </p:grpSpPr>
        <p:sp>
          <p:nvSpPr>
            <p:cNvPr id="147" name="Line 5"/>
            <p:cNvSpPr/>
            <p:nvPr/>
          </p:nvSpPr>
          <p:spPr>
            <a:xfrm>
              <a:off x="2651040" y="3328920"/>
              <a:ext cx="255276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Rectangle 6"/>
            <p:cNvSpPr/>
            <p:nvPr/>
          </p:nvSpPr>
          <p:spPr>
            <a:xfrm>
              <a:off x="5267520" y="3739320"/>
              <a:ext cx="583560" cy="65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9" name="Group 7"/>
          <p:cNvGrpSpPr/>
          <p:nvPr/>
        </p:nvGrpSpPr>
        <p:grpSpPr>
          <a:xfrm>
            <a:off x="2651040" y="3657600"/>
            <a:ext cx="3210120" cy="738000"/>
            <a:chOff x="2651040" y="3657600"/>
            <a:chExt cx="3210120" cy="738000"/>
          </a:xfrm>
        </p:grpSpPr>
        <p:sp>
          <p:nvSpPr>
            <p:cNvPr id="150" name="Rectangle 8"/>
            <p:cNvSpPr/>
            <p:nvPr/>
          </p:nvSpPr>
          <p:spPr>
            <a:xfrm>
              <a:off x="5277600" y="3739680"/>
              <a:ext cx="583560" cy="65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Line 9"/>
            <p:cNvSpPr/>
            <p:nvPr/>
          </p:nvSpPr>
          <p:spPr>
            <a:xfrm>
              <a:off x="2651040" y="3657600"/>
              <a:ext cx="2553480" cy="32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mmon err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a method accepts a parameter, it is illegal to call it without passing any value for that paramet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chant();   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// ERROR: parameter value requir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value passed to a method must be of the correct typ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chant(3.7);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// ERROR: must be of type 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: Chang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rogram to use a parameterized method for drawing lines of sta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ars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of sta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Uses a parameterized method to remove redundanc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2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ultiple paramet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9067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method can accept multiple parameters (separated b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calling it, you must pass values for each parame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lara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l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ex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ex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ex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541760" y="2935440"/>
            <a:ext cx="287820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ultiple parameters examp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4, 9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17, 6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8, 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0, 8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numb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4444444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7171717171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00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rogram to draw boxes with paramet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ars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and boxes made of sta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hird version with multiple parameterized method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3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10, 3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5, 4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20, 7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count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ars solution, cont'd.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a box of stars of the given siz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box(int width, int height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line = 1; line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2; line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space = 1; space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2; space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1222200" y="4995720"/>
            <a:ext cx="15224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220760" y="3201840"/>
            <a:ext cx="14302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4376880" y="2879640"/>
            <a:ext cx="7207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Value semantic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alue semantic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When primitive variables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 are passed as parameters, their values are copi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ifying the parameter will not affect the variable passed 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strange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 + 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1. x =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 = 23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ange(x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2. x =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7162920" y="5033880"/>
            <a:ext cx="1590480" cy="113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. x = 2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. x = 2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1730520" y="3595680"/>
            <a:ext cx="24238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730520" y="3032280"/>
            <a:ext cx="24238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Verdana"/>
              </a:rPr>
              <a:t>A "Parameter Mystery" problem</a:t>
            </a:r>
            <a:endParaRPr b="0" lang="en-US" sz="40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ParameterMystery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 = 9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y = 2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z = 5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stery(z, y, x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stery(y, x, z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ystery(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 and " +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5" name="Group 6"/>
          <p:cNvGrpSpPr/>
          <p:nvPr/>
        </p:nvGrpSpPr>
        <p:grpSpPr>
          <a:xfrm>
            <a:off x="4916520" y="4314960"/>
            <a:ext cx="2590920" cy="609480"/>
            <a:chOff x="4916520" y="4314960"/>
            <a:chExt cx="2590920" cy="609480"/>
          </a:xfrm>
        </p:grpSpPr>
        <p:sp>
          <p:nvSpPr>
            <p:cNvPr id="176" name="Rectangle 7"/>
            <p:cNvSpPr/>
            <p:nvPr/>
          </p:nvSpPr>
          <p:spPr>
            <a:xfrm>
              <a:off x="4916520" y="4314960"/>
              <a:ext cx="6094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Rectangle 8"/>
            <p:cNvSpPr/>
            <p:nvPr/>
          </p:nvSpPr>
          <p:spPr>
            <a:xfrm>
              <a:off x="5907240" y="4314960"/>
              <a:ext cx="6094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Rectangle 9"/>
            <p:cNvSpPr/>
            <p:nvPr/>
          </p:nvSpPr>
          <p:spPr>
            <a:xfrm>
              <a:off x="6897600" y="4314960"/>
              <a:ext cx="6098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sequence of text charact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"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x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ression (resulting in String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br>
              <a:rPr sz="2000"/>
            </a:br>
            <a:br>
              <a:rPr sz="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name = "Marla Singer";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point = "(" + x + ", " + y + ")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dundant recip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cipe for baking </a:t>
            </a:r>
            <a:r>
              <a:rPr b="1" lang="en-US" sz="2200" spc="-1" strike="noStrike">
                <a:solidFill>
                  <a:srgbClr val="800000"/>
                </a:solidFill>
                <a:latin typeface="Verdana"/>
              </a:rPr>
              <a:t>2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ooki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x the following ingredients in a bow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ups flo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up but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up su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g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4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z. chocolate chips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e on sheet and Bake for about </a:t>
            </a: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inu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cipe for baking </a:t>
            </a:r>
            <a:r>
              <a:rPr b="1" lang="en-US" sz="2200" spc="-1" strike="noStrike">
                <a:solidFill>
                  <a:srgbClr val="800000"/>
                </a:solidFill>
                <a:latin typeface="Verdana"/>
              </a:rPr>
              <a:t>4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ooki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x the following ingredients in a bow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ups flo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ups but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ups su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g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8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z. chocolate chips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e on sheet and Bake for about </a:t>
            </a: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inu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5446800" y="3216240"/>
            <a:ext cx="17352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 as paramet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tringParameters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yHello("Marty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teacher = "Helene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yHello(teache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ayHell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elcome, " + nam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elcome, Mar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elcome, Hele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rogram to use string parameters. Use a method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pea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prints a string many tim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ars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and boxes made of sta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urth version with String paramet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4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10, 3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5, 4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20, 7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eat("*", count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ars solution, cont'd.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a box of stars of the given siz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box(int width, int height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line = 1; line &lt;= height - 2; line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eat(" ", width - 2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String the given number of tim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repeat(String s, int time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1; i &lt;= times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s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arameterized recip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Recipe for baking </a:t>
            </a:r>
            <a:r>
              <a:rPr b="1" lang="en-US" sz="2200" spc="-1" strike="noStrike">
                <a:solidFill>
                  <a:srgbClr val="808080"/>
                </a:solidFill>
                <a:latin typeface="Verdana"/>
              </a:rPr>
              <a:t>20</a:t>
            </a: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 cooki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Mix the following ingredients in a bow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Verdana"/>
              </a:rPr>
              <a:t>4</a:t>
            </a: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 cups flo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 cup su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 eg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cipe for baking </a:t>
            </a:r>
            <a:r>
              <a:rPr b="1" lang="en-US" sz="2200" spc="-1" strike="noStrike">
                <a:solidFill>
                  <a:srgbClr val="800000"/>
                </a:solidFill>
                <a:latin typeface="Verdan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ooki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x the following ingredients in a bow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N/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cups flo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N/2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ups but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N/2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ups su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N/1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g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6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2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z. chocolate chips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e on sheet and Bake for about 10 minu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aramet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value that distinguishes similar task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dundant figur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ider the task of printing the following lines/box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******************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        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   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   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redundant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Stars1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neOf13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neOf7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neOf35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ox10x3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ox5x4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lineOf13(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400" spc="-1" strike="noStrike">
                <a:solidFill>
                  <a:srgbClr val="a50021"/>
                </a:solidFill>
                <a:latin typeface="Courier New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lineOf7(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400" spc="-1" strike="noStrike">
                <a:solidFill>
                  <a:srgbClr val="a50021"/>
                </a:solidFill>
                <a:latin typeface="Courier New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lineOf35(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400" spc="-1" strike="noStrike">
                <a:solidFill>
                  <a:srgbClr val="a50021"/>
                </a:solidFill>
                <a:latin typeface="Courier New"/>
              </a:rPr>
              <a:t>35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5181480" y="1600200"/>
            <a:ext cx="38102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s code is redunda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82600" indent="-28260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Would variables help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Would constants help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82600" indent="-28260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is a better soluti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4952880" y="3429000"/>
            <a:ext cx="4191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- A method to draw a line of any number of sta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x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- A method to draw a box of any siz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arameteriza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aramet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value passed to a method by its call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tead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eOf7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eOf1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wri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draw any lengt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declaring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, we will state that it requires a parameter for the number of sta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alling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 method, we will specify how many stars to draw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1154160" y="4419720"/>
            <a:ext cx="6916680" cy="1310040"/>
            <a:chOff x="1154160" y="4419720"/>
            <a:chExt cx="6916680" cy="1310040"/>
          </a:xfrm>
        </p:grpSpPr>
        <p:sp>
          <p:nvSpPr>
            <p:cNvPr id="120" name="Text Box 5"/>
            <p:cNvSpPr/>
            <p:nvPr/>
          </p:nvSpPr>
          <p:spPr>
            <a:xfrm>
              <a:off x="1154160" y="462276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Line 6"/>
            <p:cNvSpPr/>
            <p:nvPr/>
          </p:nvSpPr>
          <p:spPr>
            <a:xfrm>
              <a:off x="1976400" y="481644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Text Box 7"/>
            <p:cNvSpPr/>
            <p:nvPr/>
          </p:nvSpPr>
          <p:spPr>
            <a:xfrm>
              <a:off x="3440160" y="461628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Line 8"/>
            <p:cNvSpPr/>
            <p:nvPr/>
          </p:nvSpPr>
          <p:spPr>
            <a:xfrm>
              <a:off x="4267440" y="481644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Text Box 9"/>
            <p:cNvSpPr/>
            <p:nvPr/>
          </p:nvSpPr>
          <p:spPr>
            <a:xfrm>
              <a:off x="5909040" y="46288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*******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Text Box 10"/>
            <p:cNvSpPr/>
            <p:nvPr/>
          </p:nvSpPr>
          <p:spPr>
            <a:xfrm>
              <a:off x="2475000" y="4419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Line 11"/>
            <p:cNvSpPr/>
            <p:nvPr/>
          </p:nvSpPr>
          <p:spPr>
            <a:xfrm>
              <a:off x="1949400" y="5021280"/>
              <a:ext cx="1474920" cy="49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Text Box 12"/>
            <p:cNvSpPr/>
            <p:nvPr/>
          </p:nvSpPr>
          <p:spPr>
            <a:xfrm>
              <a:off x="3440160" y="531792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4267440" y="551808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Text Box 14"/>
            <p:cNvSpPr/>
            <p:nvPr/>
          </p:nvSpPr>
          <p:spPr>
            <a:xfrm>
              <a:off x="5909040" y="5330880"/>
              <a:ext cx="21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*************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Text Box 15"/>
            <p:cNvSpPr/>
            <p:nvPr/>
          </p:nvSpPr>
          <p:spPr>
            <a:xfrm>
              <a:off x="2398680" y="52387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7566120" y="4359240"/>
            <a:ext cx="6192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5419800" y="4024440"/>
            <a:ext cx="12430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eclaring a paramet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Stating that a method requires a parameter in order to ru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ayPassword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password is: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ayPasswor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called, the caller must specif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teger code to pri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3133800" y="3849840"/>
            <a:ext cx="78876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3144960" y="3546360"/>
            <a:ext cx="3110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assing a paramet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Calling a method and specifying values for its parame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yPassword(4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yPassword(12345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 password is 4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 password is 1234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1298520" y="2217600"/>
            <a:ext cx="13492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4489560" y="3433680"/>
            <a:ext cx="7952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4498920" y="3141720"/>
            <a:ext cx="139860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arameters and loop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parameter can guide the number of repetitions of a loo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nt(3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chant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time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 think I can!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 think I can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 think I can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 think I can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Benson Limketkai</cp:lastModifiedBy>
  <cp:lastPrinted>2010-04-09T19:32:39Z</cp:lastPrinted>
  <dcterms:modified xsi:type="dcterms:W3CDTF">2014-04-05T22:50:10Z</dcterms:modified>
  <cp:revision>1286</cp:revision>
  <dc:subject/>
  <dc:title>Building Java Programs</dc:title>
</cp:coreProperties>
</file>