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84A1-BAF4-4538-9F3E-5C35EB423B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68BC-23FA-413F-828A-72EF7D7C6F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49E9-68E7-4452-818E-D8521B07C2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B9F5-B5E7-4920-BDF0-F7CC55DD5A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4C05-85BA-4253-8299-1829E5B47D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2A42-2074-41BA-B5AE-EA3617ADDA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09C3-B646-4B00-A951-BA65AAAA98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0E72-7765-4793-9666-F1D93AF735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42094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3372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9292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8164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9292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8164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2308-1C98-4278-824E-13C3AFD09F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7910-8232-4FA7-A020-8218D7390E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440B-2F08-4BAB-B82D-3BADF1F183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AB26-8F76-4069-B6D2-72C628B995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AAFB-FAFA-4D92-9294-7652449860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628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F32F-7A7E-4ED3-AE63-0353D94E92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952F-ABEF-44D7-8A52-3F51D11E82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372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B3A4-8097-4A26-9D41-FBB8F480BC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98BC-D301-4019-863D-CDEE01E7CA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560" y="42094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7D88-94D4-4012-8CC6-61FBCE3EE9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372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6403-42A2-47C0-AB2A-40BCC93A62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292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81640" y="16462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56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292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81640" y="4209480"/>
            <a:ext cx="284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E980-9887-4BF2-8536-B6F4E33431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628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33720" y="42094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14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646280"/>
            <a:ext cx="431316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209480"/>
            <a:ext cx="88390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0"/>
            <a:ext cx="9162720" cy="81900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267080" y="0"/>
            <a:ext cx="4876920" cy="41580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" name="Group 1"/>
          <p:cNvGrpSpPr/>
          <p:nvPr/>
        </p:nvGrpSpPr>
        <p:grpSpPr>
          <a:xfrm>
            <a:off x="0" y="219240"/>
            <a:ext cx="9159840" cy="390240"/>
            <a:chOff x="0" y="219240"/>
            <a:chExt cx="9159840" cy="390240"/>
          </a:xfrm>
        </p:grpSpPr>
        <p:grpSp>
          <p:nvGrpSpPr>
            <p:cNvPr id="5" name="Freeform 11"/>
            <p:cNvGrpSpPr/>
            <p:nvPr/>
          </p:nvGrpSpPr>
          <p:grpSpPr>
            <a:xfrm>
              <a:off x="0" y="219240"/>
              <a:ext cx="9159840" cy="390240"/>
              <a:chOff x="0" y="219240"/>
              <a:chExt cx="9159840" cy="39024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80" y="219240"/>
                <a:ext cx="9149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 rot="21435600">
                <a:off x="0" y="43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" name="Freeform 12"/>
            <p:cNvGrpSpPr/>
            <p:nvPr/>
          </p:nvGrpSpPr>
          <p:grpSpPr>
            <a:xfrm>
              <a:off x="5760" y="219240"/>
              <a:ext cx="9154080" cy="361080"/>
              <a:chOff x="5760" y="219240"/>
              <a:chExt cx="9154080" cy="36108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0" y="219240"/>
                <a:ext cx="914184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5760" y="43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77E2-3D76-4A37-B05F-517EA5FB1B37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9"/>
          <p:cNvSpPr/>
          <p:nvPr/>
        </p:nvSpPr>
        <p:spPr>
          <a:xfrm>
            <a:off x="-9360" y="0"/>
            <a:ext cx="9162720" cy="81900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267080" y="0"/>
            <a:ext cx="4876920" cy="41580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0" y="219240"/>
            <a:ext cx="9159840" cy="390240"/>
            <a:chOff x="0" y="219240"/>
            <a:chExt cx="9159840" cy="390240"/>
          </a:xfrm>
        </p:grpSpPr>
        <p:grpSp>
          <p:nvGrpSpPr>
            <p:cNvPr id="51" name="Freeform 14"/>
            <p:cNvGrpSpPr/>
            <p:nvPr/>
          </p:nvGrpSpPr>
          <p:grpSpPr>
            <a:xfrm>
              <a:off x="0" y="219240"/>
              <a:ext cx="9159840" cy="390240"/>
              <a:chOff x="0" y="219240"/>
              <a:chExt cx="9159840" cy="390240"/>
            </a:xfrm>
          </p:grpSpPr>
          <p:pic>
            <p:nvPicPr>
              <p:cNvPr id="52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80" y="219240"/>
                <a:ext cx="9149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0" y="43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" name="Freeform 15"/>
            <p:cNvGrpSpPr/>
            <p:nvPr/>
          </p:nvGrpSpPr>
          <p:grpSpPr>
            <a:xfrm>
              <a:off x="5760" y="219240"/>
              <a:ext cx="9154080" cy="361080"/>
              <a:chOff x="5760" y="219240"/>
              <a:chExt cx="9154080" cy="361080"/>
            </a:xfrm>
          </p:grpSpPr>
          <p:pic>
            <p:nvPicPr>
              <p:cNvPr id="55" name="Freeform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0" y="219240"/>
                <a:ext cx="914184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5760" y="43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C374-9B2A-4D8F-B764-ED1D363E8E66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.njit.edu/~kevin/rgb.txt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h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ding: Supplement 3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aking your own col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colors using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en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ue (RGB) values of 0-25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ed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gree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blue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 of RGB colors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Courier New"/>
                <a:hlinkClick r:id="rId1"/>
              </a:rPr>
              <a:t>http://web.njit.edu/~kevin/rgb.txt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Using col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equent shapes will be drawn in the new col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s a col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verall window background color will chan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7620120" y="2438280"/>
            <a:ext cx="1307880" cy="1629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2"/>
          <a:stretch/>
        </p:blipFill>
        <p:spPr>
          <a:xfrm>
            <a:off x="7607160" y="5076720"/>
            <a:ext cx="13082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lined sha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raw a colored shape with an outline, firs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fil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raw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ame shape in the outline col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draw_outline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uperimposing sha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≥ 2 shapes occupy the same pixels, the last drawn "win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r bod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he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ith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xpressions can use the loop counter variab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sted loops can be used with graphic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Zero-base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ginning at 0 and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make coordinates easi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: Write a variation of the abo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 that draws the output at righ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ottom-left rectangle is at (11, 9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7391520" y="2209680"/>
            <a:ext cx="1542960" cy="198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2"/>
          <a:stretch/>
        </p:blipFill>
        <p:spPr>
          <a:xfrm>
            <a:off x="7391520" y="4495680"/>
            <a:ext cx="154296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imation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 the following program to draw a "moving" 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r bod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he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fig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car-drawing method so that it can draw cars at different positions, as in the following im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-left corners: (10, 30), (150, 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 the drawing panel's size to 260x100 to f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53224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rawing with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raw in a method, you must pas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the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wise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out of scope and cannot be us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(declaration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raphics g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(call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alue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ized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Car3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260, 1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, 10, 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Car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, 150,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Car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raphics g, int x, int 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, 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100, 5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10, y + 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70, y + 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 + 70, y + 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30, 2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53224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bjects (briefly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 entity that contains data and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inside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hods inside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interact with the method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ata is hidden in the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objec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(creating) an objec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ing an object's metho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6" descr="object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book figur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draws the following fig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ing panel is size 200x1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ok is at (20, 35), size 100x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yan backgr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te "BJP" text at position (70, 5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irs are (red=191, green=118, blue=7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stair is 9px t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st stair is 10px w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nd stair is 20px wide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irs are 10px apart (1 blank pixel betwe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7162920" y="2438280"/>
            <a:ext cx="987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book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7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Java book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Java book program so that it can draw books at differe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ositi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s shown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ok top/left positions: (20, 35), (150, 70), (300, 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ing panel's new size: 450x1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book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books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sizable Java book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Java book program so that it can draw books at differe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iz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s shown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ok sizes: 100x100,  60x60,  200x2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ing panel's new size: 520x24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sizable books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sizable solution, cont'd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olyg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Objects that represent arbitrary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point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using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rawingPanel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ases any shapes that are drawn on the drawing pane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the drawing panel's size to the given value(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il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ves the image on the panel to the given file (String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llisecond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uses the drawing for the given number of milliseco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will draw graphics in Java using 3 kinds of objec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indow on the scre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part of Java; provided by the authors.  See class web si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"pen" to draw shape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lines on a wind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olors in which to draw shap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imat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leep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 pauses your program for a given number of milliseco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create simple anima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anel.sleep(5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y ad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mands to loops in past exercises in this chapter and watch the panel draw itself piece by pie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imation 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 the previous program to draw a "moving" animated 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511440" y="2971800"/>
            <a:ext cx="2051280" cy="1703520"/>
          </a:xfrm>
          <a:prstGeom prst="rect">
            <a:avLst/>
          </a:prstGeom>
          <a:ln w="0">
            <a:noFill/>
          </a:ln>
        </p:spPr>
      </p:pic>
      <p:sp>
        <p:nvSpPr>
          <p:cNvPr id="193" name="Line 5"/>
          <p:cNvSpPr/>
          <p:nvPr/>
        </p:nvSpPr>
        <p:spPr>
          <a:xfrm>
            <a:off x="4800600" y="4065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rawingPane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Canvas" objects that represents windows/drawing surfa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create a wind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429000" y="411336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asel2"/>
          <p:cNvPicPr/>
          <p:nvPr/>
        </p:nvPicPr>
        <p:blipFill>
          <a:blip r:embed="rId2"/>
          <a:stretch/>
        </p:blipFill>
        <p:spPr>
          <a:xfrm>
            <a:off x="8283600" y="380880"/>
            <a:ext cx="71604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Pen" or "paint brush" objects to draw lines and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 it by 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you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w shapes by calling method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486400" y="365760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paintbrush"/>
          <p:cNvPicPr/>
          <p:nvPr/>
        </p:nvPicPr>
        <p:blipFill>
          <a:blip r:embed="rId2"/>
          <a:stretch/>
        </p:blipFill>
        <p:spPr>
          <a:xfrm>
            <a:off x="8175600" y="304920"/>
            <a:ext cx="81612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 class libraries, impor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ava class librar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Classes included with the JDK (Java Development Kit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ed into groups nam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ack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a package, put 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mport decla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your progr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ckag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longs to a packag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you must place the above line at the very top of your program, befor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ea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ordinate syst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(x, y) position is 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ix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("picture element"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ition (0, 0) is at the window's top-left corn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increases rightward and the y increas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ownwa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ctangle from (0, 0) to (200, 100) looks like thi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0, 0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200, 10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447920" y="4191120"/>
            <a:ext cx="1371600" cy="914400"/>
            <a:chOff x="1447920" y="4191120"/>
            <a:chExt cx="1371600" cy="914400"/>
          </a:xfrm>
        </p:grpSpPr>
        <p:sp>
          <p:nvSpPr>
            <p:cNvPr id="124" name="Rectangle 5"/>
            <p:cNvSpPr/>
            <p:nvPr/>
          </p:nvSpPr>
          <p:spPr>
            <a:xfrm>
              <a:off x="1524240" y="42674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Line 6"/>
            <p:cNvSpPr/>
            <p:nvPr/>
          </p:nvSpPr>
          <p:spPr>
            <a:xfrm>
              <a:off x="1524240" y="41911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1447920" y="42674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s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280" y="1587600"/>
          <a:ext cx="8839440" cy="428292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37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of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with bottom-left at 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ol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ecified as predefin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lass constan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one of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.MAGEN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839880" cy="82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Benson Limketkai</cp:lastModifiedBy>
  <cp:lastPrinted>2009-04-22T19:24:48Z</cp:lastPrinted>
  <dcterms:modified xsi:type="dcterms:W3CDTF">2014-04-05T22:59:29Z</dcterms:modified>
  <cp:revision>1247</cp:revision>
  <dc:subject/>
  <dc:title>Building Java Programs</dc:title>
</cp:coreProperties>
</file>