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1E12-D4B5-46AF-B3DD-47888AC70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4C83-3392-4436-88D3-6B307C5545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8AB3-1BB0-490A-B2A5-BA2F7A35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1D65-DE5C-49A3-9039-57E01413F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print a multiplication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printing each of the following inside the inner loo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i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j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(i * j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78B-5824-47EF-BCD6-4F0CA694A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113-7C23-4119-B0C0-EE22A4DBB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ases produce infinite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2C2-2C2F-49B0-BBB9-89D55FB907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lated to book exercise 1.10 about printing 1000 copies of "All work and no play makes Jack a dull bo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CB6-7A11-4968-9735-B941366BB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FD9-0031-4AC6-BD61-717FA3556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7267-C39A-49E7-B910-F76DE5BE98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EE59-E29B-40B1-96D3-6CFD82950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A73A-BE07-4063-8C14-3C163C39FB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63F0-5B9E-4546-BA31-52BEE57950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9E68-063A-4462-BF8E-C88D946DE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B19A-525A-43B3-AEA7-FA136EAB36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CAB6-5DAE-4F01-8EA2-E80A9E97F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FCFA-1086-47C4-84D7-49E6685AE3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3CC4-C095-4838-82C7-D6E25515A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DBC7-8D68-4EE0-9269-3A96A2D375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2680-D574-442B-B0EC-AA4DBB721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BCF4-11F8-47B3-89AA-E3BA84C98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E30A-1BA4-4508-BB4D-B91056E5BCB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0BC6-019D-4002-A3DA-D6597B6A322E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2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is </a:t>
            </a:r>
            <a:r>
              <a:rPr b="1" lang="en-US" sz="4400" spc="-1" strike="noStrike">
                <a:solidFill>
                  <a:srgbClr val="464646"/>
                </a:solidFill>
                <a:latin typeface="Verdana"/>
              </a:rPr>
              <a:t>NO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oop is 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control structu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—a syntactic structure tha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e execution of other state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hampoo hair.  Rinse. 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Repea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over a rang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1 squared = " + 1 * 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2 squared = " + 2 *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3 squared = " + 3 *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4 squared = " + 4 *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5 squared = " + 5 * 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6 squared = " + 6 * 6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Intuition: "I want to print a line for each number from 1 to 6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6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3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 loop does exactly tha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squared =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 * 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For each integ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1 through 6, print ..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orloop"/>
          <p:cNvPicPr/>
          <p:nvPr/>
        </p:nvPicPr>
        <p:blipFill>
          <a:blip r:embed="rId1"/>
          <a:stretch/>
        </p:blipFill>
        <p:spPr>
          <a:xfrm>
            <a:off x="3962520" y="2544840"/>
            <a:ext cx="4724280" cy="3779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walkthroug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+ " squared = " + (i * i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o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squared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squared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squared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squared =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o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190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62440" y="2743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48624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65760" y="34178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476600" y="1095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6873840" y="4842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3c4a"/>
                </a:solidFill>
                <a:latin typeface="Verdana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914400" y="1623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67816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38088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5334120" y="5429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Verdana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495440" y="1989000"/>
            <a:ext cx="464832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-line loop bod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\\    /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/    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+----+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   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   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---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260960" y="1725480"/>
            <a:ext cx="1888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887560" y="1724040"/>
            <a:ext cx="373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 for coun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ighTemp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 * 1.8 + 3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putes the Fahrenheit equivalents for -3 degrees Celsius to 2 degrees Celsi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8.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0.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2.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3.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atenate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 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to separate the num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903920" y="2811600"/>
            <a:ext cx="314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816360" y="2811600"/>
            <a:ext cx="3794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unting dow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make the loop count d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s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-minus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0;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; 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,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lastoff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end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-minus 10, 9, 8, 7, 6, 5, 4, 3, 2, 1, blastof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er loop repeats 5 times; the inner one 10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"sets and reps" exercise ana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011-04-10-09945c81.gif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3673440" y="2209680"/>
            <a:ext cx="9907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906800" y="4343400"/>
            <a:ext cx="42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of the following sets of code produc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finite loop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10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i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lex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 produce the following output?</a:t>
            </a:r>
            <a:br>
              <a:rPr sz="22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must build multiple complex lines of output us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er "vertical"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ach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ner "horizontal" loop(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patterns within each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714240" y="2390760"/>
            <a:ext cx="1523880" cy="1828440"/>
            <a:chOff x="714240" y="2390760"/>
            <a:chExt cx="1523880" cy="1828440"/>
          </a:xfrm>
        </p:grpSpPr>
        <p:sp>
          <p:nvSpPr>
            <p:cNvPr id="176" name="AutoShape 5"/>
            <p:cNvSpPr/>
            <p:nvPr/>
          </p:nvSpPr>
          <p:spPr>
            <a:xfrm>
              <a:off x="1704600" y="3061080"/>
              <a:ext cx="533520" cy="11581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29880 h 1158120"/>
                <a:gd name="textAreaBottom" fmla="*/ 112824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        </a:t>
              </a: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outer loop (loops 5 times because there are 5 lines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 rot="16200000">
              <a:off x="882000" y="2223000"/>
              <a:ext cx="426240" cy="761760"/>
            </a:xfrm>
            <a:custGeom>
              <a:avLst/>
              <a:gdLst>
                <a:gd name="textAreaLeft" fmla="*/ 0 w 426240"/>
                <a:gd name="textAreaRight" fmla="*/ 153720 w 4262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inner loop (repeated characters on each line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er and inner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rite the outer loop, from 1 to the number of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look at the line contents.  Each line has a patte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ots (0 dots on the last line),  then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: the number of dots is related to the line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pping loops to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7 10 13 1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count = 1; count &lt;= 5; count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 * count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7 12 17 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patterns, make a tabl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count goes up by 1, the number should go up by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 *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o great by 3, so we subtract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66680" y="3886200"/>
          <a:ext cx="4280040" cy="2362320"/>
        </p:xfrm>
        <a:graphic>
          <a:graphicData uri="http://schemas.openxmlformats.org/drawingml/2006/table">
            <a:tbl>
              <a:tblPr/>
              <a:tblGrid>
                <a:gridCol w="866880"/>
                <a:gridCol w="2000160"/>
                <a:gridCol w="141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54640" y="3889440"/>
          <a:ext cx="2417760" cy="2359080"/>
        </p:xfrm>
        <a:graphic>
          <a:graphicData uri="http://schemas.openxmlformats.org/drawingml/2006/table">
            <a:tbl>
              <a:tblPr/>
              <a:tblGrid>
                <a:gridCol w="24177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5 * count -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 table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statement in the body would cause the loop to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7 13 9 5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create the loop tabl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i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es up 1, the number printed shoul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multiple is off by a margin of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95480" y="3886200"/>
          <a:ext cx="2867040" cy="2362320"/>
        </p:xfrm>
        <a:graphic>
          <a:graphicData uri="http://schemas.openxmlformats.org/drawingml/2006/table">
            <a:tbl>
              <a:tblPr/>
              <a:tblGrid>
                <a:gridCol w="866520"/>
                <a:gridCol w="20005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to 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4 * count +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4 *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962520" y="3886200"/>
          <a:ext cx="4495680" cy="2362320"/>
        </p:xfrm>
        <a:graphic>
          <a:graphicData uri="http://schemas.openxmlformats.org/drawingml/2006/table">
            <a:tbl>
              <a:tblPr/>
              <a:tblGrid>
                <a:gridCol w="2057400"/>
                <a:gridCol w="243828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1371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ext three slides present the mathematical basis for the loop tables.  Feel free to skip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609480" y="2833560"/>
          <a:ext cx="3581640" cy="25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33560"/>
                    <a:ext cx="358164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19720" y="2743200"/>
          <a:ext cx="4267080" cy="2743200"/>
        </p:xfrm>
        <a:graphic>
          <a:graphicData uri="http://schemas.openxmlformats.org/drawingml/2006/table">
            <a:tbl>
              <a:tblPr/>
              <a:tblGrid>
                <a:gridCol w="1931760"/>
                <a:gridCol w="23353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x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to print (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aution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This is algebra, not assignment!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call: slope-intercept form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 = mx + 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ope is defined as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ise over run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i.e. rise / run).  Since the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is always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we increment along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y 1), we just need to look at the 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ise</a:t>
            </a:r>
            <a:r>
              <a:rPr b="0" lang="ja-JP" sz="1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 The rise is the difference between the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values.  Thus, the slope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 is the difference between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values; in this case, it is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+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mpute the y-intercept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, plug in the value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t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 = 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nd solve for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  In this case,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y = 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2 = 5 * 1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 = -3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 the equation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5 * x –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 = 5 * count - 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724280" y="4154400"/>
          <a:ext cx="4038840" cy="2170080"/>
        </p:xfrm>
        <a:graphic>
          <a:graphicData uri="http://schemas.openxmlformats.org/drawingml/2006/table">
            <a:tbl>
              <a:tblPr/>
              <a:tblGrid>
                <a:gridCol w="1828800"/>
                <a:gridCol w="221004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x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to print (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view: Slope-intercep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ebraically, if we always take the valu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we can solve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foll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 m * 1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m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 =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– m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ther words, to ge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, just subtract the slope from the fir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ue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2 – 5 = 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gets us the equ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m * x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5 * x –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5 * count –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which is exactly the equation from the previous slid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peti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 far, repeating a statement is redunda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ln("Homer says: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... 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ava'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performs a task many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omer says: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for (int i = 1; i &lt;= 4; i++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peat 4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-M-R-T... I mean S-M-A-R-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table to represent any patterns on each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int a character multiple times,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4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4 d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362320" y="1996920"/>
          <a:ext cx="1973160" cy="2197080"/>
        </p:xfrm>
        <a:graphic>
          <a:graphicData uri="http://schemas.openxmlformats.org/drawingml/2006/table">
            <a:tbl>
              <a:tblPr/>
              <a:tblGrid>
                <a:gridCol w="730080"/>
                <a:gridCol w="1243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d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34340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375240" y="2000160"/>
          <a:ext cx="2019600" cy="2193840"/>
        </p:xfrm>
        <a:graphic>
          <a:graphicData uri="http://schemas.openxmlformats.org/drawingml/2006/table">
            <a:tbl>
              <a:tblPr/>
              <a:tblGrid>
                <a:gridCol w="2019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-1 * line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34340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362640" y="2000160"/>
          <a:ext cx="2019240" cy="219384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200480" y="3003480"/>
            <a:ext cx="6094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52920" y="2089080"/>
            <a:ext cx="2209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-1 * line +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nes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 = 1; k &lt;= line; k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4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555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previous code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3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4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5; line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j = 1; j &lt;= (-1 * line + 5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(line - 1)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st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13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trol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trol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ming construct that affects the flow of a program's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code may include one or more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r loop is an example of a looping control stru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716120" y="1379520"/>
            <a:ext cx="1376280" cy="2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atio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4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what variable to use in the l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oop cou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use any nam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start at any value, not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valid in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ed once as the loop beg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386160" y="1379520"/>
            <a:ext cx="9349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&lt;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am so smar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the loop counter variable against a lim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comparison operat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less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greater than or equal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 + 1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(2 + 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4:29:02Z</dcterms:created>
  <dc:creator>Marty Stepp</dc:creator>
  <dc:description/>
  <dc:language>en-US</dc:language>
  <cp:lastModifiedBy>Benson Limketkai</cp:lastModifiedBy>
  <cp:lastPrinted>2011-10-04T23:10:14Z</cp:lastPrinted>
  <dcterms:modified xsi:type="dcterms:W3CDTF">2014-04-01T13:54:55Z</dcterms:modified>
  <cp:revision>1295</cp:revision>
  <dc:subject/>
  <dc:title>Building Java Programs</dc:title>
</cp:coreProperties>
</file>