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C435A-EC9C-4F76-A66B-0C6F7FEF798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86DB5-B3FF-4FC7-B271-A067517835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Date Placeholder 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Footer Placeholder 2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478CD-28F4-40C5-8B9E-AE0256D7407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8 % 20?  It's 8, but students often say 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the students what 15 % 4 and 8 / 3 are, since the answers are non-obvio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50C94-3C81-4D68-8FE8-9E67B580E54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A602C-78A0-4927-A2EF-8D475ABBAD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Date Placeholder 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Footer Placeholder 2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29E0C-93AF-4F1A-B628-E305B7A780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Date Placeholder 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Footer Placeholder 2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Date Placeholder 4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Footer Placeholder 5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Slide Number Placeholder 6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5F6A6-A44F-4B80-90A6-132E06F44E5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9EDA1-0ACE-4F0D-A8B1-A1B85522A47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723E2-2590-484E-AE69-E35790BB3C3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= x + 2;     increases the value stored in variable x by tw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A6267-DF49-4977-B68E-76C86CB01B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Date Placeholder 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Footer Placeholder 2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5FBE7-B9BB-47C3-9614-F726E555E1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Date Placeholder 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Footer Placeholder 2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A9528-EDFA-4EBB-BE84-B2ADBFD97E2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9AB0F-4361-4F93-B6B7-E8B0BC96A34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36EB7-8D15-493F-8645-5261B5B134E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BA0E2-9ACF-466E-8CAC-2B6DFD64AE1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B03A9-8220-4393-A255-68289FB0B5C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D45C7-856B-4D54-9819-F95BED029A9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24284-37B1-47BA-8A4E-A742AF04FE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23AFF-8503-4E7B-98BF-FD6957EB3F4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7D58E-E49B-49AF-924E-4E2BE419924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E7FEC-6D25-4D6C-97B3-24D4CF60F92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6A7AF-2A41-4E96-8E44-DAF2F5CD7B6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76272-4DA9-4F6D-895C-967432E488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Group 24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3" name="Freeform 6"/>
            <p:cNvSpPr/>
            <p:nvPr/>
          </p:nvSpPr>
          <p:spPr>
            <a:xfrm>
              <a:off x="-9360" y="0"/>
              <a:ext cx="9162720" cy="533520"/>
            </a:xfrm>
            <a:custGeom>
              <a:avLst/>
              <a:gdLst>
                <a:gd name="textAreaLeft" fmla="*/ 0 w 9162720"/>
                <a:gd name="textAreaRight" fmla="*/ 9163080 w 916272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72" h="656">
                  <a:moveTo>
                    <a:pt x="6" y="2"/>
                  </a:moveTo>
                  <a:lnTo>
                    <a:pt x="2542" y="0"/>
                  </a:lnTo>
                  <a:cubicBezTo>
                    <a:pt x="2746" y="101"/>
                    <a:pt x="3828" y="367"/>
                    <a:pt x="4374" y="367"/>
                  </a:cubicBezTo>
                  <a:cubicBezTo>
                    <a:pt x="4920" y="367"/>
                    <a:pt x="5526" y="152"/>
                    <a:pt x="5766" y="55"/>
                  </a:cubicBezTo>
                  <a:lnTo>
                    <a:pt x="5772" y="213"/>
                  </a:lnTo>
                  <a:cubicBezTo>
                    <a:pt x="5670" y="257"/>
                    <a:pt x="5016" y="441"/>
                    <a:pt x="4302" y="439"/>
                  </a:cubicBezTo>
                  <a:cubicBezTo>
                    <a:pt x="3588" y="437"/>
                    <a:pt x="2205" y="165"/>
                    <a:pt x="1488" y="201"/>
                  </a:cubicBezTo>
                  <a:cubicBezTo>
                    <a:pt x="750" y="209"/>
                    <a:pt x="270" y="482"/>
                    <a:pt x="0" y="656"/>
                  </a:cubicBezTo>
                  <a:lnTo>
                    <a:pt x="6" y="2"/>
                  </a:lnTo>
                  <a:close/>
                </a:path>
              </a:pathLst>
            </a:cu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Freeform 7"/>
            <p:cNvSpPr/>
            <p:nvPr/>
          </p:nvSpPr>
          <p:spPr>
            <a:xfrm>
              <a:off x="4267080" y="0"/>
              <a:ext cx="4876920" cy="271800"/>
            </a:xfrm>
            <a:custGeom>
              <a:avLst/>
              <a:gdLst>
                <a:gd name="textAreaLeft" fmla="*/ 0 w 4876920"/>
                <a:gd name="textAreaRight" fmla="*/ 4877280 w 4876920"/>
                <a:gd name="textAreaTop" fmla="*/ 0 h 271800"/>
                <a:gd name="textAreaBottom" fmla="*/ 272160 h 271800"/>
              </a:gdLst>
              <a:ahLst/>
              <a:rect l="textAreaLeft" t="textAreaTop" r="textAreaRight" b="textAreaBottom"/>
              <a:pathLst>
                <a:path w="3000" h="595">
                  <a:moveTo>
                    <a:pt x="0" y="0"/>
                  </a:moveTo>
                  <a:cubicBezTo>
                    <a:pt x="174" y="102"/>
                    <a:pt x="1168" y="533"/>
                    <a:pt x="1668" y="564"/>
                  </a:cubicBezTo>
                  <a:cubicBezTo>
                    <a:pt x="2168" y="595"/>
                    <a:pt x="2778" y="279"/>
                    <a:pt x="3000" y="186"/>
                  </a:cubicBezTo>
                  <a:lnTo>
                    <a:pt x="3000" y="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" name="Freeform 11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7" name="Freeform 1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40" y="142560"/>
                  <a:ext cx="915300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9" name="Freeform 12"/>
              <p:cNvGrpSpPr/>
              <p:nvPr/>
            </p:nvGrpSpPr>
            <p:grpSpPr>
              <a:xfrm>
                <a:off x="0" y="142560"/>
                <a:ext cx="9159840" cy="240840"/>
                <a:chOff x="0" y="142560"/>
                <a:chExt cx="9159840" cy="240840"/>
              </a:xfrm>
            </p:grpSpPr>
            <p:pic>
              <p:nvPicPr>
                <p:cNvPr id="10" name="Freeform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240" y="142560"/>
                  <a:ext cx="9156600" cy="24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12" name="Slide Number Placeholder 3"/>
          <p:cNvSpPr/>
          <p:nvPr/>
        </p:nvSpPr>
        <p:spPr>
          <a:xfrm>
            <a:off x="8153280" y="632448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D62D9-539E-4C2F-AC20-2B544B83CBBC}" type="slidenum">
              <a:rPr b="0" lang="en-US" sz="1200" spc="-1" strike="noStrike">
                <a:solidFill>
                  <a:srgbClr val="424242"/>
                </a:solidFill>
                <a:latin typeface="Verdana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3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50" name="Freeform 13"/>
            <p:cNvSpPr/>
            <p:nvPr/>
          </p:nvSpPr>
          <p:spPr>
            <a:xfrm>
              <a:off x="-9360" y="0"/>
              <a:ext cx="9162720" cy="533520"/>
            </a:xfrm>
            <a:custGeom>
              <a:avLst/>
              <a:gdLst>
                <a:gd name="textAreaLeft" fmla="*/ 0 w 9162720"/>
                <a:gd name="textAreaRight" fmla="*/ 9163080 w 916272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72" h="656">
                  <a:moveTo>
                    <a:pt x="6" y="2"/>
                  </a:moveTo>
                  <a:lnTo>
                    <a:pt x="2542" y="0"/>
                  </a:lnTo>
                  <a:cubicBezTo>
                    <a:pt x="2746" y="101"/>
                    <a:pt x="3828" y="367"/>
                    <a:pt x="4374" y="367"/>
                  </a:cubicBezTo>
                  <a:cubicBezTo>
                    <a:pt x="4920" y="367"/>
                    <a:pt x="5526" y="152"/>
                    <a:pt x="5766" y="55"/>
                  </a:cubicBezTo>
                  <a:lnTo>
                    <a:pt x="5772" y="213"/>
                  </a:lnTo>
                  <a:cubicBezTo>
                    <a:pt x="5670" y="257"/>
                    <a:pt x="5016" y="441"/>
                    <a:pt x="4302" y="439"/>
                  </a:cubicBezTo>
                  <a:cubicBezTo>
                    <a:pt x="3588" y="437"/>
                    <a:pt x="2205" y="165"/>
                    <a:pt x="1488" y="201"/>
                  </a:cubicBezTo>
                  <a:cubicBezTo>
                    <a:pt x="750" y="209"/>
                    <a:pt x="270" y="482"/>
                    <a:pt x="0" y="656"/>
                  </a:cubicBezTo>
                  <a:lnTo>
                    <a:pt x="6" y="2"/>
                  </a:lnTo>
                  <a:close/>
                </a:path>
              </a:pathLst>
            </a:cu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Freeform 14"/>
            <p:cNvSpPr/>
            <p:nvPr/>
          </p:nvSpPr>
          <p:spPr>
            <a:xfrm>
              <a:off x="4267080" y="0"/>
              <a:ext cx="4876920" cy="271800"/>
            </a:xfrm>
            <a:custGeom>
              <a:avLst/>
              <a:gdLst>
                <a:gd name="textAreaLeft" fmla="*/ 0 w 4876920"/>
                <a:gd name="textAreaRight" fmla="*/ 4877280 w 4876920"/>
                <a:gd name="textAreaTop" fmla="*/ 0 h 271800"/>
                <a:gd name="textAreaBottom" fmla="*/ 272160 h 271800"/>
              </a:gdLst>
              <a:ahLst/>
              <a:rect l="textAreaLeft" t="textAreaTop" r="textAreaRight" b="textAreaBottom"/>
              <a:pathLst>
                <a:path w="3000" h="595">
                  <a:moveTo>
                    <a:pt x="0" y="0"/>
                  </a:moveTo>
                  <a:cubicBezTo>
                    <a:pt x="174" y="102"/>
                    <a:pt x="1168" y="533"/>
                    <a:pt x="1668" y="564"/>
                  </a:cubicBezTo>
                  <a:cubicBezTo>
                    <a:pt x="2168" y="595"/>
                    <a:pt x="2778" y="279"/>
                    <a:pt x="3000" y="186"/>
                  </a:cubicBezTo>
                  <a:lnTo>
                    <a:pt x="3000" y="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2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53" name="Freeform 16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54" name="Freeform 16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40" y="142560"/>
                  <a:ext cx="915300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5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56" name="Freeform 17"/>
              <p:cNvGrpSpPr/>
              <p:nvPr/>
            </p:nvGrpSpPr>
            <p:grpSpPr>
              <a:xfrm>
                <a:off x="0" y="142560"/>
                <a:ext cx="9159840" cy="240840"/>
                <a:chOff x="0" y="142560"/>
                <a:chExt cx="9159840" cy="240840"/>
              </a:xfrm>
            </p:grpSpPr>
            <p:pic>
              <p:nvPicPr>
                <p:cNvPr id="57" name="Freeform 17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240" y="142560"/>
                  <a:ext cx="9156600" cy="24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8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sldNum" idx="1"/>
          </p:nvPr>
        </p:nvSpPr>
        <p:spPr>
          <a:xfrm>
            <a:off x="67057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Verdana"/>
                <a:ea typeface="Times New Roman"/>
              </a:defRPr>
            </a:lvl1pPr>
          </a:lstStyle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610FD-2259-49B3-A05D-E2D687E6E3FD}" type="slidenum">
              <a:rPr b="0" lang="en-US" sz="1200" spc="-1" strike="noStrike">
                <a:solidFill>
                  <a:srgbClr val="424242"/>
                </a:solidFill>
                <a:latin typeface="Verdana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Building Java Programs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12360" y="3092400"/>
            <a:ext cx="78390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Chapter 2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cture 2-1: Expressions and Variabl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ading: 2.1 - 2.2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Integer remainder with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%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290680"/>
                <a:tab algn="l" pos="4799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perator computes the remainder from integer divis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90680"/>
                <a:tab algn="l" pos="4799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4 % 4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90680"/>
                <a:tab algn="l" pos="4799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18 % 5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</a:t>
            </a:r>
            <a:br>
              <a:rPr sz="700"/>
            </a:br>
            <a:r>
              <a:rPr b="0" lang="en-US" sz="7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7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   3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   4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4 ) 14              5 ) 218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2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18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15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2290680"/>
                <a:tab algn="l" pos="4799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2290680"/>
                <a:tab algn="l" pos="4799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290680"/>
                <a:tab algn="l" pos="4799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pplications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perator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90680"/>
                <a:tab algn="l" pos="4799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btain last digit of a number: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30857 % 1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90680"/>
                <a:tab algn="l" pos="4799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btain last 4 digits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658236489 % 1000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648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90680"/>
                <a:tab algn="l" pos="4799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e whether a number is odd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7 % 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2 % 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095880" y="2006640"/>
            <a:ext cx="2819520" cy="187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is the result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45 % 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 % 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8 % 2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1 % 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4"/>
          <p:cNvSpPr/>
          <p:nvPr/>
        </p:nvSpPr>
        <p:spPr>
          <a:xfrm>
            <a:off x="1862280" y="3922560"/>
            <a:ext cx="110628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1500120" y="3649680"/>
            <a:ext cx="93672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1490760" y="3152880"/>
            <a:ext cx="99036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Remember PEMDAS?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precedenc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Order in which operators are evaluate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nerally operators evaluate left-to-right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 - 2 - 3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is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1 - 2) - 3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which is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have a higher level of precedence th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</a:t>
            </a:r>
            <a:br>
              <a:rPr sz="2000"/>
            </a:br>
            <a:br>
              <a:rPr sz="800"/>
            </a:br>
            <a:br>
              <a:rPr sz="8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 * 4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6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8 / 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*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6 +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4   *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6 +     1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rentheses can force a certain order of evaluation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1 + 3) * 4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pacing does not affect order of evalua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+3 * 4-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recedence exampl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-360" y="1752120"/>
            <a:ext cx="4343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 * 2 + 3 * 5 % 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\_/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  |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+ 3 * 5 % 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         </a:t>
            </a: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\_/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          |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2   +  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15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% 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           </a:t>
            </a: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\___/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             |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2   +      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\________/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       |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4800600" y="1752480"/>
            <a:ext cx="43434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+ 8 / 3 * 2 - 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ourier New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808080"/>
                </a:solidFill>
                <a:latin typeface="Courier New"/>
                <a:ea typeface="Times New Roman"/>
              </a:rPr>
              <a:t>\_/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Courier New"/>
                <a:ea typeface="Times New Roman"/>
              </a:rPr>
              <a:t>      |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+   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* 2 - 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ourier New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808080"/>
                </a:solidFill>
                <a:latin typeface="Courier New"/>
                <a:ea typeface="Times New Roman"/>
              </a:rPr>
              <a:t>\___/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Courier New"/>
                <a:ea typeface="Times New Roman"/>
              </a:rPr>
              <a:t>         |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+     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  <a:ea typeface="Times New Roman"/>
              </a:rPr>
              <a:t> 4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- 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ourier New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808080"/>
                </a:solidFill>
                <a:latin typeface="Courier New"/>
                <a:ea typeface="Times New Roman"/>
              </a:rPr>
              <a:t>\______/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Courier New"/>
                <a:ea typeface="Times New Roman"/>
              </a:rPr>
              <a:t>    |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  <a:ea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- 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ourier New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808080"/>
                </a:solidFill>
                <a:latin typeface="Courier New"/>
                <a:ea typeface="Times New Roman"/>
              </a:rPr>
              <a:t>\_________/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Courier New"/>
                <a:ea typeface="Times New Roman"/>
              </a:rPr>
              <a:t>          |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  <a:ea typeface="Times New Roman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recedence question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at values result from the following expressions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9 / 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695 % 2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7 + 6 * 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7 * 6 + 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48 % 100 / 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6 * 3 - 9 / 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5 - 7) * 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6 + (18 % (17 - 12)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Real numbers (type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double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amples: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6.022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,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-42.0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,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2.143e17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2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acing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fter an integer makes it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operators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)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 all still work wit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produces an exact answer: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5.0 / 2.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7.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0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cedence is the same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before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before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Real number exampl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.0 * 2.4 + 2.25 * 4.0 / 2.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\___/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    |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4.8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+ 2.25 * 4.0 / 2.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              </a:t>
            </a: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\___/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                |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4.8    +    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9.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/ 2.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                 </a:t>
            </a: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\_____/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                    |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4.8    +        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4.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      </a:t>
            </a: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\____________/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             |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9.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recision in real number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computer internally represents real numbers in an imprecise way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0.1 + 0.2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output 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.30000000000000004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4"/>
          <p:cNvSpPr/>
          <p:nvPr/>
        </p:nvSpPr>
        <p:spPr>
          <a:xfrm>
            <a:off x="2835360" y="4114800"/>
            <a:ext cx="76176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Mixing typ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e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re mixed, the result i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.2 * 3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is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2.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conversion is per-operator, affecting only its operand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5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7 / 3 * 1.2 + 3 / 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5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\_/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  |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* 1.2 + 3 / 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5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\___/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     |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2.4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 / 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5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               </a:t>
            </a: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\_/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                |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2.4     +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5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\________/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          |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3.4</a:t>
            </a:r>
            <a:br>
              <a:rPr sz="1800"/>
            </a:b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44b9e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 / 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bove, no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.5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4952880" y="2789280"/>
            <a:ext cx="4191120" cy="36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>
              <a:lnSpc>
                <a:spcPct val="75000"/>
              </a:lnSpc>
              <a:spcBef>
                <a:spcPts val="451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.5 + 10 / 3 * 2.5 - 6 / 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5000"/>
              </a:lnSpc>
              <a:spcBef>
                <a:spcPts val="451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Courier New"/>
                <a:ea typeface="Times New Roman"/>
              </a:rPr>
              <a:t>       </a:t>
            </a:r>
            <a:r>
              <a:rPr b="0" lang="en-US" sz="1800" spc="-1" strike="noStrike">
                <a:solidFill>
                  <a:srgbClr val="808080"/>
                </a:solidFill>
                <a:latin typeface="Courier New"/>
                <a:ea typeface="Times New Roman"/>
              </a:rPr>
              <a:t>\___/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Courier New"/>
                <a:ea typeface="Times New Roman"/>
              </a:rPr>
              <a:t>         |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.5 +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  <a:ea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* 2.5 - 6 / 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5000"/>
              </a:lnSpc>
              <a:spcBef>
                <a:spcPts val="451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Courier New"/>
                <a:ea typeface="Times New Roman"/>
              </a:rPr>
              <a:t>         </a:t>
            </a:r>
            <a:r>
              <a:rPr b="0" lang="en-US" sz="1800" spc="-1" strike="noStrike">
                <a:solidFill>
                  <a:srgbClr val="808080"/>
                </a:solidFill>
                <a:latin typeface="Courier New"/>
                <a:ea typeface="Times New Roman"/>
              </a:rPr>
              <a:t>\_____/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Courier New"/>
                <a:ea typeface="Times New Roman"/>
              </a:rPr>
              <a:t>            |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.5 +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  <a:ea typeface="Times New Roman"/>
              </a:rPr>
              <a:t>7.5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- 6 / 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5000"/>
              </a:lnSpc>
              <a:spcBef>
                <a:spcPts val="451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Courier New"/>
                <a:ea typeface="Times New Roman"/>
              </a:rPr>
              <a:t>                      </a:t>
            </a:r>
            <a:r>
              <a:rPr b="0" lang="en-US" sz="1800" spc="-1" strike="noStrike">
                <a:solidFill>
                  <a:srgbClr val="808080"/>
                </a:solidFill>
                <a:latin typeface="Courier New"/>
                <a:ea typeface="Times New Roman"/>
              </a:rPr>
              <a:t>\_/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Courier New"/>
                <a:ea typeface="Times New Roman"/>
              </a:rPr>
              <a:t>                       |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.5 +      7.5     -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5000"/>
              </a:lnSpc>
              <a:spcBef>
                <a:spcPts val="451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Courier New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Courier New"/>
                <a:ea typeface="Times New Roman"/>
              </a:rPr>
              <a:t>\_________/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Courier New"/>
                <a:ea typeface="Times New Roman"/>
              </a:rPr>
              <a:t>      |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  <a:ea typeface="Times New Roman"/>
              </a:rPr>
              <a:t>10.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-   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5000"/>
              </a:lnSpc>
              <a:spcBef>
                <a:spcPts val="451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Courier New"/>
                <a:ea typeface="Times New Roman"/>
              </a:rPr>
              <a:t>       </a:t>
            </a:r>
            <a:r>
              <a:rPr b="0" lang="en-US" sz="1800" spc="-1" strike="noStrike">
                <a:solidFill>
                  <a:srgbClr val="808080"/>
                </a:solidFill>
                <a:latin typeface="Courier New"/>
                <a:ea typeface="Times New Roman"/>
              </a:rPr>
              <a:t>\______________/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Courier New"/>
                <a:ea typeface="Times New Roman"/>
              </a:rPr>
              <a:t>               |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  <a:ea typeface="Times New Roman"/>
              </a:rPr>
              <a:t>9.0 </a:t>
            </a:r>
            <a:r>
              <a:rPr b="0" lang="en-US" sz="1800" spc="-1" strike="noStrike">
                <a:solidFill>
                  <a:srgbClr val="800000"/>
                </a:solidFill>
                <a:latin typeface="Verdana"/>
                <a:ea typeface="Times New Roman"/>
              </a:rPr>
              <a:t>(not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  <a:ea typeface="Times New Roman"/>
              </a:rPr>
              <a:t>9</a:t>
            </a:r>
            <a:r>
              <a:rPr b="0" lang="en-US" sz="1800" spc="-1" strike="noStrike">
                <a:solidFill>
                  <a:srgbClr val="800000"/>
                </a:solidFill>
                <a:latin typeface="Verdana"/>
                <a:ea typeface="Times New Roman"/>
              </a:rPr>
              <a:t>!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3968640" y="5281560"/>
            <a:ext cx="176688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tring concatena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tring concatenati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Us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between a string and another value to make a longer string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hello" + 4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hello42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 + "abc" + 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1abc2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abc" + 1 + 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abc12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 + 2 + "abc"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3abc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abc" + 9 * 3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abc27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1" + 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11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 - 1 + "abc"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3abc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s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o print a string and an expression's value togethe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Grade: " +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95.1 + 71.9) / 2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Verdana"/>
              <a:buChar char="•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tput: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de: 83.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64646"/>
                </a:solidFill>
                <a:latin typeface="Verdana"/>
              </a:rPr>
              <a:t>Variables</a:t>
            </a:r>
            <a:endParaRPr b="0" lang="en-US" sz="5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612360" y="3092400"/>
            <a:ext cx="78390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reading: 2.2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cartoon37.png"/>
          <p:cNvPicPr/>
          <p:nvPr/>
        </p:nvPicPr>
        <p:blipFill>
          <a:blip r:embed="rId1"/>
          <a:stretch/>
        </p:blipFill>
        <p:spPr>
          <a:xfrm>
            <a:off x="0" y="1692360"/>
            <a:ext cx="9144000" cy="34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11"/>
          <p:cNvGrpSpPr/>
          <p:nvPr/>
        </p:nvGrpSpPr>
        <p:grpSpPr>
          <a:xfrm>
            <a:off x="4267080" y="2727360"/>
            <a:ext cx="1828800" cy="2254320"/>
            <a:chOff x="4267080" y="2727360"/>
            <a:chExt cx="1828800" cy="2254320"/>
          </a:xfrm>
        </p:grpSpPr>
        <p:sp>
          <p:nvSpPr>
            <p:cNvPr id="155" name="Rectangle 4"/>
            <p:cNvSpPr/>
            <p:nvPr/>
          </p:nvSpPr>
          <p:spPr>
            <a:xfrm>
              <a:off x="4267080" y="2727360"/>
              <a:ext cx="1676520" cy="280800"/>
            </a:xfrm>
            <a:prstGeom prst="rect">
              <a:avLst/>
            </a:prstGeom>
            <a:solidFill>
              <a:srgbClr val="ffbe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6" name="Rectangle 4"/>
            <p:cNvSpPr/>
            <p:nvPr/>
          </p:nvSpPr>
          <p:spPr>
            <a:xfrm>
              <a:off x="4419720" y="3308400"/>
              <a:ext cx="1676160" cy="280800"/>
            </a:xfrm>
            <a:prstGeom prst="rect">
              <a:avLst/>
            </a:prstGeom>
            <a:solidFill>
              <a:srgbClr val="ffbe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7" name="Rectangle 4"/>
            <p:cNvSpPr/>
            <p:nvPr/>
          </p:nvSpPr>
          <p:spPr>
            <a:xfrm>
              <a:off x="4419720" y="3770280"/>
              <a:ext cx="1676160" cy="281160"/>
            </a:xfrm>
            <a:prstGeom prst="rect">
              <a:avLst/>
            </a:prstGeom>
            <a:solidFill>
              <a:srgbClr val="ffbe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8" name="Rectangle 4"/>
            <p:cNvSpPr/>
            <p:nvPr/>
          </p:nvSpPr>
          <p:spPr>
            <a:xfrm>
              <a:off x="4275000" y="4230720"/>
              <a:ext cx="1676520" cy="280800"/>
            </a:xfrm>
            <a:prstGeom prst="rect">
              <a:avLst/>
            </a:prstGeom>
            <a:solidFill>
              <a:srgbClr val="ffbe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9" name="Rectangle 4"/>
            <p:cNvSpPr/>
            <p:nvPr/>
          </p:nvSpPr>
          <p:spPr>
            <a:xfrm>
              <a:off x="4419720" y="4479840"/>
              <a:ext cx="1676160" cy="281160"/>
            </a:xfrm>
            <a:prstGeom prst="rect">
              <a:avLst/>
            </a:prstGeom>
            <a:solidFill>
              <a:srgbClr val="ffbe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" name="Rectangle 4"/>
            <p:cNvSpPr/>
            <p:nvPr/>
          </p:nvSpPr>
          <p:spPr>
            <a:xfrm>
              <a:off x="4419720" y="4700520"/>
              <a:ext cx="1676160" cy="281160"/>
            </a:xfrm>
            <a:prstGeom prst="rect">
              <a:avLst/>
            </a:prstGeom>
            <a:solidFill>
              <a:srgbClr val="ffbe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Receipt exampl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Courier New"/>
              </a:rPr>
              <a:t>What's bad about the following code?</a:t>
            </a:r>
            <a:br>
              <a:rPr sz="2400"/>
            </a:br>
            <a:br>
              <a:rPr sz="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Receipt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public static void main(String[] args) {</a:t>
            </a:r>
            <a:br>
              <a:rPr sz="1800"/>
            </a:br>
            <a:r>
              <a:rPr b="1" lang="en-US" sz="1800" spc="-1" strike="noStrike">
                <a:solidFill>
                  <a:srgbClr val="008080"/>
                </a:solidFill>
                <a:latin typeface="Courier New"/>
                <a:ea typeface="Courier New"/>
              </a:rPr>
              <a:t>        // Calculate total owed, assuming 8% tax / 15% tip</a:t>
            </a:r>
            <a:br>
              <a:rPr sz="1800"/>
            </a:br>
            <a:r>
              <a:rPr b="1" lang="en-US" sz="1800" spc="-1" strike="noStrike">
                <a:solidFill>
                  <a:srgbClr val="008080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out.println("Subtotal:"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System.out.println(38 + 40 + 30);</a:t>
            </a:r>
            <a:br>
              <a:rPr sz="1800"/>
            </a:br>
            <a:br>
              <a:rPr sz="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System.out.println("Tax:"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System.out.println((38 + 40 + 30) * .08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System.out.println("Tip:"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System.out.println((38 + 40 + 30) * .15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System.out.println("Total:"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System.out.println(38 + 40 + 30 +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(38 + 40 + 30) * .08 +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(38 + 40 + 30) * .15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subtotal expressio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38 + 40 + 30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Courier New"/>
              </a:rPr>
              <a:t> is repeat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 man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l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statem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Variabl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 piece of the computer's memory that is given a name and type, and can store a valu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ke preset stations on a car stereo, or cell phone speed dial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eps for using a variab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Declar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i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state its name and typ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Initialize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store a value into i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Use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print it or use it as part of an express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5" name="Group 4"/>
          <p:cNvGrpSpPr/>
          <p:nvPr/>
        </p:nvGrpSpPr>
        <p:grpSpPr>
          <a:xfrm>
            <a:off x="1066680" y="3162240"/>
            <a:ext cx="4826160" cy="1181160"/>
            <a:chOff x="1066680" y="3162240"/>
            <a:chExt cx="4826160" cy="1181160"/>
          </a:xfrm>
        </p:grpSpPr>
        <p:pic>
          <p:nvPicPr>
            <p:cNvPr id="166" name="Picture 5" descr="car_stereo"/>
            <p:cNvPicPr/>
            <p:nvPr/>
          </p:nvPicPr>
          <p:blipFill>
            <a:blip r:embed="rId1"/>
            <a:srcRect l="0" t="33199" r="0" b="35405"/>
            <a:stretch/>
          </p:blipFill>
          <p:spPr>
            <a:xfrm>
              <a:off x="1066680" y="3162240"/>
              <a:ext cx="4826160" cy="11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Oval 6"/>
            <p:cNvSpPr/>
            <p:nvPr/>
          </p:nvSpPr>
          <p:spPr>
            <a:xfrm>
              <a:off x="2456280" y="3929400"/>
              <a:ext cx="2258640" cy="361080"/>
            </a:xfrm>
            <a:prstGeom prst="ellipse">
              <a:avLst/>
            </a:prstGeom>
            <a:noFill/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68" name="Picture 8" descr=""/>
          <p:cNvPicPr/>
          <p:nvPr/>
        </p:nvPicPr>
        <p:blipFill>
          <a:blip r:embed="rId2"/>
          <a:srcRect l="0" t="0" r="3169" b="0"/>
          <a:stretch/>
        </p:blipFill>
        <p:spPr>
          <a:xfrm>
            <a:off x="6705720" y="2984400"/>
            <a:ext cx="150480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Declara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ariable declarati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ts aside memory for storing a valu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riables must be declared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fore they can be us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yntax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yp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zipcod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myGPA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5562720" y="3657600"/>
          <a:ext cx="2590560" cy="660240"/>
        </p:xfrm>
        <a:graphic>
          <a:graphicData uri="http://schemas.openxmlformats.org/drawingml/2006/table">
            <a:tbl>
              <a:tblPr/>
              <a:tblGrid>
                <a:gridCol w="1371600"/>
                <a:gridCol w="1218960"/>
              </a:tblGrid>
              <a:tr h="660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zipco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5562720" y="4749840"/>
          <a:ext cx="2590560" cy="660240"/>
        </p:xfrm>
        <a:graphic>
          <a:graphicData uri="http://schemas.openxmlformats.org/drawingml/2006/table">
            <a:tbl>
              <a:tblPr/>
              <a:tblGrid>
                <a:gridCol w="1371600"/>
                <a:gridCol w="1218960"/>
              </a:tblGrid>
              <a:tr h="660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GP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4"/>
          <p:cNvSpPr/>
          <p:nvPr/>
        </p:nvSpPr>
        <p:spPr>
          <a:xfrm>
            <a:off x="905040" y="5021280"/>
            <a:ext cx="295416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887400" y="3989520"/>
            <a:ext cx="117000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ssignmen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Stores a value into a variabl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value can be an expression; the variable stores its resul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yntax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pressio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zipcode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zipcode = 9021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 myGPA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yGPA = 1.0 + 2.25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ssignmen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5562720" y="3657600"/>
          <a:ext cx="2590560" cy="660240"/>
        </p:xfrm>
        <a:graphic>
          <a:graphicData uri="http://schemas.openxmlformats.org/drawingml/2006/table">
            <a:tbl>
              <a:tblPr/>
              <a:tblGrid>
                <a:gridCol w="1371600"/>
                <a:gridCol w="1218960"/>
              </a:tblGrid>
              <a:tr h="660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zipco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Courier New"/>
                          <a:ea typeface="Times New Roman"/>
                        </a:rPr>
                        <a:t>902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5562720" y="4749840"/>
          <a:ext cx="2590560" cy="660240"/>
        </p:xfrm>
        <a:graphic>
          <a:graphicData uri="http://schemas.openxmlformats.org/drawingml/2006/table">
            <a:tbl>
              <a:tblPr/>
              <a:tblGrid>
                <a:gridCol w="1371600"/>
                <a:gridCol w="1218960"/>
              </a:tblGrid>
              <a:tr h="660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yGP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Courier New"/>
                          <a:ea typeface="Times New Roman"/>
                        </a:rPr>
                        <a:t>3.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4"/>
          <p:cNvSpPr/>
          <p:nvPr/>
        </p:nvSpPr>
        <p:spPr>
          <a:xfrm>
            <a:off x="932040" y="5478480"/>
            <a:ext cx="156348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4417920" y="3122640"/>
            <a:ext cx="22860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5324400" y="2654280"/>
            <a:ext cx="22860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Using variabl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ce given a value, a variable can be used in expressions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3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x is 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x is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5 *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- 1);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1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You can assign a value more than onc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3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x + " here");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3 here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 = 4 + 7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now x is " + x);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now x is 1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6705720" y="4064040"/>
          <a:ext cx="1981080" cy="660240"/>
        </p:xfrm>
        <a:graphic>
          <a:graphicData uri="http://schemas.openxmlformats.org/drawingml/2006/table">
            <a:tbl>
              <a:tblPr/>
              <a:tblGrid>
                <a:gridCol w="990360"/>
                <a:gridCol w="990720"/>
              </a:tblGrid>
              <a:tr h="660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6705720" y="4064040"/>
          <a:ext cx="1981080" cy="660240"/>
        </p:xfrm>
        <a:graphic>
          <a:graphicData uri="http://schemas.openxmlformats.org/drawingml/2006/table">
            <a:tbl>
              <a:tblPr/>
              <a:tblGrid>
                <a:gridCol w="990360"/>
                <a:gridCol w="990720"/>
              </a:tblGrid>
              <a:tr h="660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Courier New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Declaration/initializa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variable can be declared/initialized in one statemen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yntax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pressio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x = (11 % 3) + 12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 myGPA = 3.95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5562720" y="3149640"/>
          <a:ext cx="2209680" cy="660240"/>
        </p:xfrm>
        <a:graphic>
          <a:graphicData uri="http://schemas.openxmlformats.org/drawingml/2006/table">
            <a:tbl>
              <a:tblPr/>
              <a:tblGrid>
                <a:gridCol w="990360"/>
                <a:gridCol w="1219320"/>
              </a:tblGrid>
              <a:tr h="660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5562720" y="4292640"/>
          <a:ext cx="2209680" cy="660240"/>
        </p:xfrm>
        <a:graphic>
          <a:graphicData uri="http://schemas.openxmlformats.org/drawingml/2006/table">
            <a:tbl>
              <a:tblPr/>
              <a:tblGrid>
                <a:gridCol w="990360"/>
                <a:gridCol w="1219320"/>
              </a:tblGrid>
              <a:tr h="660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GP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.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4"/>
          <p:cNvSpPr/>
          <p:nvPr/>
        </p:nvSpPr>
        <p:spPr>
          <a:xfrm>
            <a:off x="662040" y="5334120"/>
            <a:ext cx="159696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ssignment vs. algebra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ssignment use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, but it is not an algebraic equatio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ans, 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"store the value at right in variable at left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3;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ans, 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"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 becomes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"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or 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"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 should now store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ERRO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3 = 1 + 2;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 is an illegal statement, becaus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s not a variabl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at happens here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x = 3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x + 2;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// ??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5791320" y="4902120"/>
          <a:ext cx="1981080" cy="660600"/>
        </p:xfrm>
        <a:graphic>
          <a:graphicData uri="http://schemas.openxmlformats.org/drawingml/2006/table">
            <a:tbl>
              <a:tblPr/>
              <a:tblGrid>
                <a:gridCol w="990360"/>
                <a:gridCol w="990720"/>
              </a:tblGrid>
              <a:tr h="660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5791320" y="4902120"/>
          <a:ext cx="1981080" cy="660600"/>
        </p:xfrm>
        <a:graphic>
          <a:graphicData uri="http://schemas.openxmlformats.org/drawingml/2006/table">
            <a:tbl>
              <a:tblPr/>
              <a:tblGrid>
                <a:gridCol w="990360"/>
                <a:gridCol w="990720"/>
              </a:tblGrid>
              <a:tr h="660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Courier New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ssignment exercis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at is the output of the following Java code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3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y = x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5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 = y + x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x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y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ssignment and typ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variable can only store a value of its own typ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int x = 2.5;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// ERROR: incompatible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value can be stored in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variabl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value is converted into the equivalent real numb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myGPA = 4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avg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1 / 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0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y doe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vg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stor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5.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d no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5.5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5791320" y="3733920"/>
          <a:ext cx="2209680" cy="660240"/>
        </p:xfrm>
        <a:graphic>
          <a:graphicData uri="http://schemas.openxmlformats.org/drawingml/2006/table">
            <a:tbl>
              <a:tblPr/>
              <a:tblGrid>
                <a:gridCol w="990360"/>
                <a:gridCol w="1219320"/>
              </a:tblGrid>
              <a:tr h="660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GP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4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5791320" y="4749840"/>
          <a:ext cx="2209680" cy="660240"/>
        </p:xfrm>
        <a:graphic>
          <a:graphicData uri="http://schemas.openxmlformats.org/drawingml/2006/table">
            <a:tbl>
              <a:tblPr/>
              <a:tblGrid>
                <a:gridCol w="990360"/>
                <a:gridCol w="1219320"/>
              </a:tblGrid>
              <a:tr h="660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v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ompiler error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variable can't be used until it is assigned a valu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System.out.println(x);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// ERROR: x has no val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You may not declare the same variable twic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;</a:t>
            </a:r>
            <a:br>
              <a:rPr sz="2000"/>
            </a:b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int x;</a:t>
            </a:r>
            <a:r>
              <a:rPr b="0" lang="en-US" sz="2000" spc="-1" strike="noStrike">
                <a:solidFill>
                  <a:srgbClr val="a50021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// ERROR: x already exis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 = 3;</a:t>
            </a:r>
            <a:br>
              <a:rPr sz="2000"/>
            </a:b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int x = 5;     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// ERROR: x already exis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0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ow can this code be fixed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Data and expressions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612360" y="3092400"/>
            <a:ext cx="78390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reading: 2.1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3848040" y="2309760"/>
            <a:ext cx="383688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rinting a variable's valu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s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o print a string and a variable's value on one lin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grade = (95.1 + 71.9 + 82.6) / 3.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Your grade was " + grad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tudents = 11 + 17 + 4 + 19 + 14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There are " + students +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 students in the course.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our grade was 83.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ere are 65 students in the cours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Receipt ques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Courier New"/>
              </a:rPr>
              <a:t>Improve the receipt program using variabl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Receipt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  <a:ea typeface="Courier New"/>
              </a:rPr>
              <a:t>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  <a:ea typeface="Courier New"/>
              </a:rPr>
              <a:t>// Calculate total owed, assuming 8% tax / 15% ti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Subtotal: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38 + 40 + 30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Tax: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(38 + 40 + 30) * .08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Tip: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(38 + 40 + 30) * .15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Total: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38 + 40 + 30 +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38 + 40 + 30) * .15 +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38 + 40 + 30) * .08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Receipt answe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Receipt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  <a:ea typeface="Courier New"/>
              </a:rPr>
              <a:t>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  <a:ea typeface="Courier New"/>
              </a:rPr>
              <a:t>// Calculate total owed, assuming 8% tax / 15% ti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subtotal = 38 + 40 + 30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 tax = subtotal * .08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 tip = subtotal * .15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 total = subtotal + tax + tip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Subtotal: "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+ subtot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Tax: "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+ ta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Tip: "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+ tip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Total: "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+ tot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he computer’s view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ternally, computers store everything as 1’s and 0’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1101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hi"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110100011010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04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1101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ow can the computer tell the difference between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04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 category or set of data valu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trains the operations that can be performed on da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y languages ask the programmer to specify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 integer, real number, st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Java's primitive typ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286000"/>
                <a:tab algn="l" pos="4114800"/>
                <a:tab algn="l" pos="583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primitive type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8 simple types for numbers, text, etc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86000"/>
                <a:tab algn="l" pos="4114800"/>
                <a:tab algn="l" pos="583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ava also has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bject typ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which we'll talk about la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286000"/>
                <a:tab algn="l" pos="4114800"/>
                <a:tab algn="l" pos="583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286000"/>
                <a:tab algn="l" pos="4114800"/>
                <a:tab algn="l" pos="583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escription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2286000"/>
                <a:tab algn="l" pos="4114800"/>
                <a:tab algn="l" pos="583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eger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up to 2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31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- 1)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4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3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92639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2286000"/>
                <a:tab algn="l" pos="4114800"/>
                <a:tab algn="l" pos="583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al number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up to 10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308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3.1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0.25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9.4e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2286000"/>
                <a:tab algn="l" pos="4114800"/>
                <a:tab algn="l" pos="583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09090"/>
                </a:solidFill>
                <a:latin typeface="Courier New"/>
              </a:rPr>
              <a:t>char</a:t>
            </a:r>
            <a:r>
              <a:rPr b="0" lang="en-US" sz="1800" spc="-1" strike="noStrike">
                <a:solidFill>
                  <a:srgbClr val="90909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909090"/>
                </a:solidFill>
                <a:latin typeface="Verdana"/>
              </a:rPr>
              <a:t>single text characters</a:t>
            </a:r>
            <a:r>
              <a:rPr b="0" lang="en-US" sz="1800" spc="-1" strike="noStrike">
                <a:solidFill>
                  <a:srgbClr val="90909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909090"/>
                </a:solidFill>
                <a:latin typeface="Courier New"/>
              </a:rPr>
              <a:t>'a'</a:t>
            </a:r>
            <a:r>
              <a:rPr b="0" lang="en-US" sz="1800" spc="-1" strike="noStrike">
                <a:solidFill>
                  <a:srgbClr val="909090"/>
                </a:solidFill>
                <a:latin typeface="Verdana"/>
              </a:rPr>
              <a:t>,  </a:t>
            </a:r>
            <a:r>
              <a:rPr b="0" lang="en-US" sz="1800" spc="-1" strike="noStrike">
                <a:solidFill>
                  <a:srgbClr val="909090"/>
                </a:solidFill>
                <a:latin typeface="Courier New"/>
              </a:rPr>
              <a:t>'X'</a:t>
            </a:r>
            <a:r>
              <a:rPr b="0" lang="en-US" sz="1800" spc="-1" strike="noStrike">
                <a:solidFill>
                  <a:srgbClr val="909090"/>
                </a:solidFill>
                <a:latin typeface="Verdana"/>
              </a:rPr>
              <a:t>,  </a:t>
            </a:r>
            <a:r>
              <a:rPr b="0" lang="en-US" sz="1800" spc="-1" strike="noStrike">
                <a:solidFill>
                  <a:srgbClr val="909090"/>
                </a:solidFill>
                <a:latin typeface="Courier New"/>
              </a:rPr>
              <a:t>'?'</a:t>
            </a:r>
            <a:r>
              <a:rPr b="0" lang="en-US" sz="1800" spc="-1" strike="noStrike">
                <a:solidFill>
                  <a:srgbClr val="909090"/>
                </a:solidFill>
                <a:latin typeface="Verdana"/>
              </a:rPr>
              <a:t>,  </a:t>
            </a:r>
            <a:r>
              <a:rPr b="0" lang="en-US" sz="1800" spc="-1" strike="noStrike">
                <a:solidFill>
                  <a:srgbClr val="909090"/>
                </a:solidFill>
                <a:latin typeface="Courier New"/>
              </a:rPr>
              <a:t>'\n'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2286000"/>
                <a:tab algn="l" pos="4114800"/>
                <a:tab algn="l" pos="583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0909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90909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909090"/>
                </a:solidFill>
                <a:latin typeface="Verdana"/>
              </a:rPr>
              <a:t>logical values</a:t>
            </a:r>
            <a:r>
              <a:rPr b="0" lang="en-US" sz="1800" spc="-1" strike="noStrike">
                <a:solidFill>
                  <a:srgbClr val="90909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90909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909090"/>
                </a:solidFill>
                <a:latin typeface="Courier New"/>
              </a:rPr>
              <a:t>true</a:t>
            </a:r>
            <a:r>
              <a:rPr b="0" lang="en-US" sz="1800" spc="-1" strike="noStrike">
                <a:solidFill>
                  <a:srgbClr val="909090"/>
                </a:solidFill>
                <a:latin typeface="Verdana"/>
              </a:rPr>
              <a:t>,  </a:t>
            </a:r>
            <a:r>
              <a:rPr b="0" lang="en-US" sz="1800" spc="-1" strike="noStrike">
                <a:solidFill>
                  <a:srgbClr val="909090"/>
                </a:solidFill>
                <a:latin typeface="Courier New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286000"/>
                <a:tab algn="l" pos="4114800"/>
                <a:tab algn="l" pos="583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286000"/>
                <a:tab algn="l" pos="4114800"/>
                <a:tab algn="l" pos="583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44b9e8"/>
              </a:buClr>
              <a:buSzPct val="85000"/>
              <a:buFont typeface="Verdana"/>
              <a:buChar char="•"/>
              <a:tabLst>
                <a:tab algn="l" pos="2286000"/>
                <a:tab algn="l" pos="4114800"/>
                <a:tab algn="l" pos="583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y does Java distinguish integers vs. real number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Integer or real number?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ich category is more appropriat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redit: Kate Deibe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914400" y="1981080"/>
          <a:ext cx="6934320" cy="1764000"/>
        </p:xfrm>
        <a:graphic>
          <a:graphicData uri="http://schemas.openxmlformats.org/drawingml/2006/table">
            <a:tbl>
              <a:tblPr/>
              <a:tblGrid>
                <a:gridCol w="3467160"/>
                <a:gridCol w="3467160"/>
              </a:tblGrid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ger 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l number 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ouble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17" name="Group 15"/>
          <p:cNvGrpSpPr/>
          <p:nvPr/>
        </p:nvGrpSpPr>
        <p:grpSpPr>
          <a:xfrm>
            <a:off x="0" y="4114800"/>
            <a:ext cx="9144000" cy="1763640"/>
            <a:chOff x="0" y="4114800"/>
            <a:chExt cx="9144000" cy="1763640"/>
          </a:xfrm>
        </p:grpSpPr>
        <p:sp>
          <p:nvSpPr>
            <p:cNvPr id="118" name="Text Box 16"/>
            <p:cNvSpPr/>
            <p:nvPr/>
          </p:nvSpPr>
          <p:spPr>
            <a:xfrm>
              <a:off x="0" y="4114800"/>
              <a:ext cx="4343400" cy="17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04640" indent="-169560">
                <a:lnSpc>
                  <a:spcPct val="9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Verdana"/>
                </a:rPr>
                <a:t>1. Temperature in degrees Celsius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 lvl="1" marL="404640" indent="-169560">
                <a:lnSpc>
                  <a:spcPct val="9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Verdana"/>
                </a:rPr>
                <a:t>2. The population of lemmings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 lvl="1" marL="404640" indent="-169560">
                <a:lnSpc>
                  <a:spcPct val="9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Verdana"/>
                </a:rPr>
                <a:t>3. Your grade point average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 lvl="1" marL="404640" indent="-169560">
                <a:lnSpc>
                  <a:spcPct val="9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Verdana"/>
                </a:rPr>
                <a:t>4. A person's age in years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 lvl="1" marL="404640" indent="-169560">
                <a:lnSpc>
                  <a:spcPct val="9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Verdana"/>
                </a:rPr>
                <a:t>5. A person's weight in pounds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 lvl="1" marL="404640" indent="-169560">
                <a:lnSpc>
                  <a:spcPct val="9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Verdana"/>
                </a:rPr>
                <a:t>6. A person's height in meters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" name="Text Box 17"/>
            <p:cNvSpPr/>
            <p:nvPr/>
          </p:nvSpPr>
          <p:spPr>
            <a:xfrm>
              <a:off x="3962520" y="4114800"/>
              <a:ext cx="5181480" cy="17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04640" indent="-169560">
                <a:lnSpc>
                  <a:spcPct val="9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1700" spc="-1" strike="noStrike">
                  <a:solidFill>
                    <a:srgbClr val="000000"/>
                  </a:solidFill>
                  <a:latin typeface="Verdana"/>
                </a:rPr>
                <a:t>7. Number of miles traveled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 lvl="1" marL="404640" indent="-169560">
                <a:lnSpc>
                  <a:spcPct val="9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1700" spc="-1" strike="noStrike">
                  <a:solidFill>
                    <a:srgbClr val="000000"/>
                  </a:solidFill>
                  <a:latin typeface="Verdana"/>
                </a:rPr>
                <a:t>8. Number of dry days in the past month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 lvl="1" marL="404640" indent="-169560">
                <a:lnSpc>
                  <a:spcPct val="9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1700" spc="-1" strike="noStrike">
                  <a:solidFill>
                    <a:srgbClr val="000000"/>
                  </a:solidFill>
                  <a:latin typeface="Verdana"/>
                </a:rPr>
                <a:t>9. Your locker number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 lvl="1" marL="404640" indent="-169560">
                <a:lnSpc>
                  <a:spcPct val="9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Verdana"/>
                </a:rPr>
                <a:t>10. Number of seconds left in a game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 lvl="1" marL="404640" indent="-169560">
                <a:lnSpc>
                  <a:spcPct val="9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Verdana"/>
                </a:rPr>
                <a:t>11. The sum of a group of integers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 lvl="1" marL="404640" indent="-169560">
                <a:lnSpc>
                  <a:spcPct val="9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Verdana"/>
                </a:rPr>
                <a:t>12. The average of a group of integers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Expression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13762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expressi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 value or operation that computes a valu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2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13762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Verdana"/>
              <a:buChar char="•"/>
              <a:tabLst>
                <a:tab algn="l" pos="13762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 + 4 * 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3762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7 + 2) * 6 /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3762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3762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Hello, world!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2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13762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13762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simplest expression is a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literal valu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13762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complex expression can use operators and parenthes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rithmetic operator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operato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Combines multiple values or expression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201"/>
              </a:spcBef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di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btraction (or negatio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ultipli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vis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ulus (a.k.a. remainde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s a program runs, its expressions are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evaluate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 + 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evaluates t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3 * 4);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print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ow would we print the tex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3 * 4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Integer division with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/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en we divide integers, the quotient is also an intege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4 / 4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is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no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.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   4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    5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 ) 14           10 ) 45               27 ) 142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4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13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                 5                      7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           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re examples: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2 / 5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84 / 1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56 / 10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viding by 0 causes an error when your program ru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3T19:18:17Z</dcterms:created>
  <dc:creator>Marty Stepp</dc:creator>
  <dc:description/>
  <dc:language>en-US</dc:language>
  <cp:lastModifiedBy>Benson Limketkai</cp:lastModifiedBy>
  <cp:lastPrinted>2011-09-30T21:02:58Z</cp:lastPrinted>
  <dcterms:modified xsi:type="dcterms:W3CDTF">2014-04-01T13:33:56Z</dcterms:modified>
  <cp:revision>1285</cp:revision>
  <dc:subject/>
  <dc:title>Building Java Programs</dc:title>
</cp:coreProperties>
</file>