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CF7-4A9F-4141-90BE-A1AD1984CB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D47-33C0-4983-981B-956E0EC517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57D9-76A0-47E3-A674-ADE322869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B4E-4732-4E48-AEEF-6E55D9B8FD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B32D-C267-4F79-B334-521CE38455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ode does not mean wors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5DE2-7910-49AA-B861-69794C902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292-DA3F-4A6C-B606-DFD035DFAA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B72-8AE6-4526-9BB0-F186708D9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9B1-25B0-4DB2-83A2-4E09AC13DF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484-13CE-4095-8880-BD24DF581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4450-B02C-451A-861A-BD9243ED6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DE71-39DD-42A1-BF22-0031C5E7AE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994C-708F-4222-97F8-2261E49F6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55C3-FA1C-4CAB-BACF-463E547EC4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CA1D-7386-42C4-85FD-02D738045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C6DE-2A7C-415C-B768-6A04AF096A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A65E-DE45-4668-80DC-11F4DAA2A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6C28-633C-46B0-BD9D-E5A637D30D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D865-C873-4A7D-8D2F-E85C7A4F0B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1684-6B19-4A57-A5A6-87C53E11E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EE7F-F0E7-466C-AB81-E52BA78F2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F654-46B7-4926-8010-584843F60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28C-D144-4BBB-9F57-C584DE3CB33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70AA-02D3-4773-83A1-F92EC0FFCBC9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2: Static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 - 1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blems with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ack of struct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Many steps; tough to fol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nsider making a double batch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Set the timer for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Place the first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Set the timer for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Place the second batch of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ingredients for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ructured 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uctured 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Split into coherent tas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ake the bat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Bake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et the timer for 10 minu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Decorate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Mix the ingredients for the fro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Spread frosting and sprinkles onto the cook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moving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ell-structured algorithm can describe repeated tasks with less redundanc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Make the ba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a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first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 for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2b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Verdana"/>
              </a:rPr>
              <a:t> Bake the cookies (second batch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Repeat Step 2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 Decorate the cook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 program with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43" name="Text Box 5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Using static method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sign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think about)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algorith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ok at the structure, and which commands are repe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de what are the important overall 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write dow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range statements into groups and give each group a n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run) the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'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ethod executes the other methods to perform the overall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sign of an algorith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with static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oxtrot_java.jpeg"/>
          <p:cNvPicPr/>
          <p:nvPr/>
        </p:nvPicPr>
        <p:blipFill>
          <a:blip r:embed="rId1"/>
          <a:stretch/>
        </p:blipFill>
        <p:spPr>
          <a:xfrm>
            <a:off x="81000" y="1333440"/>
            <a:ext cx="8982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Final cookie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 for 10 minut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7"/>
          <p:cNvSpPr/>
          <p:nvPr/>
        </p:nvSpPr>
        <p:spPr>
          <a:xfrm>
            <a:off x="457200" y="5257800"/>
            <a:ext cx="388620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76440"/>
            <a:ext cx="81532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kes code easier to read by capturing the structure of the pro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good summary of th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nger code doesn’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sarily mean wors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mmary: Why method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291636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148360" y="439884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335640" y="417024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181480" y="33735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495680" y="2971800"/>
            <a:ext cx="0" cy="360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181480" y="3591000"/>
            <a:ext cx="114300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335640" y="5573880"/>
            <a:ext cx="1143000" cy="18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990720" y="3473280"/>
            <a:ext cx="3200400" cy="717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990720" y="3267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990720" y="42242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181480" y="316692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148360" y="5811840"/>
            <a:ext cx="3200400" cy="48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56492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iminate redunda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mmary: Why method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2034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..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990720" y="252576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90720" y="3440160"/>
            <a:ext cx="3200400" cy="1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990720" y="365760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148360" y="4268880"/>
            <a:ext cx="3200400" cy="869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6335640" y="40384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181480" y="252576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5181480" y="2940120"/>
            <a:ext cx="1143000" cy="18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4495680" y="202248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990720" y="4789440"/>
            <a:ext cx="3200400" cy="87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5181480" y="2733840"/>
            <a:ext cx="3200400" cy="172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90720" y="457200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181480" y="3157560"/>
            <a:ext cx="3200400" cy="173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181480" y="3352680"/>
            <a:ext cx="1143000" cy="1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Methods calling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6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94" name="Text Box 4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7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98" name="Text Box 8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9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2" name="Text Box 12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en NOT to us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should not create static methods f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blank lines. (Put blan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ated or weakly related state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sider splitting them into two smaller methods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Drawing complex figures with static method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Ch. 1 Case Study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Figur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o print these figures using meth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structure,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14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11" name="Text Box 6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14" name="Text Box 9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17" name="Text Box 12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638280" y="1860480"/>
            <a:ext cx="1218960" cy="4267080"/>
            <a:chOff x="638280" y="1860480"/>
            <a:chExt cx="1218960" cy="4267080"/>
          </a:xfrm>
        </p:grpSpPr>
        <p:sp>
          <p:nvSpPr>
            <p:cNvPr id="221" name="Rectangle 3"/>
            <p:cNvSpPr/>
            <p:nvPr/>
          </p:nvSpPr>
          <p:spPr>
            <a:xfrm>
              <a:off x="638280" y="54417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4"/>
            <p:cNvSpPr/>
            <p:nvPr/>
          </p:nvSpPr>
          <p:spPr>
            <a:xfrm>
              <a:off x="638280" y="3993840"/>
              <a:ext cx="1218960" cy="114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638280" y="2927160"/>
              <a:ext cx="1218960" cy="68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638280" y="1860480"/>
              <a:ext cx="121896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struct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2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velopment strategy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717480" y="1727280"/>
            <a:ext cx="1066680" cy="4409640"/>
            <a:chOff x="717480" y="1727280"/>
            <a:chExt cx="1066680" cy="4409640"/>
          </a:xfrm>
        </p:grpSpPr>
        <p:sp>
          <p:nvSpPr>
            <p:cNvPr id="236" name="Rectangle 3"/>
            <p:cNvSpPr/>
            <p:nvPr/>
          </p:nvSpPr>
          <p:spPr>
            <a:xfrm>
              <a:off x="717480" y="5984640"/>
              <a:ext cx="1066680" cy="15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4"/>
            <p:cNvSpPr/>
            <p:nvPr/>
          </p:nvSpPr>
          <p:spPr>
            <a:xfrm>
              <a:off x="717480" y="3441600"/>
              <a:ext cx="1066680" cy="15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717480" y="469872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717480" y="298440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717480" y="2336760"/>
              <a:ext cx="1066680" cy="456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717480" y="3860640"/>
              <a:ext cx="1066680" cy="609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717480" y="5384520"/>
              <a:ext cx="1066680" cy="59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717480" y="1727280"/>
              <a:ext cx="1066680" cy="609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redundanc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 version 3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word about sty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ucture your code proper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te redundant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spaces judiciously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istent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ent proper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llow the naming conven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comments to describe code behav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styl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ogrammers build on top of other’s code all the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524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You shouldn’t waste time deciphering what a method do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You should spend time on thinking or coding.  You should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be wasting time looking for that missing closing brac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o code with style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men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ote written in source code by the programmer to describe or clarify the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s are not executed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, on one line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,</a:t>
            </a:r>
            <a:br>
              <a:rPr sz="2000"/>
            </a:b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ent text; may span multiple lin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Where to place com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t the top of each file (a "comment header") to describe th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Fraggle Rock.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t the start of every method (seen later) to describe what the method do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Print the chor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Compute the Mercator map proj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mments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Fraggle Rock.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FraggleRock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nce your cares awa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Worry’s for another da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Let the music play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wn at Fraggle Rock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Why comments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lpful for 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lps other programmers understand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“other” programmer could be the future yo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ugar_cookies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Algorithm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list of steps for solving a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 algorithm: "Bake sugar cookie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Set the timer for 10 minu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9:48:47Z</dcterms:created>
  <dc:creator>Marty Stepp</dc:creator>
  <dc:description/>
  <dc:language>en-US</dc:language>
  <cp:lastModifiedBy>Benson Limketkai</cp:lastModifiedBy>
  <cp:lastPrinted>2011-09-29T22:35:49Z</cp:lastPrinted>
  <dcterms:modified xsi:type="dcterms:W3CDTF">2014-04-01T04:31:35Z</dcterms:modified>
  <cp:revision>1306</cp:revision>
  <dc:subject/>
  <dc:title>Building Java Programs</dc:title>
</cp:coreProperties>
</file>