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593880" y="-3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45640" y="3990960"/>
            <a:ext cx="465156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79815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593880" y="7981560"/>
            <a:ext cx="274932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525523E-4951-4370-A1AB-7F24E4A03503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90AF8AD-9FA7-441F-B638-007A2811FF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594240" y="7981920"/>
            <a:ext cx="2749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4579BA6-7E41-4F29-ADBD-220B3C30F0C2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057320" y="630360"/>
            <a:ext cx="422892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46000" y="3990960"/>
            <a:ext cx="464976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7955-3B80-4A95-BA20-16A2E484E6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1F1C-CCD5-4D2A-BF8D-E4603E5FC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C0C8-ECB2-4915-BB25-0D0ED7F6AB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0E81-65E5-401C-8DB7-6C54AFCF5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9A7D-B5D0-4A6F-A6FF-63C5654974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AB5-43FE-4EA1-A820-14E45A9C04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DF3F-7BCF-4047-A8D1-AB337A895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8AB6-462B-4B1E-B8A0-94B7A0312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C798-B8E5-44F1-B86F-D40257A32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8838-0CE8-4F23-9CBA-CB3067DEB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959B-E63D-4CC4-B992-4201EF9CD3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F348-F240-44D0-845F-D0949F414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813-2294-4242-9B62-8486B88CB73B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0" name="Freeform 13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53" name="Freeform 16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54" name="Freeform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Freeform 17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57" name="Freeform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66E-9BA5-413B-AC47-04B2B607E0E2}" type="slidenum">
              <a:rPr b="0" lang="en-US" sz="12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s.washington.edu/142" TargetMode="External"/><Relationship Id="rId2" Type="http://schemas.openxmlformats.org/officeDocument/2006/relationships/hyperlink" Target="http://practiceit.cs.washington.edu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Welcome to CSE 142!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A27-859E-4378-97BD-BB1BFD7C223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ps for Succe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it website often: </a:t>
            </a:r>
            <a:r>
              <a:rPr b="0" lang="en-US" sz="22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http://cs.washington.edu/14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syllabus carefu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lots of problems on </a:t>
            </a:r>
            <a:r>
              <a:rPr b="0" lang="en-US" sz="2200" spc="-1" strike="noStrike" u="sng">
                <a:solidFill>
                  <a:srgbClr val="ff8119"/>
                </a:solidFill>
                <a:uFillTx/>
                <a:latin typeface="Verdana"/>
                <a:hlinkClick r:id="rId2"/>
              </a:rPr>
              <a:t>http://practiceit.cs.washington.edu/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're stuck, review lecture and book examp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: assignments must b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our own wor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4038480"/>
            <a:ext cx="80773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ep up with the assig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se material is cumul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a former student: “Procrastination will eventually come around to bite you in the ass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don’t understand something, ask questions (especially “WHY?”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’s no such thing as a dumb questi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s are neither magical nor mysterious.  Everything can be expla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ips for Success (cont’d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-1: Introduction; Basic Java 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1.1 - 1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6463-0A4D-4840-ACED-819EC4887EA6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Your first Java program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le must be name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does this code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print to the user) when you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execute) i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unning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 progr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Writ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sourc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set of instructions in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i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ranslate a program from one language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Java compiler converts your code into a format named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yte c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at runs on many computer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execute)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messages printed to the user by a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458640" y="4954680"/>
            <a:ext cx="1646280" cy="1646280"/>
            <a:chOff x="458640" y="4954680"/>
            <a:chExt cx="1646280" cy="1646280"/>
          </a:xfrm>
        </p:grpSpPr>
        <p:sp>
          <p:nvSpPr>
            <p:cNvPr id="136" name="Rectangle 13"/>
            <p:cNvSpPr/>
            <p:nvPr/>
          </p:nvSpPr>
          <p:spPr>
            <a:xfrm>
              <a:off x="458640" y="495468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482760" y="500220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48784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9"/>
          <p:cNvGrpSpPr/>
          <p:nvPr/>
        </p:nvGrpSpPr>
        <p:grpSpPr>
          <a:xfrm>
            <a:off x="2104560" y="4954680"/>
            <a:ext cx="3151800" cy="1646280"/>
            <a:chOff x="2104560" y="4954680"/>
            <a:chExt cx="3151800" cy="1646280"/>
          </a:xfrm>
        </p:grpSpPr>
        <p:pic>
          <p:nvPicPr>
            <p:cNvPr id="14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87736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2318040" y="534384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6"/>
            <p:cNvGrpSpPr/>
            <p:nvPr/>
          </p:nvGrpSpPr>
          <p:grpSpPr>
            <a:xfrm>
              <a:off x="3610080" y="4954680"/>
              <a:ext cx="1646280" cy="1646280"/>
              <a:chOff x="3610080" y="4954680"/>
              <a:chExt cx="1646280" cy="1646280"/>
            </a:xfrm>
          </p:grpSpPr>
          <p:pic>
            <p:nvPicPr>
              <p:cNvPr id="14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49432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Rectangle 18"/>
              <p:cNvSpPr/>
              <p:nvPr/>
            </p:nvSpPr>
            <p:spPr>
              <a:xfrm>
                <a:off x="3610080" y="495468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Text Box 19"/>
              <p:cNvSpPr/>
              <p:nvPr/>
            </p:nvSpPr>
            <p:spPr>
              <a:xfrm>
                <a:off x="3787920" y="5002200"/>
                <a:ext cx="1288800" cy="97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cxnSp>
          <p:nvCxnSpPr>
            <p:cNvPr id="146" name="Straight Arrow Connector 37"/>
            <p:cNvCxnSpPr/>
            <p:nvPr/>
          </p:nvCxnSpPr>
          <p:spPr>
            <a:xfrm>
              <a:off x="2104560" y="577692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47" name="Group 17"/>
          <p:cNvGrpSpPr/>
          <p:nvPr/>
        </p:nvGrpSpPr>
        <p:grpSpPr>
          <a:xfrm>
            <a:off x="5257800" y="4946760"/>
            <a:ext cx="3886200" cy="1234440"/>
            <a:chOff x="5257800" y="4946760"/>
            <a:chExt cx="3886200" cy="1234440"/>
          </a:xfrm>
        </p:grpSpPr>
        <p:pic>
          <p:nvPicPr>
            <p:cNvPr id="14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877000"/>
              <a:ext cx="257040" cy="2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5682240" y="534348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7452000" y="494676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343480"/>
              <a:ext cx="2409840" cy="83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2" name="Straight Arrow Connector 39"/>
            <p:cNvCxnSpPr/>
            <p:nvPr/>
          </p:nvCxnSpPr>
          <p:spPr>
            <a:xfrm>
              <a:off x="5257800" y="5776920"/>
              <a:ext cx="1505520" cy="360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igger Java program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t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nsol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ext box into which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program's output is prin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ucture of a Java progra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3068640" y="1117440"/>
            <a:ext cx="3529800" cy="398880"/>
            <a:chOff x="3068640" y="1117440"/>
            <a:chExt cx="3529800" cy="398880"/>
          </a:xfrm>
        </p:grpSpPr>
        <p:sp>
          <p:nvSpPr>
            <p:cNvPr id="159" name="Text Box 6"/>
            <p:cNvSpPr/>
            <p:nvPr/>
          </p:nvSpPr>
          <p:spPr>
            <a:xfrm>
              <a:off x="3834720" y="11174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3068640" y="12189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8"/>
          <p:cNvGrpSpPr/>
          <p:nvPr/>
        </p:nvGrpSpPr>
        <p:grpSpPr>
          <a:xfrm>
            <a:off x="2743200" y="3403440"/>
            <a:ext cx="5852520" cy="779760"/>
            <a:chOff x="2743200" y="3403440"/>
            <a:chExt cx="5852520" cy="779760"/>
          </a:xfrm>
        </p:grpSpPr>
        <p:sp>
          <p:nvSpPr>
            <p:cNvPr id="162" name="Text Box 9"/>
            <p:cNvSpPr/>
            <p:nvPr/>
          </p:nvSpPr>
          <p:spPr>
            <a:xfrm>
              <a:off x="3136320" y="378432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H="1" flipV="1">
              <a:off x="2743200" y="34034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" name="Group 11"/>
          <p:cNvGrpSpPr/>
          <p:nvPr/>
        </p:nvGrpSpPr>
        <p:grpSpPr>
          <a:xfrm>
            <a:off x="3468600" y="2108160"/>
            <a:ext cx="5783040" cy="1084680"/>
            <a:chOff x="3468600" y="2108160"/>
            <a:chExt cx="5783040" cy="1084680"/>
          </a:xfrm>
        </p:grpSpPr>
        <p:sp>
          <p:nvSpPr>
            <p:cNvPr id="165" name="Text Box 12"/>
            <p:cNvSpPr/>
            <p:nvPr/>
          </p:nvSpPr>
          <p:spPr>
            <a:xfrm>
              <a:off x="3468600" y="24890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 flipH="1" flipV="1">
              <a:off x="4190760" y="21081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ames and identifi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You must give your program a na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3399"/>
                </a:solidFill>
                <a:latin typeface="Courier New"/>
              </a:rPr>
              <a:t>HelloWorld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ing convention: capitalize each word (e.g.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r program's file must match exactl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World.jav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s capitalization (Java is "case-sensitiv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ntifie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 given to an item in your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st start with a letter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sequent characters can be any of those or a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legal:</a:t>
            </a:r>
            <a:r>
              <a:rPr b="0" lang="en-GB" sz="1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illegal:</a:t>
            </a: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Keywor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keywor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n identifier that you cannot use because it already has a reserved meaning in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9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e: Because Java is case-sensitive, you could technically us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s identifiers, but this is very confusing and thus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rongly discoura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uter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ienc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gramming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e lonely nights in front of the computer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RITHMIC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·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o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·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ith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tep-by-step procedure for solving a problem or accomplishing some end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specially by a compu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at is computer scienc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set of legal structures and commands that can be used in a particular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“spelling” and “grammar” of a programming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ry basic Java statement ends with a semicolon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a class or method occur betwee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yntax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piler error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): A problem in the structure of a program that causes the compiler to fai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ssing semicol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many or too few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 and file names do not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yntax err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iler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iler shows the line number where it found the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rror messages can be tough to understan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0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can’t the computer just say “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ou misspelled ‘public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rst lesson in this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are stupi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can’t read min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don’t make mistak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computer is not doing what you want, it’s becau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de a mistak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re on syntax err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ava is case-sensi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ot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Public class Hell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    System.out.println("Hello, world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1143000" y="4572000"/>
            <a:ext cx="7772040" cy="1740600"/>
            <a:chOff x="1143000" y="4572000"/>
            <a:chExt cx="7772040" cy="1740600"/>
          </a:xfrm>
        </p:grpSpPr>
        <p:sp>
          <p:nvSpPr>
            <p:cNvPr id="182" name="Text Box 5"/>
            <p:cNvSpPr/>
            <p:nvPr/>
          </p:nvSpPr>
          <p:spPr>
            <a:xfrm>
              <a:off x="1143000" y="4998960"/>
              <a:ext cx="77720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ello.java:1: class, interface, or enum expecte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class Hello {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^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erro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6773400" y="4572000"/>
              <a:ext cx="21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r output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and escape sequen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Verdana"/>
              </a:rPr>
              <a:t>String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s and ends with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quotation mark charact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quotes do not appear in the outpu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br>
              <a:rPr sz="20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tric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span multiple lines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18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not contain a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aracter.</a:t>
            </a:r>
            <a:br>
              <a:rPr sz="2000"/>
            </a:br>
            <a:br>
              <a:rPr sz="700"/>
            </a:br>
            <a:r>
              <a:rPr b="0" lang="en-GB" sz="18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Courier New"/>
              </a:rPr>
              <a:t>This begs the question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Escape sequences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scape sequenc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pecial sequence of characters used to represent certain special characters in a str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b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line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otation mark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slash charac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is the output of the following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is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utput of each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 to produce the line of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quote is fr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rish poet Oscar Wil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sic makes one feel so romant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at least it always gets on one's nerves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ch is the same thing nowadays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will generate this outpu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of computer sci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tificial Intellig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o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ural Language Proces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 Inte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all relate to programm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urse is “Introduction to Programming I” after 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is quote is from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rish poet Oscar Wilde: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"Music makes one feel so romantic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- at least it always gets on one's nerves -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hich is the same thing nowadays.\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tatements to generate the 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What is programming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et of instruc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o be carried out by a compu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 execu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The act of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arrying out the instruction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tained in a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systematic set of rules used to describe computations in a format that is editable by huma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will be studying a programming language called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computer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ogramming is like Legos…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116" name="Picture 1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lego1"/>
          <p:cNvPicPr/>
          <p:nvPr/>
        </p:nvPicPr>
        <p:blipFill>
          <a:blip r:embed="rId1"/>
          <a:stretch/>
        </p:blipFill>
        <p:spPr>
          <a:xfrm>
            <a:off x="228600" y="708120"/>
            <a:ext cx="87012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ego_ascending"/>
          <p:cNvPicPr/>
          <p:nvPr/>
        </p:nvPicPr>
        <p:blipFill>
          <a:blip r:embed="rId1"/>
          <a:stretch/>
        </p:blipFill>
        <p:spPr>
          <a:xfrm>
            <a:off x="1523880" y="493560"/>
            <a:ext cx="563904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hould you take this cours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hate computer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on’t pay attention to detail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 is fairly detail-ori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refuse to think logicall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want to take an easy clas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 for those who find difficulty in logical thinking and who don’t pay attention to detai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hould you take this course?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ably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want free gourmet meals and to make lots of money by working for Google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dy Crush is awesome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I wrote WhatsApp, I would have made how many billion dollars??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have to take this clas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the only reason?  Are you pursuing the right ma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like to solve problem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 and robots are going to take over the world.  I want to befriend them so that my life will be spared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3:46:31Z</dcterms:created>
  <dc:creator>Marty Stepp</dc:creator>
  <dc:description/>
  <dc:language>en-US</dc:language>
  <cp:lastModifiedBy>Brett Wortzman</cp:lastModifiedBy>
  <cp:lastPrinted>2014-03-13T03:16:28Z</cp:lastPrinted>
  <dcterms:modified xsi:type="dcterms:W3CDTF">2018-03-28T22:42:57Z</dcterms:modified>
  <cp:revision>1339</cp:revision>
  <dc:subject/>
  <dc:title>Building Java Programs</dc:title>
</cp:coreProperties>
</file>