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E1A7-B84A-4053-85A0-AF636EC02C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770D-0EEF-4C23-8280-7EBDBB7181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93C9-B4DA-4C26-836C-E9AA3C2D0F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EAF8-71A8-4984-A408-000932A550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AC05-AF97-4FED-910B-27C66F2C23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6CF5-99AA-4354-B922-BE99B56D6D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1BB2-6AD4-4D5A-AA28-9FF529CEB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9B50-5E70-422E-963B-9BDDC927EB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EA6E-89AE-475F-A75A-4F06847619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77BC-1251-467F-BB57-5881B63421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6BB6-0ECF-4A08-8522-601FE95714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A13B-2B23-450E-9B7B-23BFB0D97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3115-7BFF-4132-8A43-572986474C9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2867-9516-48EF-9F46-2C358A3351AD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8-3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8.6 - 8.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13-18, 20-2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5, 9, 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shadow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instance method parameter can have the same name as one of the object's field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hadow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parameters with same na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that refer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use the parameter, not the fie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voiding shadowing w/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id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seen,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el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seen,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construc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legal to have more than one constructor in a cla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structors must accept different parame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s an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onstructor can call another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the (x, y) constru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3048120" y="3505320"/>
            <a:ext cx="1066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657600" y="3505320"/>
            <a:ext cx="1523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EC9E-447B-45BB-AFC6-06CA351551C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heck: #18, 20-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ises: #9,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inting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default, Java doesn't know how to print objec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10, 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: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: Point@9e8c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print a better string (but this is cumbersome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: (" + p.x + ", " + p.y + ")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like to be able to print the object itself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: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: (10, 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ls Java how to convert an object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ed when an object is printed/concaten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you prefer, you can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licit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ry class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ven if it isn't in your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efault is the class's name and a hex (base-16) numb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de that returns a suitable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 name, return, parameters must match exact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client program uses the Point clas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1: " + p1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2: " + p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/print each point's distance from the orig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1's distance from origin: " + p1.distanceFromOrigin(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2's distance from origin: " + p1.distanceFromOrigin(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move p1 and p2 and print them aga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1.translate(11, 6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.translate(1, 7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1: " + p1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2: " + p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/print distance from p1 to p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stance from p1 to p2: " + p1.distance(p2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7F04-F035-465C-B6FF-1562D64787B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he keyword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reference to the implicit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implicit parameter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bject on which a method is call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for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fer to a fiel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metho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constructor from another constru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names and sco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ually it is illegal to have two variables in the same scope with the same n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rameter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distinct from the object's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0-03-05T22:33:16Z</dcterms:modified>
  <cp:revision>1423</cp:revision>
  <dc:subject/>
  <dc:title>Building Java Programs</dc:title>
</cp:coreProperties>
</file>