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7CE4-CE95-4F26-B492-7893969858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4458-0568-432F-A2FF-6EC0FC5DB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C906-9215-4B6E-B5DF-654E3AB18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02A0-EE3A-4D77-ADCB-DCD4DFD0F0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0BD9-70BF-4ACA-B3BC-9A224E4D4C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03B9-064F-44EB-94A0-45D2F79B26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33D7-5649-465E-AC3F-A6772EC17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EBD7-673D-4B15-A5EA-3C1A72989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907D-C09C-48DE-8C82-B5F21A0CF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CAD7-AC43-415B-B5B9-B5C5216A99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8EED-BC66-4724-A88C-3AFB4653FC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712A-E18A-47AD-9C8F-3F0BF71D3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0E87-93B5-47E5-9B2D-0A66EFE977E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E86-4425-49AA-AA39-F949F2970A0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2: Constructors and Encaps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4 - 8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0-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F640-095B-49B4-A317-DDB651307FFF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5 - 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3-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Hiding implementation details of 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 from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vid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s external view (behavior) from internal view (st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tects the integrity of an object's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137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139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vate 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field can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de outside the class can access or chang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ring 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 code sees an error when accessing private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ystem.out.println("p1 is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private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ovide methods to get and/or set a field's valu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code will look more like th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int class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4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 is (5, 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4, 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6, 7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nefits of 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bstraction between an object and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cts an object from unwanted access by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ank app forbids a client to chang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hange the class implement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be rewritten to use polar coordin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adiu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gle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but with the same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onstrain objects' state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aria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with non-negative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5438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853-2797-4AE1-8B15-BBEA94B3A25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Object initialization: constructor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0-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ly it takes 3 lines to 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itialize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rather pass the fields' initial values as parame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able to this with most types of objects i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mplicitly returns the new object being cr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racing a constructor ca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when the following call is ma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787480" y="2824200"/>
          <a:ext cx="2945160" cy="54756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1" name="Group 34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122" name="Rectangle 35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constructor bu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identally writing a return type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not a constructor at all, but a metho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oring into local variables instead of fields ("shadowing"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eclares local variables with the same name as the fields, rather than storing values into the fields.  The fields remain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ass can have multiple constru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ne must accept a unique set of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constructor for Point objects that accepts no parameters and initializes the point to the origin, (0, 0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3-02T01:20:00Z</dcterms:modified>
  <cp:revision>1415</cp:revision>
  <dc:subject/>
  <dc:title>Building Java Programs</dc:title>
</cp:coreProperties>
</file>