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62DE-DF2F-41D4-9E89-44D772F30D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D167-1964-4884-AFD2-25FD42BDD8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09BE-9B31-4B71-9FB7-3EFF65BAB0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C733-67F9-4D93-883E-3DF36DD49F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DE94-B97E-4C37-A814-5EEE4D8EC7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8DBA-58A6-4F47-9B2E-3A267B1AC2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B978-FE7F-4130-ABCE-83FBA61DA8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54B2-60C5-44B9-B1D1-FCC997D646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E96F-2EFD-49F5-8C06-5F7F6813BC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E7E3-DA3C-42CB-AB24-A3605BD3C5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1990-75D5-472B-87B2-E339DF08C3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7B00-4837-4CB4-865E-C65C2002A3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97C4-7A97-4817-98B4-978BCDF7A29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473B-6A39-4E70-96D9-3D1741A94506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8-1: Classes and Obje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8.1-8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Ch. 8 #1-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Ch. 8 #1-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ent and Object Clas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ent progr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rogram that uses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HW6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 client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entity that combines state and behavi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data fie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Object Concep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ocedural programming: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s that perform their behavior as a series of steps to be carried ou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Programs that perform their behavior as interactions between obje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s practice to understand the object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el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variable inside an object that is part of its sta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object ha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ts own cop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each fiel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ents can access/modify an object's fiel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1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ss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&lt;variabl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&lt;field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&lt;variabl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&lt;field&gt;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&lt;valu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ehavi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s can tie related data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behavi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stance method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ethod inside an object that operates on that 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type&gt; &lt;name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parameter(s)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statement(s)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to use metho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variabl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method&gt;(&lt;parameter(s)&gt;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1, 6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plicit Paramet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instance method call happens on a particular obje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translate(11, 6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de for an instance method has an implied knowledge of what object it is operating 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mplicit parame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The object on which an instance method is call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be referred to inside the object us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keywor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cess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An instance method that provides information about the state of an obje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gives clients "read-only" access to the object's fiel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ta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utat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An instance method that modifies the object’s internal st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+= dx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y += d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gives clients both read and write access to co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ing same group of related variables several times in a progr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1 = 3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1 = 5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2 = 12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2 = 4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noying and redund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clear and hard to keep track of vari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olution: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oup together related variables into a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creating your own data structure out of Java building blo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object nam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field(s)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to use this data structur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objec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variabl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objec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olution: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oup together related variables into a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creating your own data structure out of Java building blo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to use this data structur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wo Uses for Java Clas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A program entity that represents eith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/ module, 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 template for a new type of objec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lass is a template for crea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An entity that combines state and behavi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class: Progr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ecutable progr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ith 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in meth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run; statements execute procedur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we’ve been writing all quar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BMI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iveIntro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bmi1 = getBMI(consol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bmi2 = getBMI(consol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portResults(bmi1, bmi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class: Object Defini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luepri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new data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t executable, not a complete progr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d objects are a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a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pri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lueprint analog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123" name="Text Box 5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song = “</a:t>
              </a:r>
              <a:r>
                <a:rPr b="0" lang="en-US" sz="1000" spc="-1" strike="noStrike">
                  <a:solidFill>
                    <a:srgbClr val="003399"/>
                  </a:solidFill>
                  <a:latin typeface="Tahoma"/>
                </a:rPr>
                <a:t>Octopus’s Garden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song = “Lovely Rita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song = “For No O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27" name="Group 9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28" name="Line 10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Line 11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Line 12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1" name="Text Box 13"/>
            <p:cNvSpPr/>
            <p:nvPr/>
          </p:nvSpPr>
          <p:spPr>
            <a:xfrm>
              <a:off x="5699160" y="3625920"/>
              <a:ext cx="1006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creat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2" name="Picture 14" descr="blueprint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video-ipod"/>
          <p:cNvPicPr/>
          <p:nvPr/>
        </p:nvPicPr>
        <p:blipFill>
          <a:blip r:embed="rId2"/>
          <a:srcRect l="5775" t="5917" r="10780" b="3207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video-ipod"/>
          <p:cNvPicPr/>
          <p:nvPr/>
        </p:nvPicPr>
        <p:blipFill>
          <a:blip r:embed="rId3"/>
          <a:srcRect l="5775" t="5917" r="10780" b="3207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video-ipod"/>
          <p:cNvPicPr/>
          <p:nvPr/>
        </p:nvPicPr>
        <p:blipFill>
          <a:blip r:embed="rId4"/>
          <a:srcRect l="5775" t="5917" r="10780" b="3207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bstrac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distancing between ideas and detai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use objects without knowing how they wo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straction in an iPo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understand its external behavior (buttons, scree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don't understand its inner details, and you don't need 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3352320" y="4114800"/>
            <a:ext cx="5334480" cy="2090880"/>
            <a:chOff x="3352320" y="4114800"/>
            <a:chExt cx="5334480" cy="2090880"/>
          </a:xfrm>
        </p:grpSpPr>
        <p:pic>
          <p:nvPicPr>
            <p:cNvPr id="139" name="Picture 5" descr="boardb440"/>
            <p:cNvPicPr/>
            <p:nvPr/>
          </p:nvPicPr>
          <p:blipFill>
            <a:blip r:embed="rId1"/>
            <a:stretch/>
          </p:blipFill>
          <p:spPr>
            <a:xfrm>
              <a:off x="3505320" y="411480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" descr="r-4c_r-4b_improve-4"/>
            <p:cNvPicPr/>
            <p:nvPr/>
          </p:nvPicPr>
          <p:blipFill>
            <a:blip r:embed="rId2"/>
            <a:stretch/>
          </p:blipFill>
          <p:spPr>
            <a:xfrm>
              <a:off x="6019920" y="412452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41" name="Group 7"/>
            <p:cNvGrpSpPr/>
            <p:nvPr/>
          </p:nvGrpSpPr>
          <p:grpSpPr>
            <a:xfrm>
              <a:off x="3352320" y="4148280"/>
              <a:ext cx="5334480" cy="1905120"/>
              <a:chOff x="3352320" y="4148280"/>
              <a:chExt cx="5334480" cy="1905120"/>
            </a:xfrm>
          </p:grpSpPr>
          <p:sp>
            <p:nvSpPr>
              <p:cNvPr id="142" name="Line 8"/>
              <p:cNvSpPr/>
              <p:nvPr/>
            </p:nvSpPr>
            <p:spPr>
              <a:xfrm>
                <a:off x="3429000" y="414828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Line 9"/>
              <p:cNvSpPr/>
              <p:nvPr/>
            </p:nvSpPr>
            <p:spPr>
              <a:xfrm flipH="1">
                <a:off x="3352320" y="414828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144" name="Picture 10" descr="video-ipod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609480" y="3733920"/>
            <a:ext cx="1536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10-02-26T22:02:15Z</dcterms:modified>
  <cp:revision>1378</cp:revision>
  <dc:subject/>
  <dc:title>Building Java Programs</dc:title>
</cp:coreProperties>
</file>