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6B31-DD2B-4E77-B4EB-751C1CBC4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14A5-5945-42C6-86AE-5A8FECA72F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9DEF4-8E2D-4CF2-B2AA-BC40177A62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20972-B308-4A5B-B0A6-2295C48288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C2CA4-563C-4289-9F9D-1294902007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26B6-B976-46D0-B713-049A34E198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5E4B-FBB1-4E1A-876D-8962D02EE2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F42E-985F-4ADB-8C6D-B78835CEF1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AE5A2-AAF3-4423-8AEA-1192696AAA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6077E-8FC3-4F77-8A46-DF721E97E5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E730-50C6-4D6D-AC37-725D9C0D6B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1530B-4731-4619-ABB7-D64FB93191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FE16B-7B03-47CB-90F0-6F37821BB3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DD1D4-B73A-423C-B724-7C955D10DA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F0DD-55A1-4E36-A05A-C34763999BFD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536B-6CCF-43FE-8665-B4BA8BCEE1EA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7-3: Arrays as Parameters; File Outpu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7.1, 4.3, 3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s: Ch. 7 #19-2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Ch. 7 #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param/return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our previous Sections program to use static methods that use arrays as parameters and retur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9, 6, 7, 4, 3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20, 18, 20, 12, 9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100.0, 90.0, 100.0, 60.0, 45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6, 7, 5, 6, 4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18, 20, 15, 18, 12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90.0, 100.0, 75.0, 90.0, 60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5, 6, 5, 7, 6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15, 18, 15, 20, 18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75.0, 90.0, 75.0, 100.0, 90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param/return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This program reads a file representing which students atten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which discussion sections and produces output of the students'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section attendance and scor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Sections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attended = countAttended(line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points = computePoints(attended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[] grades = computeGrades(point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ults(attended, points, grade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oduces all output about a particular sec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results(int[] attended, int[] points, double[] grades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ections attended: " + Arrays.toString(attended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ections scores: " + Arrays.toString(points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ections grades: " + Arrays.toString(grades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param/return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ounts the sections attended by each student for a particular sec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int[] countAttended(String line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attended = new int[5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 c = line.charAt(i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 == '1'  or  c == '0'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c == '1'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student attended their se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ttended[i % 5]++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attended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omputes the points earned for each student for a particular sec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int[] computePoints(int[] attended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attended.length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ints[i] = Math.min(20, 3 * attended[i]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point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omputes the percentage for each student for a particular sec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double[] computeGrades(int[] points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grade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File outpu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ading: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6.4 - 6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put to fi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object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ackage that lets you print output to a destination such as a fi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y methods you have used 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uch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will work o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Stream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new PrintStream(new File("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le 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Stream output = new PrintStream(new File("out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.println("Hello, file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.println("This is a second line of output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tails about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PrintStrea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Stream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new PrintStream(new File("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le 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e given file does not exist, it is crea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e given file already exists, it is overwritt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utput you print appears in a file, not on the consol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will have to open the file with an editor to see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 not open the same file for both reading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and writing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at the same ti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 will overwrite your input file with an empty file (0 bytes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ourier New"/>
              </a:rPr>
              <a:t>System.out</a:t>
            </a:r>
            <a:r>
              <a:rPr b="0" lang="en-US" sz="4000" spc="-1" strike="noStrike">
                <a:solidFill>
                  <a:srgbClr val="464646"/>
                </a:solidFill>
                <a:latin typeface="Verdana"/>
              </a:rPr>
              <a:t> and </a:t>
            </a:r>
            <a:r>
              <a:rPr b="0" lang="en-US" sz="4000" spc="-1" strike="noStrike">
                <a:solidFill>
                  <a:srgbClr val="464646"/>
                </a:solidFill>
                <a:latin typeface="Courier New"/>
              </a:rPr>
              <a:t>PrintStream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onsole output object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i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Stream out1 = System.ou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Stream out2 = new PrintStream(new File("data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1.println("Hello, console!"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goes to conso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2.println("Hello, file!"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// goes to 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eference to it can be stored i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ri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ting to that variable causes console output to appe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p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s a parameter to a method expecting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ows methods that can send output to the console or a fi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PrintStrea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our previous Sections program to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output to the fi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tions_out.t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 #1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9, 6, 7, 4, 3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20, 18, 20, 12, 9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100.0, 90.0, 100.0, 60.0, 45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 #2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6, 7, 5, 6, 4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18, 20, 15, 18, 12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90.0, 100.0, 75.0, 90.0, 60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 #3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5, 6, 5, 7, 6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15, 18, 15, 20, 18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75.0, 90.0, 75.0, 100.0, 90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PrintStrea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Section attendance progra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This version uses a PrintStream for outpu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Sections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Stream out = new PrintStream(new File("sections_out.txt"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input.hasNextLine()) {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attended = countAttended(line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points = computePoints(attended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[] grades = computeGrades(point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ults(attended, points, grade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o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oduces all output about a particular sec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results(int[] attended, int[] points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[] grade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intStream o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.printl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"Sections attended: " + Arrays.toString(attended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.printl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"Sections scores: " + Arrays.toString(points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.printl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"Sections grades: " + Arrays.toString(grades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.printl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mpting for a file nam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can ask the user to tell us the file to rea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ile name might have spaces;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Line(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no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 for input file n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"Type a file name to use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filename = console.next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f the user types a file name that does not exis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ection attendance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reads a data file of section attendance and produces the following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9, 6, 7, 4, 3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20, 18, 20, 12, 9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100.0, 90.0, 100.0, 60.0, 45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6, 7, 5, 6, 4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18, 20, 15, 18, 12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90.0, 100.0, 75.0, 90.0, 60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5, 6, 5, 7, 6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15, 18, 15, 20, 18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75.0, 90.0, 75.0, 100.0, 90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udents earn 3 points for each section attended up to 20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xing file-not-found issu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s hav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 we can us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24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a file name to use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filename = console.next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 file = new File(file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!file.exists()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ry a second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ry again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filename = console.next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 = new File(file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file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pen the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file name to use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hourz.te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again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hours.t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ection input fi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input file contains section attendance dat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111010111111010011101101101100011100101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0111110101001101011101010101011101011010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01010110110110111101101010110101110110101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line represents a section (5 students, 9 week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means the student attended; 0 no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" name="Group 21"/>
          <p:cNvGrpSpPr/>
          <p:nvPr/>
        </p:nvGrpSpPr>
        <p:grpSpPr>
          <a:xfrm>
            <a:off x="152280" y="1936800"/>
            <a:ext cx="8763120" cy="2990880"/>
            <a:chOff x="152280" y="1936800"/>
            <a:chExt cx="8763120" cy="2990880"/>
          </a:xfrm>
        </p:grpSpPr>
        <p:sp>
          <p:nvSpPr>
            <p:cNvPr id="120" name="Text Box 6"/>
            <p:cNvSpPr/>
            <p:nvPr/>
          </p:nvSpPr>
          <p:spPr>
            <a:xfrm>
              <a:off x="152280" y="3232080"/>
              <a:ext cx="8763120" cy="169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28584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5024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Courier New"/>
                </a:rPr>
                <a:t>week1 week2 week3 week4 week5 week6 week7 week8 week9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743040" indent="-28584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5024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Courier New"/>
                </a:rPr>
                <a:t>11111 11010 11111 10100 11101 10110 11000 11100 1010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743040" indent="-28584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5024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743040" indent="-28584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5024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Courier New"/>
                </a:rPr>
                <a:t>week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743040" indent="-28584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5024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Courier New"/>
                </a:rPr>
                <a:t>student1 student2 student3 student4 student5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743040" indent="-28584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5024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Courier New"/>
                </a:rPr>
                <a:t>1        1        0        1        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1" name="Group 19"/>
            <p:cNvGrpSpPr/>
            <p:nvPr/>
          </p:nvGrpSpPr>
          <p:grpSpPr>
            <a:xfrm>
              <a:off x="885600" y="1936800"/>
              <a:ext cx="7419960" cy="1295280"/>
              <a:chOff x="885600" y="1936800"/>
              <a:chExt cx="7419960" cy="1295280"/>
            </a:xfrm>
          </p:grpSpPr>
          <p:sp>
            <p:nvSpPr>
              <p:cNvPr id="122" name="Line 7"/>
              <p:cNvSpPr/>
              <p:nvPr/>
            </p:nvSpPr>
            <p:spPr>
              <a:xfrm flipH="1">
                <a:off x="990000" y="2241720"/>
                <a:ext cx="228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Line 8"/>
              <p:cNvSpPr/>
              <p:nvPr/>
            </p:nvSpPr>
            <p:spPr>
              <a:xfrm>
                <a:off x="7467480" y="2241720"/>
                <a:ext cx="83808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Line 9"/>
              <p:cNvSpPr/>
              <p:nvPr/>
            </p:nvSpPr>
            <p:spPr>
              <a:xfrm>
                <a:off x="4343400" y="2241720"/>
                <a:ext cx="30456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10"/>
              <p:cNvSpPr/>
              <p:nvPr/>
            </p:nvSpPr>
            <p:spPr>
              <a:xfrm>
                <a:off x="885600" y="1936800"/>
                <a:ext cx="6991560" cy="331920"/>
              </a:xfrm>
              <a:prstGeom prst="rect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26" name="Group 11"/>
            <p:cNvGrpSpPr/>
            <p:nvPr/>
          </p:nvGrpSpPr>
          <p:grpSpPr>
            <a:xfrm>
              <a:off x="1369800" y="3460680"/>
              <a:ext cx="5106600" cy="905760"/>
              <a:chOff x="1369800" y="3460680"/>
              <a:chExt cx="5106600" cy="905760"/>
            </a:xfrm>
          </p:grpSpPr>
          <p:sp>
            <p:nvSpPr>
              <p:cNvPr id="127" name="Line 12"/>
              <p:cNvSpPr/>
              <p:nvPr/>
            </p:nvSpPr>
            <p:spPr>
              <a:xfrm flipH="1">
                <a:off x="1369800" y="3758040"/>
                <a:ext cx="151920" cy="60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Line 13"/>
              <p:cNvSpPr/>
              <p:nvPr/>
            </p:nvSpPr>
            <p:spPr>
              <a:xfrm>
                <a:off x="1980000" y="3764520"/>
                <a:ext cx="1753200" cy="60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Line 14"/>
              <p:cNvSpPr/>
              <p:nvPr/>
            </p:nvSpPr>
            <p:spPr>
              <a:xfrm>
                <a:off x="2285280" y="3758040"/>
                <a:ext cx="4191120" cy="60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15"/>
              <p:cNvSpPr/>
              <p:nvPr/>
            </p:nvSpPr>
            <p:spPr>
              <a:xfrm>
                <a:off x="1523160" y="3460680"/>
                <a:ext cx="761760" cy="317520"/>
              </a:xfrm>
              <a:prstGeom prst="rect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ata transforma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this problem we go from 0s and 1s to student grad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ransforming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a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ten each transformation is stored in its own arr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must map between the data and array index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posi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tore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 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ue we read at index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l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f input value 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tore it at array index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icit mapp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ou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M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t index 0, cou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O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t index 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ection attendance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This program reads a file representing which students attended whi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discussion sections and produces output of their attendance and scor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Sections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 = input.nextLine();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attended = new int[5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line.charAt(i) == '1') {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 == '1'  or  c == '0'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ttended[i % 5]++; 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student attended se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attended.length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ints[i] = Math.min(20, 3 * attended[i]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ections attended: " + Arrays.toString(attended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ections scores: " + Arrays.toString(points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ections grades: " + Arrays.toString(grades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3981600" y="1968480"/>
            <a:ext cx="3204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545000" y="3067200"/>
            <a:ext cx="15350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parameter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vg = averag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q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Average = " + avg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double averag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arra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array.length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array[i]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uble) sum / array.length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verage = 124.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1488960" y="3471840"/>
            <a:ext cx="19400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906800" y="4224240"/>
            <a:ext cx="9781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passed by referenc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rays are objec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passed as parameters, they are passed b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eferenc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hanges made in the method are also seen by the caller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224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iq = {126, 167, 95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All(iq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iq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doubleAl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.length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i] = a[i] * 2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252, 334, 19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562720" y="5181480"/>
          <a:ext cx="3429000" cy="1041480"/>
        </p:xfrm>
        <a:graphic>
          <a:graphicData uri="http://schemas.openxmlformats.org/drawingml/2006/table">
            <a:tbl>
              <a:tblPr/>
              <a:tblGrid>
                <a:gridCol w="1182600"/>
                <a:gridCol w="749160"/>
                <a:gridCol w="747720"/>
                <a:gridCol w="74952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Rectangle 23"/>
          <p:cNvSpPr/>
          <p:nvPr/>
        </p:nvSpPr>
        <p:spPr>
          <a:xfrm>
            <a:off x="7808760" y="31370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562720" y="5181480"/>
          <a:ext cx="3429000" cy="1041480"/>
        </p:xfrm>
        <a:graphic>
          <a:graphicData uri="http://schemas.openxmlformats.org/drawingml/2006/table">
            <a:tbl>
              <a:tblPr/>
              <a:tblGrid>
                <a:gridCol w="1182600"/>
                <a:gridCol w="749160"/>
                <a:gridCol w="747720"/>
                <a:gridCol w="74952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46" name="Group 57"/>
          <p:cNvGrpSpPr/>
          <p:nvPr/>
        </p:nvGrpSpPr>
        <p:grpSpPr>
          <a:xfrm>
            <a:off x="6934320" y="3137040"/>
            <a:ext cx="1371600" cy="1739880"/>
            <a:chOff x="6934320" y="3137040"/>
            <a:chExt cx="1371600" cy="1739880"/>
          </a:xfrm>
        </p:grpSpPr>
        <p:sp>
          <p:nvSpPr>
            <p:cNvPr id="147" name="Rectangle 22"/>
            <p:cNvSpPr/>
            <p:nvPr/>
          </p:nvSpPr>
          <p:spPr>
            <a:xfrm>
              <a:off x="6934320" y="3137040"/>
              <a:ext cx="9144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iq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47"/>
            <p:cNvSpPr/>
            <p:nvPr/>
          </p:nvSpPr>
          <p:spPr>
            <a:xfrm flipH="1">
              <a:off x="7924680" y="3389400"/>
              <a:ext cx="1936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Oval 54"/>
            <p:cNvSpPr/>
            <p:nvPr/>
          </p:nvSpPr>
          <p:spPr>
            <a:xfrm>
              <a:off x="7924680" y="320040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0" name="Group 56"/>
          <p:cNvGrpSpPr/>
          <p:nvPr/>
        </p:nvGrpSpPr>
        <p:grpSpPr>
          <a:xfrm>
            <a:off x="3352680" y="5715000"/>
            <a:ext cx="1981440" cy="444600"/>
            <a:chOff x="3352680" y="5715000"/>
            <a:chExt cx="1981440" cy="444600"/>
          </a:xfrm>
        </p:grpSpPr>
        <p:sp>
          <p:nvSpPr>
            <p:cNvPr id="151" name="Rectangle 30"/>
            <p:cNvSpPr/>
            <p:nvPr/>
          </p:nvSpPr>
          <p:spPr>
            <a:xfrm>
              <a:off x="3352680" y="5715000"/>
              <a:ext cx="1027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48"/>
            <p:cNvSpPr/>
            <p:nvPr/>
          </p:nvSpPr>
          <p:spPr>
            <a:xfrm>
              <a:off x="4648320" y="5931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Oval 55"/>
            <p:cNvSpPr/>
            <p:nvPr/>
          </p:nvSpPr>
          <p:spPr>
            <a:xfrm>
              <a:off x="4362480" y="574992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as return (declaring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ountDigits(int n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git = n % 1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un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as return (calling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tally = countDigits(229231007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rrays.toString(tally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2, 1, 3, 1, 0, 0, 0, 1, 0, 1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09-02-23T23:36:54Z</dcterms:modified>
  <cp:revision>1376</cp:revision>
  <dc:subject/>
  <dc:title>Building Java Programs</dc:title>
</cp:coreProperties>
</file>