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211C-453C-439E-AA7D-2F3CA74A9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5BA4-D1F9-475C-B098-176706703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is is also the reason that it works when you pass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s a parameter to a method, because it is drawing with the same pen object onto the same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1F64-866D-4C7C-8372-DB5CFC725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54E70-6ADA-41D1-8648-89F4054096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AD99-9608-4000-B52E-085F0C2FA8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2DB9B-6786-43C5-BF9E-82E03DCAED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6DA46-BCAC-4AA3-9DE1-268D55CD84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3EC17-B08D-4C81-848D-D2C487756E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89C1-2CCC-4E97-804A-39AB7CAE53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C8E1-94DD-4E6E-ADFC-28DEE415D9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A6375-7864-4B71-A362-9036CBEDC0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8CA42-40BF-400A-9919-5EDDE83A63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9254-1A61-4014-887F-8B71A0955D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1BF35-7668-4220-96FE-9B2AA714F2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F1D8B-E5B1-431B-9220-8604C3F81D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5F24-D2C7-49BF-8BE3-1141E07EFBE8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C9D1-BD3D-46AD-AD6C-03663BF0CF49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Array traversals,</a:t>
            </a:r>
            <a:br>
              <a:rPr sz="4800"/>
            </a:b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text processing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7.1, 4.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Ch. 7 #8, Ch. 4 #19-2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ext processing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int[] tallyVotes(String vote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tallies = new int[3]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// M -&gt; 0, O -&gt; 1, I -&gt;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nt i = 0; i &lt; votes.length()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otes.charAt(i) == 'M'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allies[0]++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if(votes.charAt(i) == 'O'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allies[1]++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// votes.charAt(i) == 'I'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allies[2]++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Votes: " + Arrays.toString(tally));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Arrays as parameters and returns;</a:t>
            </a:r>
            <a:br>
              <a:rPr sz="4800"/>
            </a:b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values vs. reference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eading: 7.1, 3.3, 4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elf-checks: Ch. 7 #5, 8, 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ercises: Ch. 7 #1-1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16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C302-329F-4793-BCB6-9D78448D2E25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wapping valu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 a with b (incorrectl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a = 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b = 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wrong with this code?  What is its outpu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red code should be replaced with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temp = 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 = 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b = tem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wap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es the follow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 work?  Why or why not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 a with 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swap(a, b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swap(int a, int b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temp = 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Value semantics (primitives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alue semant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Behavior where values are copied when assigned to each other or passed as parame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ne primitive variable is assigned to another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s value is copi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ifying the value of one variable does not affect oth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572160" y="411480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572160" y="487692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Verdana"/>
              </a:rPr>
              <a:t>Reference semantics (objects)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ference semant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Behavior where variables actually store the address of an object in memor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ne reference variable is assigned to another, the object 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pied; both variables refer to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ame obje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ifying the value of one variabl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wi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ffect oth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1 = {4, 5, 2, 12, 14, 14, 9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a2 = a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fer to same array as 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[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429000" y="52070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429000" y="52070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4" name="Group 130"/>
          <p:cNvGrpSpPr/>
          <p:nvPr/>
        </p:nvGrpSpPr>
        <p:grpSpPr>
          <a:xfrm>
            <a:off x="685800" y="5181480"/>
            <a:ext cx="2438280" cy="444240"/>
            <a:chOff x="685800" y="5181480"/>
            <a:chExt cx="2438280" cy="444240"/>
          </a:xfrm>
        </p:grpSpPr>
        <p:sp>
          <p:nvSpPr>
            <p:cNvPr id="155" name="Rectangle 127"/>
            <p:cNvSpPr/>
            <p:nvPr/>
          </p:nvSpPr>
          <p:spPr>
            <a:xfrm>
              <a:off x="685800" y="51814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128"/>
            <p:cNvSpPr/>
            <p:nvPr/>
          </p:nvSpPr>
          <p:spPr>
            <a:xfrm>
              <a:off x="2209680" y="5397120"/>
              <a:ext cx="914400" cy="16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Oval 129"/>
            <p:cNvSpPr/>
            <p:nvPr/>
          </p:nvSpPr>
          <p:spPr>
            <a:xfrm>
              <a:off x="1854000" y="520524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8" name="Group 135"/>
          <p:cNvGrpSpPr/>
          <p:nvPr/>
        </p:nvGrpSpPr>
        <p:grpSpPr>
          <a:xfrm>
            <a:off x="685800" y="5943240"/>
            <a:ext cx="2438280" cy="457560"/>
            <a:chOff x="685800" y="5943240"/>
            <a:chExt cx="2438280" cy="457560"/>
          </a:xfrm>
        </p:grpSpPr>
        <p:sp>
          <p:nvSpPr>
            <p:cNvPr id="159" name="Rectangle 132"/>
            <p:cNvSpPr/>
            <p:nvPr/>
          </p:nvSpPr>
          <p:spPr>
            <a:xfrm>
              <a:off x="685800" y="595656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Line 133"/>
            <p:cNvSpPr/>
            <p:nvPr/>
          </p:nvSpPr>
          <p:spPr>
            <a:xfrm flipV="1">
              <a:off x="2209680" y="5943240"/>
              <a:ext cx="914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Oval 134"/>
            <p:cNvSpPr/>
            <p:nvPr/>
          </p:nvSpPr>
          <p:spPr>
            <a:xfrm>
              <a:off x="1854000" y="598032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ferences and objec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rays and objects use reference semantics.  Why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fficiency.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pying large objects slows down a progr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haring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t's useful to share an object's data among metho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1 = new DrawingPanel(80, 5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ingPanel panel2 = panel1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ame wind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2.setBackground(Color.CYA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4724280" y="4495680"/>
            <a:ext cx="19814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34"/>
          <p:cNvGrpSpPr/>
          <p:nvPr/>
        </p:nvGrpSpPr>
        <p:grpSpPr>
          <a:xfrm>
            <a:off x="1981080" y="4584600"/>
            <a:ext cx="2286000" cy="444600"/>
            <a:chOff x="1981080" y="4584600"/>
            <a:chExt cx="2286000" cy="444600"/>
          </a:xfrm>
        </p:grpSpPr>
        <p:sp>
          <p:nvSpPr>
            <p:cNvPr id="166" name="Rectangle 28"/>
            <p:cNvSpPr/>
            <p:nvPr/>
          </p:nvSpPr>
          <p:spPr>
            <a:xfrm>
              <a:off x="1981080" y="45846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panel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Line 29"/>
            <p:cNvSpPr/>
            <p:nvPr/>
          </p:nvSpPr>
          <p:spPr>
            <a:xfrm>
              <a:off x="3505320" y="48006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Oval 30"/>
            <p:cNvSpPr/>
            <p:nvPr/>
          </p:nvSpPr>
          <p:spPr>
            <a:xfrm>
              <a:off x="3149640" y="46083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9" name="Group 35"/>
          <p:cNvGrpSpPr/>
          <p:nvPr/>
        </p:nvGrpSpPr>
        <p:grpSpPr>
          <a:xfrm>
            <a:off x="1981080" y="5423040"/>
            <a:ext cx="2286000" cy="444240"/>
            <a:chOff x="1981080" y="5423040"/>
            <a:chExt cx="2286000" cy="444240"/>
          </a:xfrm>
        </p:grpSpPr>
        <p:sp>
          <p:nvSpPr>
            <p:cNvPr id="170" name="Rectangle 31"/>
            <p:cNvSpPr/>
            <p:nvPr/>
          </p:nvSpPr>
          <p:spPr>
            <a:xfrm>
              <a:off x="1981080" y="54230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panel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Line 32"/>
            <p:cNvSpPr/>
            <p:nvPr/>
          </p:nvSpPr>
          <p:spPr>
            <a:xfrm flipV="1">
              <a:off x="3505320" y="5486040"/>
              <a:ext cx="761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Oval 33"/>
            <p:cNvSpPr/>
            <p:nvPr/>
          </p:nvSpPr>
          <p:spPr>
            <a:xfrm>
              <a:off x="3149640" y="54468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0" descr=""/>
          <p:cNvPicPr/>
          <p:nvPr/>
        </p:nvPicPr>
        <p:blipFill>
          <a:blip r:embed="rId1"/>
          <a:stretch/>
        </p:blipFill>
        <p:spPr>
          <a:xfrm>
            <a:off x="7289640" y="5056200"/>
            <a:ext cx="1676520" cy="11905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bjects as parame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an object is passed as a parameter, the object i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opied.  The parameter refers to the same objec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e parameter is modified, it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wi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ffect the original obje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window = new DrawingPanel(80, 5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ndow.setBackground(Color.YELLOW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(window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example(DrawingPanel panel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etBackground(Color.CYA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7283520" y="5045040"/>
            <a:ext cx="1695240" cy="1203480"/>
          </a:xfrm>
          <a:prstGeom prst="rect">
            <a:avLst/>
          </a:prstGeom>
          <a:ln w="0">
            <a:noFill/>
          </a:ln>
        </p:spPr>
      </p:pic>
      <p:sp>
        <p:nvSpPr>
          <p:cNvPr id="177" name="Line 10"/>
          <p:cNvSpPr/>
          <p:nvPr/>
        </p:nvSpPr>
        <p:spPr>
          <a:xfrm>
            <a:off x="7029360" y="358128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7029360" y="35812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7029360" y="410220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Line 21"/>
          <p:cNvSpPr/>
          <p:nvPr/>
        </p:nvSpPr>
        <p:spPr>
          <a:xfrm>
            <a:off x="4648320" y="526716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25"/>
          <p:cNvSpPr/>
          <p:nvPr/>
        </p:nvSpPr>
        <p:spPr>
          <a:xfrm>
            <a:off x="4648320" y="526716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26"/>
          <p:cNvSpPr/>
          <p:nvPr/>
        </p:nvSpPr>
        <p:spPr>
          <a:xfrm>
            <a:off x="4648320" y="57880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5791320" y="5267160"/>
            <a:ext cx="590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4" name="Group 39"/>
          <p:cNvGrpSpPr/>
          <p:nvPr/>
        </p:nvGrpSpPr>
        <p:grpSpPr>
          <a:xfrm>
            <a:off x="4419720" y="5356080"/>
            <a:ext cx="2514600" cy="444240"/>
            <a:chOff x="4419720" y="5356080"/>
            <a:chExt cx="2514600" cy="444240"/>
          </a:xfrm>
        </p:grpSpPr>
        <p:sp>
          <p:nvSpPr>
            <p:cNvPr id="185" name="Rectangle 19"/>
            <p:cNvSpPr/>
            <p:nvPr/>
          </p:nvSpPr>
          <p:spPr>
            <a:xfrm>
              <a:off x="4419720" y="53560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panel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Line 27"/>
            <p:cNvSpPr/>
            <p:nvPr/>
          </p:nvSpPr>
          <p:spPr>
            <a:xfrm>
              <a:off x="5943600" y="557172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Oval 35"/>
            <p:cNvSpPr/>
            <p:nvPr/>
          </p:nvSpPr>
          <p:spPr>
            <a:xfrm>
              <a:off x="5587920" y="537984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8" name="Group 38"/>
          <p:cNvGrpSpPr/>
          <p:nvPr/>
        </p:nvGrpSpPr>
        <p:grpSpPr>
          <a:xfrm>
            <a:off x="7029360" y="3581280"/>
            <a:ext cx="1631880" cy="1143000"/>
            <a:chOff x="7029360" y="3581280"/>
            <a:chExt cx="1631880" cy="1143000"/>
          </a:xfrm>
        </p:grpSpPr>
        <p:sp>
          <p:nvSpPr>
            <p:cNvPr id="189" name="Rectangle 8"/>
            <p:cNvSpPr/>
            <p:nvPr/>
          </p:nvSpPr>
          <p:spPr>
            <a:xfrm>
              <a:off x="7029360" y="358128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 flipH="1">
              <a:off x="8457840" y="3886200"/>
              <a:ext cx="1908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Oval 37"/>
            <p:cNvSpPr/>
            <p:nvPr/>
          </p:nvSpPr>
          <p:spPr>
            <a:xfrm>
              <a:off x="8280360" y="36021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as parame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lara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double 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[] numb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array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scores = {13, 17, 12, 15, 11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avg = 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cor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traversal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ravers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examination of each element of an arra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ength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o something with 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i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ting the el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arching for a specific val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rranging the el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uting the sum, product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Quick array initializ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{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…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nt[] numbers = {12, 49, -2, 26, 5, 17, -6}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ful when you know what the array's elements will b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mpiler figures out the size by counting the val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209680" y="2971800"/>
          <a:ext cx="475452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Array mystery"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element values are stored in the following array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 = {1, 7, 5, 6, 4, 14, 11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 + 1] = a[i + 1] *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179800" y="444492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179800" y="444492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ext process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ext process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Examining, editing, formatting tex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ten involve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oops to examine each letter of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Courier New"/>
              </a:rPr>
              <a:t>Count the number of times the letter 's' occurs in a fi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Courier New"/>
              </a:rPr>
              <a:t>Find which letter is most common in a fi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Courier New"/>
              </a:rPr>
              <a:t>Count A, C, T and Gs 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Courier New"/>
              </a:rPr>
              <a:t>s representing DNA strand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are represented internally as arrays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"Ali G.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619280" y="5219640"/>
          <a:ext cx="5924520" cy="1028880"/>
        </p:xfrm>
        <a:graphic>
          <a:graphicData uri="http://schemas.openxmlformats.org/drawingml/2006/table">
            <a:tbl>
              <a:tblPr/>
              <a:tblGrid>
                <a:gridCol w="1233360"/>
                <a:gridCol w="781200"/>
                <a:gridCol w="780840"/>
                <a:gridCol w="782640"/>
                <a:gridCol w="781200"/>
                <a:gridCol w="782640"/>
                <a:gridCol w="78264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l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i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 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G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.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call: typ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ha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primitive type representing a single charac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lues are surrounded with apostrophe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4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n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ss a string's characters with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firstLetter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.charAt(0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firstLetter == 'c'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at's good enough for me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 to examine each charac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coolMajor = "CSE"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coolMajor.length()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olMajor.charAt(i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ext processing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allyVot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accept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arameter and prints the number of McCain, Obama and independent vo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(M)cCain, (O)bama, (I)ndepend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voteText = "MOOOOOOMMMMMOOOOOOMOMMIMOMMIMOMMIO"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llyVotes(voteTex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tes: [16, 14, 3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5396040" y="3141720"/>
            <a:ext cx="27828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Arrays.toStr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s.to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ccepts an array as a parameter and return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epresentation of its elem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e = {0, 2, 4, 6, 8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[1] = e[3] + e[4]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 is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s.toString(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 is [0, 14, 4, 6, 8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Arrays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packag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has useful static methods for manipulating array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6320" y="2266920"/>
          <a:ext cx="8991360" cy="4206960"/>
        </p:xfrm>
        <a:graphic>
          <a:graphicData uri="http://schemas.openxmlformats.org/drawingml/2006/table">
            <a:tbl>
              <a:tblPr/>
              <a:tblGrid>
                <a:gridCol w="419076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inarySearch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ra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the index of the given value in a sorted array (&lt; 0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qual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ray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ray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 two arrays contain the same elements in the same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ra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ts every element in the array to have the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or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ra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ranges the elements in the array into ascending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ra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a string representing the array, 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10, 30, 17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09-02-23T23:36:50Z</dcterms:modified>
  <cp:revision>1371</cp:revision>
  <dc:subject/>
  <dc:title>Building Java Programs</dc:title>
</cp:coreProperties>
</file>