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B81DB-1462-4DF6-BB1C-026674AC4E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7C3AA-B44D-45A9-8C83-C2B0FEBB5B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2C1D-076E-4166-8233-53A06AFD9F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E70D-43CC-4561-947C-45D30FA91F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BBFA4-B9B9-40EB-B994-6E48231475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40863-5EFA-4F73-8D3A-4458C001BD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7444B-16DA-4592-B5E8-D08E411331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E500D-2766-4448-8C33-4E7E143824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0754-0F9D-4665-98A9-4A693E3117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4098D-215E-4106-9285-7DB3442D7D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0DAC0-810C-4E02-AFF9-0DF1BC8E5C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7DF8-28DA-4FFD-B209-255DDBF96D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EF7D-D3FF-4BF7-8F89-34C0959225EB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539D-99A1-4110-9824-1A2FE03B850B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60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3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4" name="Freeform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67" name="Freeform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8160" algn="ctr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77760" algn="ctr">
              <a:spcBef>
                <a:spcPts val="425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1252440" algn="ctr">
              <a:spcBef>
                <a:spcPts val="425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5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6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7-1: Array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7.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s: #1-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s: Ch. 7 #1-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ccessing array elemen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bers = new int[8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1]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4] = 99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6] =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numbers[1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x] = 4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[6]] = 11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se numbers[6] as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52280" y="5410080"/>
          <a:ext cx="1447920" cy="5205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752480" y="4876920"/>
          <a:ext cx="641664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752480" y="4876920"/>
          <a:ext cx="641664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an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common 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 to access array elem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numbers[i] + "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output: 0 4 11 0 44 0 0 2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times we assign each element a value in a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2 * 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81080" y="5130720"/>
          <a:ext cx="5308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3986280" y="2538360"/>
            <a:ext cx="21636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length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fiel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array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ield stores its number of elem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umbers.lengt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numbers[i] + "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utput: 0 2 4 6 8 10 12 1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does not use parentheses like a String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ength(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expressions refer to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element of any array?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iddle eleme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eather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an array to solve the weather problem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eather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37160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Weather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How many days' temperatures?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days = console.nextIn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[] temperatures = new int[days];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days; i++) {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/store each day's temperat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Day " + (i + 1) + "'s high temp: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eratures[i] = console.nextIn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m += temperatures[i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average = (double) sum / day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count = 0;             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ee if each day is above aver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days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eratures[i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&gt; average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Arrays for </a:t>
            </a:r>
            <a:br>
              <a:rPr sz="4800"/>
            </a:b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ounting and tallying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7.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s: #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multi-counter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blem: Examine a large integer and count the numb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 occurrences of every digit from 0 through 9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3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3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The number 229231007 contain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0s, one 1, three 2s, one 7, and one 9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could declare 10 counter variables for this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er0, counter1, counter2, counter3, counter4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er5, counter6, counter7, counter8, counter9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uck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multi-counter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better solution is to use an array of size 10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lement at index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store the counter for digit valu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integer value 229231007, our array should sto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index at which a value is stored has mean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times it doesn't mat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bout the weather c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371600" y="274320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reating an array of talli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 = 229231007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 &g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luck off a digit and add to proper coun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git = num % 1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 = num / 1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90720" y="449568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histogram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iven a file of integer exam scores, such a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 a program that will print a histogram of stars indicating the number of students who earned each unique exam sco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5: 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6: **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7: 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8: 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1: 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problem we can't solv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der the following program (input underlined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CLOUDS&amp;RAIN"/>
          <p:cNvPicPr/>
          <p:nvPr/>
        </p:nvPicPr>
        <p:blipFill>
          <a:blip r:embed="rId2"/>
          <a:stretch/>
        </p:blipFill>
        <p:spPr>
          <a:xfrm>
            <a:off x="6629400" y="2057400"/>
            <a:ext cx="20397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istogram varia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urve the scores; add a fixed number to each scor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But don't allow a curved score to exceed the max of 101.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t the data with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ndow is 100px t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px between each b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px tall bar for each student who earned that sc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4724280" y="4165560"/>
            <a:ext cx="41148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histogram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s an input file of test scores (integers) and displays 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graphical histogram of the score distribu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Histogram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static final int CURVE = 5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adjustment to each exam sco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input = new Scanner(new File("midterm.txt"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[] counts = new int[101]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ounters of test scores 0 - 1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input.hasNextInt()) {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 file into counts arr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score = input.nextIn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ore = Math.min(score +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V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 100);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urve the exam sco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unts[score]++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if score is 87, then counts[87]+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counts.length; i++) {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int star histogra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&gt; 0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i + ":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j = 0; j &lt;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histogram solution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use a DrawingPanel to draw the histogra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rawingPanel p = new DrawingPanel(counts.length * 3 + 6, 200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aphics g = p.getGraphics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counts.length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drawLine(i * 3 + 3, 175, i * 3 + 3, 175 - 5 * counts[i]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hy the problem is tough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each input value twic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compute the average (a cumulative su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count how many were above aver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could read each value into a variable... but w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't know how many days are needed until the program ru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't know how many variables to decl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76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a way to declare many variables in one ste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object that stores many values of the same ty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One value in an arr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0-based integer to access an element from an arr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50840" y="32511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6" name="Group 55"/>
          <p:cNvGrpSpPr/>
          <p:nvPr/>
        </p:nvGrpSpPr>
        <p:grpSpPr>
          <a:xfrm>
            <a:off x="1553760" y="4394160"/>
            <a:ext cx="6341400" cy="856080"/>
            <a:chOff x="1553760" y="4394160"/>
            <a:chExt cx="6341400" cy="856080"/>
          </a:xfrm>
        </p:grpSpPr>
        <p:grpSp>
          <p:nvGrpSpPr>
            <p:cNvPr id="117" name="Group 56"/>
            <p:cNvGrpSpPr/>
            <p:nvPr/>
          </p:nvGrpSpPr>
          <p:grpSpPr>
            <a:xfrm>
              <a:off x="1553760" y="4394160"/>
              <a:ext cx="1374120" cy="856080"/>
              <a:chOff x="1553760" y="4394160"/>
              <a:chExt cx="1374120" cy="856080"/>
            </a:xfrm>
          </p:grpSpPr>
          <p:sp>
            <p:nvSpPr>
              <p:cNvPr id="118" name="Line 57"/>
              <p:cNvSpPr/>
              <p:nvPr/>
            </p:nvSpPr>
            <p:spPr>
              <a:xfrm flipV="1">
                <a:off x="220968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Text Box 58"/>
              <p:cNvSpPr/>
              <p:nvPr/>
            </p:nvSpPr>
            <p:spPr>
              <a:xfrm>
                <a:off x="155376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lement 0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20" name="Group 59"/>
            <p:cNvGrpSpPr/>
            <p:nvPr/>
          </p:nvGrpSpPr>
          <p:grpSpPr>
            <a:xfrm>
              <a:off x="3763800" y="4394160"/>
              <a:ext cx="1374120" cy="856080"/>
              <a:chOff x="3763800" y="4394160"/>
              <a:chExt cx="1374120" cy="856080"/>
            </a:xfrm>
          </p:grpSpPr>
          <p:sp>
            <p:nvSpPr>
              <p:cNvPr id="121" name="Line 60"/>
              <p:cNvSpPr/>
              <p:nvPr/>
            </p:nvSpPr>
            <p:spPr>
              <a:xfrm flipV="1">
                <a:off x="441972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Text Box 61"/>
              <p:cNvSpPr/>
              <p:nvPr/>
            </p:nvSpPr>
            <p:spPr>
              <a:xfrm>
                <a:off x="376380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lement 4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23" name="Group 62"/>
            <p:cNvGrpSpPr/>
            <p:nvPr/>
          </p:nvGrpSpPr>
          <p:grpSpPr>
            <a:xfrm>
              <a:off x="6521040" y="4394160"/>
              <a:ext cx="1374120" cy="856080"/>
              <a:chOff x="6521040" y="4394160"/>
              <a:chExt cx="1374120" cy="856080"/>
            </a:xfrm>
          </p:grpSpPr>
          <p:sp>
            <p:nvSpPr>
              <p:cNvPr id="124" name="Line 63"/>
              <p:cNvSpPr/>
              <p:nvPr/>
            </p:nvSpPr>
            <p:spPr>
              <a:xfrm flipV="1">
                <a:off x="717696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Text Box 64"/>
              <p:cNvSpPr/>
              <p:nvPr/>
            </p:nvSpPr>
            <p:spPr>
              <a:xfrm>
                <a:off x="652104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lement 9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declar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spcBef>
                <a:spcPts val="55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ng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bers = new int[1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>
              <a:spcBef>
                <a:spcPts val="55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62120" y="42163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declaration, cont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length can be any integer express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2 * 3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data = new int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% 5 +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element initially gets a "zero-equivalent" val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073240" y="3846600"/>
          <a:ext cx="4937040" cy="2325600"/>
        </p:xfrm>
        <a:graphic>
          <a:graphicData uri="http://schemas.openxmlformats.org/drawingml/2006/table">
            <a:tbl>
              <a:tblPr/>
              <a:tblGrid>
                <a:gridCol w="2079360"/>
                <a:gridCol w="28576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ault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 other 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eans, "no object"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ccessing elemen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d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d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 = 2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 = -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ement 3 is negative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355760" y="50385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355760" y="502920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of other ty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[] results = new double[5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s[2] = 3.4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s[4] = -0.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[] tests = new boolean[6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s[3] = tru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28800" y="2514600"/>
          <a:ext cx="4073400" cy="812520"/>
        </p:xfrm>
        <a:graphic>
          <a:graphicData uri="http://schemas.openxmlformats.org/drawingml/2006/table">
            <a:tbl>
              <a:tblPr/>
              <a:tblGrid>
                <a:gridCol w="874800"/>
                <a:gridCol w="600120"/>
                <a:gridCol w="600120"/>
                <a:gridCol w="637920"/>
                <a:gridCol w="600120"/>
                <a:gridCol w="76032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828800" y="4878360"/>
          <a:ext cx="5540400" cy="792000"/>
        </p:xfrm>
        <a:graphic>
          <a:graphicData uri="http://schemas.openxmlformats.org/drawingml/2006/table">
            <a:tbl>
              <a:tblPr/>
              <a:tblGrid>
                <a:gridCol w="874800"/>
                <a:gridCol w="777960"/>
                <a:gridCol w="777600"/>
                <a:gridCol w="777960"/>
                <a:gridCol w="776160"/>
                <a:gridCol w="777960"/>
                <a:gridCol w="77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-of-boun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gal indexes: betwee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ray's length - 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or writing any index outside this range will throw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data = new int[1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data[0]);       // ok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data[9]);       // ok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data[-1]);      // 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data[10]);      // 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27160" y="4876920"/>
          <a:ext cx="641664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8-11-07T07:31:30Z</dcterms:modified>
  <cp:revision>1360</cp:revision>
  <dc:subject/>
  <dc:title>Building Java Programs</dc:title>
</cp:coreProperties>
</file>