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22A3-07D5-446B-ACDD-9F092E129A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A5BC-3814-4EE5-9CD9-891B11C7B4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3A9A-2F71-4B49-AD2B-583D00B8E5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B614-93AB-496E-9A4A-FB5BCFF60D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8BC2-0346-4907-BB34-580E8940CA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FEBA-7160-4249-820D-F1B4C676CD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A820-5E13-4E66-8843-356F99E6D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B530-2EE3-4310-BCAC-DA3D97167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BAEF-0746-4ACC-BDB8-DF065D1D41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64B8-DF63-4A61-8D97-7A31C02FE4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75A4-B98D-4F2A-BF8C-E0147AA7A4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2957-F662-494B-A9BA-EC1A3738C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A7C5-BB3C-498A-9067-74072DAEBAE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8E3D-D6E3-4ABE-AD8B-487ACBA05835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Line-based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file process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7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1-4, 8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answer, correct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cesses an employee input file and outputs each employee's hou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rows FileNotFoundExcep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lineScan.next();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sum + lineScan.nextDoubl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average = sum / coun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(ID#" + id + ") worked " 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 " hours (" + average + " hours/day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search for a person by I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, so return an empty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6-3: Searching Fi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3, 6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Line-based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es from the input cursor to the nex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is 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9240" y="161460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Tokenizing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String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can tokenize each line of a fi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e contents of this line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search for a person by I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, so return an empty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th the following conten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3 Kim 12.5 8.1 7.6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6 Brad 4.0 11.6 6.5 2.7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89 Stef 8.0 8.0 8.0 8.0 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task of computing hours worked by each per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m (ID#123) worked 31.4 hours (7.85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(ID#456)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f (ID#789) worked 39.5 hours (7.9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try to solve this problem token-by-token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Db movies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Internet Movie Database (IMDb) dat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9.1 196376 The Shawshank Redemption (199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9.0 139085 The Godfather: Part II (197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8.8 81507 Casablanca (194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program that displays any movies containing a phra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arch wor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k    Votes   Rating  Tit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   139085  9.0     The Godfather: Part II (197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      129172  8.5     The Departed (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5      20401   8.2     The Apartment (196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     30587   8.0     Spartacus (196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matc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this a token or line-based proble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Chaining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hould be a concise summary of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bad if each method calls the next without ever returning (we call th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tructure h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ke most of the ca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must return valu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passed on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Group 50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152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Text Box 7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21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157" name="Line 22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23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9" name="Group 24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160" name="Line 25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2" name="Group 27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163" name="Line 28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29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65" name="Group 53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166" name="Text Box 33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7" name="Group 52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168" name="Line 35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Text Box 36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Group 51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171" name="Line 38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Text Box 39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Group 40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174" name="Line 41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Text Box 42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1085760" y="5062680"/>
              <a:ext cx="1925280" cy="1231920"/>
              <a:chOff x="1085760" y="5062680"/>
              <a:chExt cx="1925280" cy="1231920"/>
            </a:xfrm>
          </p:grpSpPr>
          <p:sp>
            <p:nvSpPr>
              <p:cNvPr id="177" name="Line 44"/>
              <p:cNvSpPr/>
              <p:nvPr/>
            </p:nvSpPr>
            <p:spPr>
              <a:xfrm>
                <a:off x="1085760" y="5062680"/>
                <a:ext cx="666720" cy="10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Text Box 45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IMDb "chained" code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etWord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getWord(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IMDb "chained" code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LC = line.toLowerCase()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display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tter IMDb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display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line =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tter IMDb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LC = line.toLowerCase()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urn our IMDb code into a graphical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-left 0.0 tick mark at (0, 2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cks 10px tall, 50px ap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blue bar top/left corner at (0, 7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50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50px wide per rating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100px apart ver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562720" y="3262320"/>
            <a:ext cx="327636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graphics and tex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mixing text/graphics, solve the problem in pi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the text and file I/O fir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any welcome message and initial consol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he input file and print some file dat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Perhaps print every line, the first token of each line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 the input file for the proper line record(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tly, add the graphical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any fixed graphics that do not depend on the file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the graphics that do depend on the search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awt.*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Graph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Movies2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search(input, searchWor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raphics g = createWindow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(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, matche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 = search(input, searchWor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LC = line.toLowerCase()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display(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raphics g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, int matche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ank + "\t" + votes + "\t" + rating + "\t" + tit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rawBar(g, matches, title, rank, rating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answer (flawed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solution does not work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cess one pers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input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Hours = 0.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input.hasNextDoubl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totalHours +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input.nextDoubl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days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(ID#" + id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) worked " + totalHours + " hours (" 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otalHours / days) + " hours/day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reates a drawing panel and draws all fixed graph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Graphics createWindow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ingPanel panel = new DrawingPanel(600, 5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= 10; i++) {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 tick mar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x = i * 5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Line(x, 20, x, 3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String(i + ".0", x, 2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s one red bar representing a movie's votes and rank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drawBar(Graphics g, int matches, String title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rank, double rating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y = 70 + 100 * (matches - 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w = (int) (rating * 5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 = 5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UE)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 the blue bar for that mov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fillRect(0, y, w, h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String("#" + rank + ": " + title, 0, y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tokens and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conjunction with the token-based methods on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cause bad resul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'd think you could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n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e "Hello world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Int())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Double()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Line()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ll produces no output! 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lines and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n't read both tokens and lines from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Int()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^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input.nextLin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" (empty!)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23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Joe\t\"Hello world\"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3.14\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e\t"Hello world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ne-and-token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your ag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Now enter your nam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Lin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is " + age + " years old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 of execution (user input underlined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your ag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w enter your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ideshow Bo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 12 years o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inpu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()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Sideshow Bo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()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out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Susan (ID#123) worked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487.4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hours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7.48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hours/da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java.util.InputMismatch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4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46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Int(Scanner.java:20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HoursWorked.main(HoursBad.java: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 is grabbing the next person's 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ant to process the tokens, but we also care about the line breaks (they mark the end of a person's dat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olution is a hybrid approach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, break the overall input into l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break each line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ne-bas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es from the input cursor to the nex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is 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9240" y="161460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lines of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 John Smith   "Hello world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ads the lines as follow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2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 is consumed but not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s on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tokenize the contents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xt = "15  3.2 hello   9  27.5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sca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canner(tex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scan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um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um2 = scan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um2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scan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word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okenizing lines of a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unts the words on each line of a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inp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cess the contents of this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Scan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Line has " + count + " word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08120" y="1476360"/>
          <a:ext cx="7683480" cy="1066680"/>
        </p:xfrm>
        <a:graphic>
          <a:graphicData uri="http://schemas.openxmlformats.org/drawingml/2006/table">
            <a:tbl>
              <a:tblPr/>
              <a:tblGrid>
                <a:gridCol w="5060880"/>
                <a:gridCol w="26226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ut fil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put.tx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put to conso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quick brown fox jumps 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lazy do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6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3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x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read the input file properl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3 Kim 12.5 8.1 7.6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6 Brad 4.0 11.6 6.5 2.7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89 Stef 8.0 8.0 8.0 8.0 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all, it should produce the following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m (ID#123) worked 31.4 hours (7.85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(ID#456)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f (ID#789) worked 39.5 hours (7.9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0T01:06:28Z</dcterms:modified>
  <cp:revision>1357</cp:revision>
  <dc:subject/>
  <dc:title>Building Java Programs</dc:title>
</cp:coreProperties>
</file>