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AD61-C0DB-43A4-A43B-6A93201BB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13D1-2F9A-48C5-BBF0-735B9D1DF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5E09-F243-4A92-B7BF-F862F2E24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6E86-2CA5-41FE-BEC6-5B682785C9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F6EB-041F-459E-AD99-80FCB09CAC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20D1-54BE-4569-803F-69F76F6F45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BA59-90B4-4D39-9B4E-7892E87ACD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306C-C75D-425A-B7A9-5BAF469575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9214-116D-4C08-AC6B-E27517336F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B85B-8D1D-43F7-A7B9-E99F6C922D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04C1-19B8-46F8-983A-8361FDBB2F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F7D8-B699-4C15-BB27-A40C5E1246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0246-C52E-454F-BF4E-F0D8C408D1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9D91-FCCD-4A69-81AA-A6C4F3D079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7AF5-6B93-4ACD-93C7-E3D44B91A0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0970-B358-42E8-AFC9-629A6BBACFF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9862-A2A8-4C8A-861B-EEEDF6726E6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hapter 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5-3: Assertion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4 - 5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22-24, 26-2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ertion example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ssumes y &gt;= 0, and returns x^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257800" y="3124080"/>
          <a:ext cx="3352680" cy="30783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GB" sz="4800" spc="-1" strike="noStrike">
                <a:solidFill>
                  <a:srgbClr val="464646"/>
                </a:solidFill>
                <a:latin typeface="Verdana"/>
              </a:rPr>
              <a:t> loop variation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5.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f-checks: #22-2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ercises: #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/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cutes statements repeatedly while a condition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esting it at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each repet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 until the user gets the right pass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Password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/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flow char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 does this differ from the while loop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troll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always execute the first time, regardless of whether 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3" descr="do_while"/>
          <p:cNvPicPr/>
          <p:nvPr/>
        </p:nvPicPr>
        <p:blipFill>
          <a:blip r:embed="rId2"/>
          <a:stretch/>
        </p:blipFill>
        <p:spPr>
          <a:xfrm>
            <a:off x="3076560" y="2631960"/>
            <a:ext cx="286704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/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odify the previou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program to us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odify the previou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program to us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 good fit for solving this proble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/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reak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ment: Immediately exits a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used to write a loop whose test is in the midd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h loops are often 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forever" loop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their header's boolean test is often changed to a triv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bad style!  Do not use it on CSE 142 home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ntinel loop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reak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working sentinel loop solution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number == -1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on't add -1 to s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number != -1 h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total wa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asser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sser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statement that is either true or fal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was created in 199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ky is purp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3 is a prime numb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 is greater than 2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 divided by 2 equals 7.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depends on the value of 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ssertion might be false ("The sky is purple" above), but it is still an assertion because it is a true/false stat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soning about asser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se you have the following co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do you know ab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value at the three point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  Always?  Sometimes?  Nev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ertions in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make assertions about our code and ask whether they are true at various points in the co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alid answers are ALWAYS, NEVER, or SOMETIM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086600" y="2286000"/>
            <a:ext cx="2057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(SOMETIM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(ALWAY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(SOMETIM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(NEV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soning about asser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ight after a variable is initialized, its value is know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general you know nothing about parameters' valu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nsid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tc., you may know someth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ertions an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5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 the start of a loop's body, the loop's test must 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5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a loop, the loop's test must 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5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ide a loop's body, the loop's test may beco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Sometimes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ngs that cause a variable's value to be unknow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often leads to "sometimes" answers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from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a number from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arameter's initial value to a meth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you can reach a part of the program both with the answer being "yes" and the answer being "no", then the correct answer is "sometimes"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you're unsure, "Sometimes" is a good gue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around 1/2 of the correct answers are "sometimes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ertion example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ertion example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1960"/>
                <a:gridCol w="114156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14120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27T17:55:34Z</dcterms:modified>
  <cp:revision>1329</cp:revision>
  <dc:subject/>
  <dc:title>Building Java Programs</dc:title>
</cp:coreProperties>
</file>