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3E6F-EB35-4808-8F68-336D6734D9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9922-8B75-435C-A2F9-AC2AD257BE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2D12-E91F-4D1C-8FD8-CFB68DD6AB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35BE-E9DE-4061-98F1-88CFD24503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A213-9C74-4AB5-B5AB-117F61AE44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32F3-AD06-4B42-B14E-DA9BD187A5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636D-1FCB-4BFC-8D94-63B5089427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F479-688A-40F0-9738-686DCE6DB8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5F3D-ECA2-4585-959B-5B396FB00D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7889-0B53-4782-BEE4-352A59B585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2558B-96EE-4510-80CC-4B56355142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DDF3-EB6C-4C4C-8E31-923C3F9323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7FA5-B15F-4633-837A-8A90C2FA097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FE7F-B0CD-41C1-944A-9C5A5AF8430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5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5-2: Random Numb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5.1 - 5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#8 - 1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#3 - 6, 10, 1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5 #1-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Asks the user one multiplication problem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ing the answer if they get it right and 0 if not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askQuestion(Scanner console, Random rand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ick two random numbers between 1 and 20 inclusiv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num1 = rand.nextInt(20) + 1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num2 = rand.nextInt(20) + 1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num1 + " * " + num2 + " =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guess = console.nextInt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guess == num1 * num2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Correct!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num1 * num2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Incorrect; the correct answer was " +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num1 * num2)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generates pseudo-random* numb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found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ck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domNumber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Int(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-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280" y="2666880"/>
          <a:ext cx="8809200" cy="179244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integer in the range [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 other words, 0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 in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real number in the range [0.0, 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enerating random numb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on usage: to get a random number from 1 to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Int(20)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-20 inclus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get a number in arbitrary range [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] inclusiv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Int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ze of 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re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ze of ra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is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A random integer between 4 and 10 inclusi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Int(7) + 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iven the following declaration, how would you ge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andom number between 1 and 100 inclusiv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dom1 = rand.nextInt(100)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andom number between 50 and 100 inclusiv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dom2 = rand.nextInt(51) + 5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andom number between 4 and 17 inclusiv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dom3 = rand.nextInt(14) + 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d other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return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tween 0.0 - 1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Get a random GPA value between 1.5 and 4.0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andomGpa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Doubl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2.5 + 1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y set of possible values can be mapped to integ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de to randomly play Rock-Paper-Scisso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 = rand.nextInt(3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 ==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Rock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 == 1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aper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cissors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simulates rolling of two 6-sided dice until their combined result comes up as 7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 the program to play 3 dice games using a meth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sum != 7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oll the dice o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roll1 = rand.nextInt(6) + 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rite a multiplication tutor program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k user to solve problems with random numbers from 1-2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ogram stops after an incorrect answ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4 * 8 =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rec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 * 12 =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rec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 * 3 =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rec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 * 5 =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rec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 * 14 =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8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rec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9 * 14 =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correct; the answer was 26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ou solved 5 correct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st correct answer was 28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line should not appear if the user solves 0 correct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Asks the user to do multiplication problems and scores them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MultiplicationTutor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fencepost solution - pull first question outside of loo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correct =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last =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skQuestion(console, rand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lastCorrect =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loop until user gets one wro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last &gt; 0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astCorrect = las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rrect++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ast =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skQuestion(console, rand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You solved " + correct + " correctly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correct &gt; 0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Last correct answer was " + lastCorrect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0-22T07:54:16Z</dcterms:modified>
  <cp:revision>1326</cp:revision>
  <dc:subject/>
  <dc:title>Building Java Programs</dc:title>
</cp:coreProperties>
</file>